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74655-E97A-4700-8142-6A2C9BD23B1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4280" bIns="-90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A9876A-6C40-4391-BDBA-37D45987413B}" type="slidenum">
              <a:rPr b="0" lang="es-ES" sz="1400" spc="-1" strike="noStrike">
                <a:solidFill>
                  <a:srgbClr val="ffffff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0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3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79640"/>
                <a:tab algn="l" pos="2971800"/>
                <a:tab algn="l" pos="3962520"/>
                <a:tab algn="l" pos="4951440"/>
                <a:tab algn="l" pos="5943600"/>
                <a:tab algn="l" pos="6931080"/>
                <a:tab algn="l" pos="7923240"/>
                <a:tab algn="l" pos="8913960"/>
                <a:tab algn="l" pos="9902880"/>
                <a:tab algn="l" pos="10895040"/>
              </a:tabLst>
            </a:pPr>
            <a:fld id="{FDAF6334-C6A1-46B7-A047-6F79D2801BFB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4280" bIns="-90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76B1FD-6185-4DF3-830B-E1DD2C6158B2}" type="slidenum">
              <a:rPr b="0" lang="es-ES" sz="1400" spc="-1" strike="noStrike">
                <a:solidFill>
                  <a:srgbClr val="ffffff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0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7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79640"/>
                <a:tab algn="l" pos="2971800"/>
                <a:tab algn="l" pos="3962520"/>
                <a:tab algn="l" pos="4951440"/>
                <a:tab algn="l" pos="5943600"/>
                <a:tab algn="l" pos="6931080"/>
                <a:tab algn="l" pos="7923240"/>
                <a:tab algn="l" pos="8913960"/>
                <a:tab algn="l" pos="9902880"/>
                <a:tab algn="l" pos="10895040"/>
              </a:tabLst>
            </a:pPr>
            <a:fld id="{7D74B487-8CB4-4510-9E81-4B37CE34DBC3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4280" bIns="-90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04EB59-4FEA-4C86-8A2E-12AFADD36E5D}" type="slidenum">
              <a:rPr b="0" lang="es-ES" sz="1400" spc="-1" strike="noStrike">
                <a:solidFill>
                  <a:srgbClr val="ffffff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0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7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79640"/>
                <a:tab algn="l" pos="2971800"/>
                <a:tab algn="l" pos="3962520"/>
                <a:tab algn="l" pos="4951440"/>
                <a:tab algn="l" pos="5943600"/>
                <a:tab algn="l" pos="6931080"/>
                <a:tab algn="l" pos="7923240"/>
                <a:tab algn="l" pos="8913960"/>
                <a:tab algn="l" pos="9902880"/>
                <a:tab algn="l" pos="10895040"/>
              </a:tabLst>
            </a:pPr>
            <a:fld id="{CC822C27-52C3-4132-8483-85FEC8D2DDA0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4280" bIns="-90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3DC7F6-5D5E-467D-B1C1-2C6E6CBB7F65}" type="slidenum">
              <a:rPr b="0" lang="es-ES" sz="1400" spc="-1" strike="noStrike">
                <a:solidFill>
                  <a:srgbClr val="ffffff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0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3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79640"/>
                <a:tab algn="l" pos="2971800"/>
                <a:tab algn="l" pos="3962520"/>
                <a:tab algn="l" pos="4951440"/>
                <a:tab algn="l" pos="5943600"/>
                <a:tab algn="l" pos="6931080"/>
                <a:tab algn="l" pos="7923240"/>
                <a:tab algn="l" pos="8913960"/>
                <a:tab algn="l" pos="9902880"/>
                <a:tab algn="l" pos="10895040"/>
              </a:tabLst>
            </a:pPr>
            <a:fld id="{963A3FCF-AFD0-4AF1-8B06-93BBCDD38435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4280" bIns="-90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0393CD-34FD-47BC-A0BB-8C246FE5BDD4}" type="slidenum">
              <a:rPr b="0" lang="es-ES" sz="1400" spc="-1" strike="noStrike">
                <a:solidFill>
                  <a:srgbClr val="ffffff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0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4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79640"/>
                <a:tab algn="l" pos="2971800"/>
                <a:tab algn="l" pos="3962520"/>
                <a:tab algn="l" pos="4951440"/>
                <a:tab algn="l" pos="5943600"/>
                <a:tab algn="l" pos="6931080"/>
                <a:tab algn="l" pos="7923240"/>
                <a:tab algn="l" pos="8913960"/>
                <a:tab algn="l" pos="9902880"/>
                <a:tab algn="l" pos="10895040"/>
              </a:tabLst>
            </a:pPr>
            <a:fld id="{13C22DA9-6E97-4EBA-9B7B-79DEE3F7700F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4280" bIns="-90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7635B9-AD4F-4177-91F8-42C1B81822EE}" type="slidenum">
              <a:rPr b="0" lang="es-ES" sz="1400" spc="-1" strike="noStrike">
                <a:solidFill>
                  <a:srgbClr val="ffffff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0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4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79640"/>
                <a:tab algn="l" pos="2971800"/>
                <a:tab algn="l" pos="3962520"/>
                <a:tab algn="l" pos="4951440"/>
                <a:tab algn="l" pos="5943600"/>
                <a:tab algn="l" pos="6931080"/>
                <a:tab algn="l" pos="7923240"/>
                <a:tab algn="l" pos="8913960"/>
                <a:tab algn="l" pos="9902880"/>
                <a:tab algn="l" pos="10895040"/>
              </a:tabLst>
            </a:pPr>
            <a:fld id="{D1825FD7-C428-4024-9239-138450C49073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4280" bIns="-90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767EF7-ABEC-446F-9953-8B88C7ACAD1D}" type="slidenum">
              <a:rPr b="0" lang="es-ES" sz="1400" spc="-1" strike="noStrike">
                <a:solidFill>
                  <a:srgbClr val="ffffff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0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5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79640"/>
                <a:tab algn="l" pos="2971800"/>
                <a:tab algn="l" pos="3962520"/>
                <a:tab algn="l" pos="4951440"/>
                <a:tab algn="l" pos="5943600"/>
                <a:tab algn="l" pos="6931080"/>
                <a:tab algn="l" pos="7923240"/>
                <a:tab algn="l" pos="8913960"/>
                <a:tab algn="l" pos="9902880"/>
                <a:tab algn="l" pos="10895040"/>
              </a:tabLst>
            </a:pPr>
            <a:fld id="{A4DAE146-90AE-4C3C-9F4F-3B28AABAC960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4280" bIns="-90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A75DED-88EC-42E5-84DC-E194C6EF7333}" type="slidenum">
              <a:rPr b="0" lang="es-ES" sz="1400" spc="-1" strike="noStrike">
                <a:solidFill>
                  <a:srgbClr val="ffffff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0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5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79640"/>
                <a:tab algn="l" pos="2971800"/>
                <a:tab algn="l" pos="3962520"/>
                <a:tab algn="l" pos="4951440"/>
                <a:tab algn="l" pos="5943600"/>
                <a:tab algn="l" pos="6931080"/>
                <a:tab algn="l" pos="7923240"/>
                <a:tab algn="l" pos="8913960"/>
                <a:tab algn="l" pos="9902880"/>
                <a:tab algn="l" pos="10895040"/>
              </a:tabLst>
            </a:pPr>
            <a:fld id="{CB20EA6B-B9D7-4D18-AE07-B2A3BBA1A0DC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4280" bIns="-90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113F4B-C540-42A5-AE4D-AA5B4F152F40}" type="slidenum">
              <a:rPr b="0" lang="es-ES" sz="1400" spc="-1" strike="noStrike">
                <a:solidFill>
                  <a:srgbClr val="ffffff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0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5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79640"/>
                <a:tab algn="l" pos="2971800"/>
                <a:tab algn="l" pos="3962520"/>
                <a:tab algn="l" pos="4951440"/>
                <a:tab algn="l" pos="5943600"/>
                <a:tab algn="l" pos="6931080"/>
                <a:tab algn="l" pos="7923240"/>
                <a:tab algn="l" pos="8913960"/>
                <a:tab algn="l" pos="9902880"/>
                <a:tab algn="l" pos="10895040"/>
              </a:tabLst>
            </a:pPr>
            <a:fld id="{192114B7-7D70-47AC-8602-61F8D9F39508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4280" bIns="-90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030696-DF81-49B9-B39D-3235FDD95E04}" type="slidenum">
              <a:rPr b="0" lang="es-ES" sz="1400" spc="-1" strike="noStrike">
                <a:solidFill>
                  <a:srgbClr val="ffffff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0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6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79640"/>
                <a:tab algn="l" pos="2971800"/>
                <a:tab algn="l" pos="3962520"/>
                <a:tab algn="l" pos="4951440"/>
                <a:tab algn="l" pos="5943600"/>
                <a:tab algn="l" pos="6931080"/>
                <a:tab algn="l" pos="7923240"/>
                <a:tab algn="l" pos="8913960"/>
                <a:tab algn="l" pos="9902880"/>
                <a:tab algn="l" pos="10895040"/>
              </a:tabLst>
            </a:pPr>
            <a:fld id="{4632972D-0E33-4918-A883-DDEBBABEC7EE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4280" bIns="-90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472210-2FE6-449E-A72D-EA53BD06B5E8}" type="slidenum">
              <a:rPr b="0" lang="es-ES" sz="1400" spc="-1" strike="noStrike">
                <a:solidFill>
                  <a:srgbClr val="ffffff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0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6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79640"/>
                <a:tab algn="l" pos="2971800"/>
                <a:tab algn="l" pos="3962520"/>
                <a:tab algn="l" pos="4951440"/>
                <a:tab algn="l" pos="5943600"/>
                <a:tab algn="l" pos="6931080"/>
                <a:tab algn="l" pos="7923240"/>
                <a:tab algn="l" pos="8913960"/>
                <a:tab algn="l" pos="9902880"/>
                <a:tab algn="l" pos="10895040"/>
              </a:tabLst>
            </a:pPr>
            <a:fld id="{D4A13B5A-8D25-4BAB-9DAF-187E78E33672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346640" y="6583320"/>
            <a:ext cx="4797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Tema 2. Analizamos las palabras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6524640"/>
            <a:ext cx="9144000" cy="33192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a1af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6640" y="6583320"/>
            <a:ext cx="4797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Tema 2. Analizamos las palabras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1628640"/>
            <a:ext cx="83152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6699"/>
                </a:solidFill>
                <a:latin typeface="Arial"/>
                <a:ea typeface="MS Gothic"/>
              </a:rPr>
              <a:t>Comunicación y lenguaje II: Tipos de palabras: variables e invariab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1773360"/>
            <a:ext cx="771516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7640"/>
                <a:tab algn="l" pos="2462040"/>
                <a:tab algn="l" pos="3376440"/>
                <a:tab algn="l" pos="4290840"/>
                <a:tab algn="l" pos="5205240"/>
                <a:tab algn="l" pos="6119640"/>
                <a:tab algn="l" pos="7034040"/>
                <a:tab algn="l" pos="7948440"/>
                <a:tab algn="l" pos="8862840"/>
                <a:tab algn="l" pos="9777240"/>
                <a:tab algn="l" pos="1069164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) Conjunción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ementos que enlazan or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7640"/>
                <a:tab algn="l" pos="2462040"/>
                <a:tab algn="l" pos="3376440"/>
                <a:tab algn="l" pos="4290840"/>
                <a:tab algn="l" pos="5205240"/>
                <a:tab algn="l" pos="6119640"/>
                <a:tab algn="l" pos="7034040"/>
                <a:tab algn="l" pos="7948440"/>
                <a:tab algn="l" pos="8862840"/>
                <a:tab algn="l" pos="9777240"/>
                <a:tab algn="l" pos="1069164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7640"/>
                <a:tab algn="l" pos="2462040"/>
                <a:tab algn="l" pos="3376440"/>
                <a:tab algn="l" pos="4290840"/>
                <a:tab algn="l" pos="5205240"/>
                <a:tab algn="l" pos="6119640"/>
                <a:tab algn="l" pos="7034040"/>
                <a:tab algn="l" pos="7948440"/>
                <a:tab algn="l" pos="8862840"/>
                <a:tab algn="l" pos="9777240"/>
                <a:tab algn="l" pos="1069164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tituyen un número limitado en cada len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7640"/>
                <a:tab algn="l" pos="2462040"/>
                <a:tab algn="l" pos="3376440"/>
                <a:tab algn="l" pos="4290840"/>
                <a:tab algn="l" pos="5205240"/>
                <a:tab algn="l" pos="6119640"/>
                <a:tab algn="l" pos="7034040"/>
                <a:tab algn="l" pos="7948440"/>
                <a:tab algn="l" pos="8862840"/>
                <a:tab algn="l" pos="9777240"/>
                <a:tab algn="l" pos="1069164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7640"/>
                <a:tab algn="l" pos="2462040"/>
                <a:tab algn="l" pos="3376440"/>
                <a:tab algn="l" pos="4290840"/>
                <a:tab algn="l" pos="5205240"/>
                <a:tab algn="l" pos="6119640"/>
                <a:tab algn="l" pos="7034040"/>
                <a:tab algn="l" pos="7948440"/>
                <a:tab algn="l" pos="8862840"/>
                <a:tab algn="l" pos="9777240"/>
                <a:tab algn="l" pos="1069164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i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7640"/>
                <a:tab algn="l" pos="2462040"/>
                <a:tab algn="l" pos="3376440"/>
                <a:tab algn="l" pos="4290840"/>
                <a:tab algn="l" pos="5205240"/>
                <a:tab algn="l" pos="6119640"/>
                <a:tab algn="l" pos="7034040"/>
                <a:tab algn="l" pos="7948440"/>
                <a:tab algn="l" pos="8862840"/>
                <a:tab algn="l" pos="9777240"/>
                <a:tab algn="l" pos="106916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5480" indent="-24444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95000"/>
              <a:buFont typeface="Arial"/>
              <a:buChar char="•"/>
              <a:tabLst>
                <a:tab algn="l" pos="1547640"/>
                <a:tab algn="l" pos="2462040"/>
                <a:tab algn="l" pos="3376440"/>
                <a:tab algn="l" pos="4290840"/>
                <a:tab algn="l" pos="5205240"/>
                <a:tab algn="l" pos="6119640"/>
                <a:tab algn="l" pos="7034040"/>
                <a:tab algn="l" pos="7948440"/>
                <a:tab algn="l" pos="8862840"/>
                <a:tab algn="l" pos="9777240"/>
                <a:tab algn="l" pos="1069164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Copulativas: y, e, 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5480" indent="-24444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95000"/>
              <a:buFont typeface="Arial"/>
              <a:buChar char="•"/>
              <a:tabLst>
                <a:tab algn="l" pos="1547640"/>
                <a:tab algn="l" pos="2462040"/>
                <a:tab algn="l" pos="3376440"/>
                <a:tab algn="l" pos="4290840"/>
                <a:tab algn="l" pos="5205240"/>
                <a:tab algn="l" pos="6119640"/>
                <a:tab algn="l" pos="7034040"/>
                <a:tab algn="l" pos="7948440"/>
                <a:tab algn="l" pos="8862840"/>
                <a:tab algn="l" pos="9777240"/>
                <a:tab algn="l" pos="1069164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dversativas: pero, mas, aunque, sin embarg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5480" indent="-24444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95000"/>
              <a:buFont typeface="Arial"/>
              <a:buChar char="•"/>
              <a:tabLst>
                <a:tab algn="l" pos="1547640"/>
                <a:tab algn="l" pos="2462040"/>
                <a:tab algn="l" pos="3376440"/>
                <a:tab algn="l" pos="4290840"/>
                <a:tab algn="l" pos="5205240"/>
                <a:tab algn="l" pos="6119640"/>
                <a:tab algn="l" pos="7034040"/>
                <a:tab algn="l" pos="7948440"/>
                <a:tab algn="l" pos="8862840"/>
                <a:tab algn="l" pos="9777240"/>
                <a:tab algn="l" pos="1069164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Disyuntivas: o, 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5480" indent="-24444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95000"/>
              <a:buFont typeface="Arial"/>
              <a:buChar char="•"/>
              <a:tabLst>
                <a:tab algn="l" pos="1547640"/>
                <a:tab algn="l" pos="2462040"/>
                <a:tab algn="l" pos="3376440"/>
                <a:tab algn="l" pos="4290840"/>
                <a:tab algn="l" pos="5205240"/>
                <a:tab algn="l" pos="6119640"/>
                <a:tab algn="l" pos="7034040"/>
                <a:tab algn="l" pos="7948440"/>
                <a:tab algn="l" pos="8862840"/>
                <a:tab algn="l" pos="9777240"/>
                <a:tab algn="l" pos="1069164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Explicativas: es decir, esto 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704880"/>
            <a:ext cx="8229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444d26"/>
                </a:solidFill>
                <a:latin typeface="Constantia"/>
              </a:rPr>
              <a:t>Estudiamos las palabras in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6597720"/>
            <a:ext cx="8820000" cy="260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a1af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55640" y="1989000"/>
            <a:ext cx="7715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7640"/>
                <a:tab algn="l" pos="2462040"/>
                <a:tab algn="l" pos="3376440"/>
                <a:tab algn="l" pos="4290840"/>
                <a:tab algn="l" pos="5205240"/>
                <a:tab algn="l" pos="6119640"/>
                <a:tab algn="l" pos="7034040"/>
                <a:tab algn="l" pos="7948440"/>
                <a:tab algn="l" pos="8862840"/>
                <a:tab algn="l" pos="9777240"/>
                <a:tab algn="l" pos="1069164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) Interjección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irven para expresar sentimientos y emo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7640"/>
                <a:tab algn="l" pos="2462040"/>
                <a:tab algn="l" pos="3376440"/>
                <a:tab algn="l" pos="4290840"/>
                <a:tab algn="l" pos="5205240"/>
                <a:tab algn="l" pos="6119640"/>
                <a:tab algn="l" pos="7034040"/>
                <a:tab algn="l" pos="7948440"/>
                <a:tab algn="l" pos="8862840"/>
                <a:tab algn="l" pos="9777240"/>
                <a:tab algn="l" pos="1069164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7640"/>
                <a:tab algn="l" pos="2462040"/>
                <a:tab algn="l" pos="3376440"/>
                <a:tab algn="l" pos="4290840"/>
                <a:tab algn="l" pos="5205240"/>
                <a:tab algn="l" pos="6119640"/>
                <a:tab algn="l" pos="7034040"/>
                <a:tab algn="l" pos="7948440"/>
                <a:tab algn="l" pos="8862840"/>
                <a:tab algn="l" pos="9777240"/>
                <a:tab algn="l" pos="1069164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tituyen un número ilimitado en cada len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7640"/>
                <a:tab algn="l" pos="2462040"/>
                <a:tab algn="l" pos="3376440"/>
                <a:tab algn="l" pos="4290840"/>
                <a:tab algn="l" pos="5205240"/>
                <a:tab algn="l" pos="6119640"/>
                <a:tab algn="l" pos="7034040"/>
                <a:tab algn="l" pos="7948440"/>
                <a:tab algn="l" pos="8862840"/>
                <a:tab algn="l" pos="9777240"/>
                <a:tab algn="l" pos="1069164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7640"/>
                <a:tab algn="l" pos="2462040"/>
                <a:tab algn="l" pos="3376440"/>
                <a:tab algn="l" pos="4290840"/>
                <a:tab algn="l" pos="5205240"/>
                <a:tab algn="l" pos="6119640"/>
                <a:tab algn="l" pos="7034040"/>
                <a:tab algn="l" pos="7948440"/>
                <a:tab algn="l" pos="8862840"/>
                <a:tab algn="l" pos="9777240"/>
                <a:tab algn="l" pos="1069164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or sí solas tienen signifi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7640"/>
                <a:tab algn="l" pos="2462040"/>
                <a:tab algn="l" pos="3376440"/>
                <a:tab algn="l" pos="4290840"/>
                <a:tab algn="l" pos="5205240"/>
                <a:tab algn="l" pos="6119640"/>
                <a:tab algn="l" pos="7034040"/>
                <a:tab algn="l" pos="7948440"/>
                <a:tab algn="l" pos="8862840"/>
                <a:tab algn="l" pos="9777240"/>
                <a:tab algn="l" pos="106916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704880"/>
            <a:ext cx="8229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444d26"/>
                </a:solidFill>
                <a:latin typeface="LilyUPC"/>
              </a:rPr>
              <a:t>Estudiamos las palabras in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6597720"/>
            <a:ext cx="8820000" cy="260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a1af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14240" y="857160"/>
            <a:ext cx="77868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444d26"/>
                </a:solidFill>
                <a:latin typeface="Constantia"/>
              </a:rPr>
              <a:t>Analizamos las palabras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205000"/>
            <a:ext cx="828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nstantia"/>
              </a:rPr>
              <a:t>Clasificación de las pala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Arial"/>
              <a:buChar char="•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Variable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: admiten morfemas de género y núm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Arial"/>
              <a:buChar char="•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Invariable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: no admiten morfemas de género y núm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86280" y="3286080"/>
            <a:ext cx="26434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6597720"/>
            <a:ext cx="8820000" cy="260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a1af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4360" y="1628640"/>
            <a:ext cx="7173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udio de las palabras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a) Sustantivo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(o nombre): se emplea para designar la re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istingui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700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95000"/>
              <a:buFont typeface="Arial"/>
              <a:buChar char="•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ropios/comu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700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95000"/>
              <a:buFont typeface="Arial"/>
              <a:buChar char="•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Concretos/abstra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700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95000"/>
              <a:buFont typeface="Arial"/>
              <a:buChar char="•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Contables/incon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700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95000"/>
              <a:buFont typeface="Arial"/>
              <a:buChar char="•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Individuales/colec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549360"/>
            <a:ext cx="7600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444d26"/>
                </a:solidFill>
                <a:latin typeface="Constantia"/>
              </a:rPr>
              <a:t>Analizamos las palabras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6597720"/>
            <a:ext cx="8820000" cy="260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a1af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55640" y="2133720"/>
            <a:ext cx="73454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b) Adjetivo: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expresa cualidades del sustan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dmite morfemas de gr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5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95000"/>
              <a:buFont typeface="Arial"/>
              <a:buChar char="•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ositivo: hermoso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5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95000"/>
              <a:buFont typeface="Arial"/>
              <a:buChar char="•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Comparativo: más hermoso que..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5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95000"/>
              <a:buFont typeface="Arial"/>
              <a:buChar char="•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uperlativo: muy herm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765000"/>
            <a:ext cx="7858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444d26"/>
                </a:solidFill>
                <a:latin typeface="Constantia"/>
              </a:rPr>
              <a:t>Analizamos las palabras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6597720"/>
            <a:ext cx="8820000" cy="260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a1af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00000" y="2565360"/>
            <a:ext cx="721548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c) Pronombre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se emplea para sustituir al no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d) Determinante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presentan al sustantivo dentro de la o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4240" y="928800"/>
            <a:ext cx="78584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444d26"/>
                </a:solidFill>
                <a:latin typeface="Constantia"/>
              </a:rPr>
              <a:t>Analizamos las palabras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6597720"/>
            <a:ext cx="8820000" cy="260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a1af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1773360"/>
            <a:ext cx="49291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e) Verbo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 designan acciones o es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oseen morfemas propios: número, persona, modo, tiempo, aspecto, vo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istinguimos dos ti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5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95000"/>
              <a:buFont typeface="Arial"/>
              <a:buChar char="•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Regu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5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95000"/>
              <a:buFont typeface="Arial"/>
              <a:buChar char="•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Irregu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692280"/>
            <a:ext cx="82296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444d26"/>
                </a:solidFill>
                <a:latin typeface="Constantia"/>
              </a:rPr>
              <a:t>Analizamos las palabras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72120" y="4857840"/>
            <a:ext cx="2643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95920" y="2714760"/>
            <a:ext cx="3192480" cy="1928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6597720"/>
            <a:ext cx="8820000" cy="260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a1af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0040" y="85716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444d26"/>
                </a:solidFill>
                <a:latin typeface="Constantia"/>
              </a:rPr>
              <a:t>Estudiamos las palabras in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989000"/>
            <a:ext cx="59767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alabras in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lphaLcParenR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dver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lphaLcParenR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repos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lphaLcParenR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Conju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lphaLcParenR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Interje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6597720"/>
            <a:ext cx="8820000" cy="260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a1af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1413000"/>
            <a:ext cx="7786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a) Adverbio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irven para completar el significad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Arial"/>
              <a:buChar char="•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Un verbo: No lo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  <a:ea typeface="Arial Unicode MS"/>
              </a:rPr>
              <a:t>he comprado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odavía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Arial"/>
              <a:buChar char="•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Un adjetivo: Ha sido un regalo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uy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  <a:ea typeface="Arial Unicode MS"/>
              </a:rPr>
              <a:t>hermoso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Arial"/>
              <a:buChar char="•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Un adverbio: Hoy has llegado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demasiado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  <a:ea typeface="Arial Unicode MS"/>
              </a:rPr>
              <a:t>tarde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ipos de adverb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Arial"/>
              <a:buChar char="•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Arial"/>
              <a:buChar char="•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Arial"/>
              <a:buChar char="•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firmación y neg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Arial"/>
              <a:buChar char="•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Cant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Arial"/>
              <a:buChar char="•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u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Arial"/>
              <a:buChar char="•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D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7628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444d26"/>
                </a:solidFill>
                <a:latin typeface="Constantia"/>
              </a:rPr>
              <a:t>Estudiamos las palabras in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6597720"/>
            <a:ext cx="8820000" cy="260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a1af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1989000"/>
            <a:ext cx="721512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b) Preposición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ementos que enlaz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e7bc29"/>
              </a:buClr>
              <a:buSzPct val="95000"/>
              <a:buFont typeface="Arial"/>
              <a:buChar char="•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alab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e7bc29"/>
              </a:buClr>
              <a:buSzPct val="95000"/>
              <a:buFont typeface="Arial"/>
              <a:buChar char="•"/>
              <a:tabLst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intag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tituyen un número limitado en cada len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704880"/>
            <a:ext cx="8229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444d26"/>
                </a:solidFill>
                <a:latin typeface="Constantia"/>
              </a:rPr>
              <a:t>Estudiamos las palabras in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6597720"/>
            <a:ext cx="8820000" cy="260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a1af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