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5270-B72F-4B4D-A1DD-1CC6F21BA2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8B91-A8D5-4F04-AAC4-C1B20FC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802B-1297-464C-A8AB-0A02C6A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555A-9F68-4A84-9DB0-F550FEB4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E1F3-9DFC-4683-8F15-71023727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A9FC-3B0C-4DBA-A8B0-D172246F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5F85-6103-4656-8A8C-2EC121B5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4DDA-5D6F-4CAE-9CC4-FD72D63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0F48-BB5A-43F7-A882-FBBAC35C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FC27-40A8-42F7-BB7D-2270F6C2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15DA-9645-4BDD-B18B-7134280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10AB-BA0B-425A-B749-0C9393B79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8772-1B1C-4DAF-8CF7-4DD9AD382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96EEE-507E-4E5D-84AA-50C09C94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91220-C859-49ED-886F-0EE6982D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088C2-6C6A-4B73-B832-5390053F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4D0ED-FCDD-4492-8A4E-D2E731B5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0C47E-9A4A-4CF9-8D35-F52E8667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48CD6-D465-4275-8A41-6582641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D06C9-3C3F-41D1-829F-1A19914F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2A5FA-BF2E-426A-A302-657FAEB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23FD9-B4EB-4489-906A-143DA3F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1F483-A345-4141-BC32-9DFE8C0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FB1AB-7073-40DF-9876-3CA378B29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5148360" y="6524640"/>
            <a:ext cx="39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 la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E8A-AB62-42B4-AD74-D2BC6BFB49A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9D6B-C6FC-41ED-92BF-094F9F53A5CC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9"/>
          <p:cNvSpPr/>
          <p:nvPr/>
        </p:nvSpPr>
        <p:spPr>
          <a:xfrm>
            <a:off x="279360" y="87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álisis de máquinas reales: La la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95280" y="1406520"/>
            <a:ext cx="3456000" cy="228420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. ¿Qué es la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onentes de una lavadora domé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teriales emple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ón de una lavad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allos más comunes de los componentes de una lavad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o elegir una lavad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ímbolos internacionales para el tratamiento de tej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2"/>
          <p:cNvSpPr/>
          <p:nvPr/>
        </p:nvSpPr>
        <p:spPr>
          <a:xfrm>
            <a:off x="3995640" y="1916280"/>
            <a:ext cx="45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bre este 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3"/>
          <p:cNvSpPr/>
          <p:nvPr/>
        </p:nvSpPr>
        <p:spPr>
          <a:xfrm>
            <a:off x="3995640" y="2276640"/>
            <a:ext cx="5007240" cy="13726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máquina elegida en este tema es la Lavadora. La lavadora es el “gran electrodoméstico” y casi el primero y viene a realizar una misión, el lavado de la ropa, que realizada manualmente, resultaba costosa, tanto en tiempo como en derroche de un recurso tan importante como el ag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3"/>
          <p:cNvSpPr/>
          <p:nvPr/>
        </p:nvSpPr>
        <p:spPr>
          <a:xfrm>
            <a:off x="1042920" y="4437000"/>
            <a:ext cx="7489800" cy="733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mos a enfocar el tema, describiendo muy por encima los componentes de una lavadora, para luego detenernos un poco en ellos, a partir de los problemas que pueden presentar en “su labo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4"/>
          <p:cNvSpPr/>
          <p:nvPr/>
        </p:nvSpPr>
        <p:spPr>
          <a:xfrm>
            <a:off x="442800" y="727200"/>
            <a:ext cx="813600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nentes básicos de una la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5133240" y="1376280"/>
            <a:ext cx="3747960" cy="3077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ermost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gulador de ni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gulador de tempera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ndo del program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istencia calefac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ortigu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tobom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anguera de descarga de ag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ambor girato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sagü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oma de ag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ectroválv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1"/>
          <p:cNvSpPr/>
          <p:nvPr/>
        </p:nvSpPr>
        <p:spPr>
          <a:xfrm rot="16200000">
            <a:off x="4221720" y="1953360"/>
            <a:ext cx="432000" cy="1224000"/>
          </a:xfrm>
          <a:prstGeom prst="downArrow">
            <a:avLst>
              <a:gd name="adj1" fmla="val 50000"/>
              <a:gd name="adj2" fmla="val 70833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300px_parteslavadora"/>
          <p:cNvPicPr/>
          <p:nvPr/>
        </p:nvPicPr>
        <p:blipFill>
          <a:blip r:embed="rId1"/>
          <a:stretch/>
        </p:blipFill>
        <p:spPr>
          <a:xfrm>
            <a:off x="442800" y="1376280"/>
            <a:ext cx="3305160" cy="3106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4"/>
          <p:cNvSpPr/>
          <p:nvPr/>
        </p:nvSpPr>
        <p:spPr>
          <a:xfrm>
            <a:off x="442800" y="4687920"/>
            <a:ext cx="813600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empleados en su fabr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3"/>
          <p:cNvSpPr/>
          <p:nvPr/>
        </p:nvSpPr>
        <p:spPr>
          <a:xfrm>
            <a:off x="442800" y="5264280"/>
            <a:ext cx="8136000" cy="1159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lavadora utiliza el agua y detergente para trabajar, elementos ambos muy corrosivos y que castigan los materiales, por lo que el acero inoxidable será uno de los materiales más presentes, aunque los últimos plásticos de alta tecnología permiten sus sutitu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de las principales características de los últimos modelos, es que sean cual sean los materiales empleados, deben ser recicl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4"/>
          <p:cNvSpPr/>
          <p:nvPr/>
        </p:nvSpPr>
        <p:spPr>
          <a:xfrm>
            <a:off x="468360" y="1177920"/>
            <a:ext cx="784872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sta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3"/>
          <p:cNvSpPr/>
          <p:nvPr/>
        </p:nvSpPr>
        <p:spPr>
          <a:xfrm>
            <a:off x="468360" y="1897200"/>
            <a:ext cx="4535280" cy="1798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lavadora utiliza en su funcionamiento tanto agua como electricidad. Por tanto, es necesario además de otras operaciones conectarla correctamente a una toma de agua y otra de corr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muy importante también, desbloquearla adecuadamente de las fijaciones que lleva para que no se dañe en el transporte así como una correcta nive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3" descr="220px-Washer"/>
          <p:cNvPicPr/>
          <p:nvPr/>
        </p:nvPicPr>
        <p:blipFill>
          <a:blip r:embed="rId1"/>
          <a:stretch/>
        </p:blipFill>
        <p:spPr>
          <a:xfrm>
            <a:off x="5508720" y="1897200"/>
            <a:ext cx="27939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4"/>
          <p:cNvSpPr/>
          <p:nvPr/>
        </p:nvSpPr>
        <p:spPr>
          <a:xfrm>
            <a:off x="611280" y="608040"/>
            <a:ext cx="5400720" cy="64260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nentes más comunes de los componentes de una la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376280" y="140004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mba de agua, o motor de vac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353640" y="140004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centrifu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151360" y="179388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5848200" y="1378080"/>
            <a:ext cx="287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giro de motor y revol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164320" y="21160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gram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377400" y="205272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allos de diversa índ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836720" y="24368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ist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5847840" y="203184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con la temperatura del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612080" y="275904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ódulo de control electró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6334920" y="270504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. Fallos de diversa índ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2244240" y="30812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os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5869080" y="3032280"/>
            <a:ext cx="28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de carga de agua, 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1426680" y="3054240"/>
            <a:ext cx="25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o válvula de entrada de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6415560" y="335916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carga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981080" y="37242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ltro d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5829840" y="3336840"/>
            <a:ext cx="28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de electricidad en la car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1728720" y="40449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erre de pu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5880600" y="4011480"/>
            <a:ext cx="27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apertura puerta tras lav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1728720" y="436716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iltro d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5829840" y="3990960"/>
            <a:ext cx="28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de electricidad en la car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615680" y="4689360"/>
            <a:ext cx="21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ble de alimentación d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6524640" y="46641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allos intermit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763640" y="501012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ul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446880" y="4991040"/>
            <a:ext cx="16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allo de los conta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1871640" y="53323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0"/>
          <p:cNvSpPr/>
          <p:nvPr/>
        </p:nvSpPr>
        <p:spPr>
          <a:xfrm>
            <a:off x="6058440" y="5318280"/>
            <a:ext cx="24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de giro y revol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1944720" y="56484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2"/>
          <p:cNvSpPr/>
          <p:nvPr/>
        </p:nvSpPr>
        <p:spPr>
          <a:xfrm>
            <a:off x="6282360" y="5643720"/>
            <a:ext cx="19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roblema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3"/>
          <p:cNvSpPr/>
          <p:nvPr/>
        </p:nvSpPr>
        <p:spPr>
          <a:xfrm>
            <a:off x="1836720" y="593712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ng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6279480" y="5970600"/>
            <a:ext cx="241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erdidas de agua, obstru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1189080" y="622620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ngueras de entrada y salida de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6785640" y="6297480"/>
            <a:ext cx="13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érdidas de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6012000" y="608040"/>
            <a:ext cx="2881080" cy="64260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y sus Fal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4"/>
          <p:cNvSpPr/>
          <p:nvPr/>
        </p:nvSpPr>
        <p:spPr>
          <a:xfrm>
            <a:off x="250920" y="642960"/>
            <a:ext cx="864216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elegir una lav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3"/>
          <p:cNvSpPr/>
          <p:nvPr/>
        </p:nvSpPr>
        <p:spPr>
          <a:xfrm>
            <a:off x="250920" y="1262160"/>
            <a:ext cx="8642160" cy="94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lección de una lavadora debe hacerse procurando que el electrodoméstico cubra nuestras necesidades y no más (es decir, que no haga cosas que nunca vamos a utilizar), y al mismo tiempo sea los más eficiente posible tanto en la reducción del consumo de agua, como de electricidad e incluso de deterg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24000" y="2257560"/>
            <a:ext cx="864072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ímbolos internacionales para el tratamiento de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3"/>
          <p:cNvSpPr/>
          <p:nvPr/>
        </p:nvSpPr>
        <p:spPr>
          <a:xfrm>
            <a:off x="324000" y="3189240"/>
            <a:ext cx="5543280" cy="733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fabricantes han acordado una serie de símbolos, que previenen posibles daños en la ropa tras un lavado inadecuado. En la imagen vemos muchos de el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800pxTablaSimbolos"/>
          <p:cNvPicPr/>
          <p:nvPr/>
        </p:nvPicPr>
        <p:blipFill>
          <a:blip r:embed="rId1"/>
          <a:stretch/>
        </p:blipFill>
        <p:spPr>
          <a:xfrm>
            <a:off x="6084720" y="2708280"/>
            <a:ext cx="27864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 </cp:lastModifiedBy>
  <dcterms:modified xsi:type="dcterms:W3CDTF">2011-04-29T10:09:35Z</dcterms:modified>
  <cp:revision>174</cp:revision>
  <dc:subject/>
  <dc:title>Diapositiva 1</dc:title>
</cp:coreProperties>
</file>