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4D1A8-933F-4BF6-B7E3-2C208C75A3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330DA-17F0-4B0C-925B-34CA35CA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6CF4F-D4FB-478F-B0FF-E65DB9E5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9A729-DF5C-4811-8B72-6899E6FF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4912A-7896-4250-942D-F5D8BD30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18680" y="371520"/>
            <a:ext cx="83120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1585D-657F-445A-AA3E-687802F3F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CECB8-A23B-44B8-A1DC-535F7752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6AC1C-AACF-4850-82E7-38A59E41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331A9-8C6E-4794-85E4-333EDA5F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D1514-F3F0-4EE6-A5A1-CBAF83FB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DCB94-744A-430B-AF3E-B924D0D4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59B43-7DA9-4A0D-AA96-D30F652426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95E57-D0B3-4F64-A38F-833C2ADEE2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FD5DE-C916-414F-914B-5BF71A3B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75AFD-B77D-46CC-A04D-806B936D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21553-0FE6-4090-9F01-7BFA4B56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DAF1C-657B-4DBD-BD0F-1D7391A2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18680" y="371520"/>
            <a:ext cx="83120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E6617-6816-4A0C-8C71-D4D638825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AD534-5F0B-4423-9482-04DC4D43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ED98F-2F9F-4AD5-B567-B51E01A7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FB7A4-3198-4409-8AD9-9E48EC0F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2FCD6-E4A4-4B70-8FDD-31685346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4DC7F-5445-4BA9-8AF5-712BECB8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71245E-DB85-468E-9B32-A25B3221B8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8680" y="371520"/>
            <a:ext cx="83120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rcRect l="33342" t="16329" r="27525" b="-728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Text Box 4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500040" y="6500880"/>
            <a:ext cx="86439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99"/>
                </a:solidFill>
                <a:latin typeface="Trebuchet MS"/>
              </a:rPr>
              <a:t>La narrativa durante la segunda mitad del siglo XIX en las literaturas de lengua ingl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Line 8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ffc400"/>
              </a:gs>
              <a:gs pos="100000">
                <a:srgbClr val="bf782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f4921f"/>
              </a:gs>
              <a:gs pos="100000">
                <a:srgbClr val="bf950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2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289F-2C21-49C6-A932-0169000CF5E3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8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53" name="Group 9"/>
            <p:cNvGrpSpPr/>
            <p:nvPr/>
          </p:nvGrpSpPr>
          <p:grpSpPr>
            <a:xfrm>
              <a:off x="-19080" y="203040"/>
              <a:ext cx="9159480" cy="646200"/>
              <a:chOff x="-19080" y="203040"/>
              <a:chExt cx="9159480" cy="646200"/>
            </a:xfrm>
          </p:grpSpPr>
          <p:pic>
            <p:nvPicPr>
              <p:cNvPr id="54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11"/>
              <p:cNvSpPr/>
              <p:nvPr/>
            </p:nvSpPr>
            <p:spPr>
              <a:xfrm rot="21420000">
                <a:off x="-18720" y="4780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2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57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4"/>
              <p:cNvSpPr/>
              <p:nvPr/>
            </p:nvSpPr>
            <p:spPr>
              <a:xfrm rot="21420000">
                <a:off x="-18720" y="52272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1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"/>
          <p:cNvSpPr/>
          <p:nvPr/>
        </p:nvSpPr>
        <p:spPr>
          <a:xfrm flipV="1" rot="420000">
            <a:off x="800064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ffc400"/>
              </a:gs>
              <a:gs pos="100000">
                <a:srgbClr val="bf782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f4921f"/>
              </a:gs>
              <a:gs pos="100000">
                <a:srgbClr val="bf950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4"/>
          </p:nvPr>
        </p:nvSpPr>
        <p:spPr>
          <a:xfrm>
            <a:off x="8077320" y="6356160"/>
            <a:ext cx="60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04924"/>
                </a:solidFill>
                <a:latin typeface="Constanti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A37D-633E-4C32-8F53-AE5739838560}" type="slidenum">
              <a:rPr b="0" lang="es-ES" sz="1200" spc="-1" strike="noStrike">
                <a:solidFill>
                  <a:srgbClr val="404924"/>
                </a:solidFill>
                <a:latin typeface="Constanti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858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La literatura en la segunda mitad del Siglo XIX:</a:t>
            </a:r>
            <a:br>
              <a:rPr sz="4000"/>
            </a:b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La narrativa durante la segunda mitad del siglo XIX en las literaturas de lengua inglesa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Características generale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10920" y="1557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Inglaterr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escasa influencia de la novela extranjera; pérdida de interés por la novela histórica y sentimental, propia del romanticismo; atención por los temas sociales; novelas de aventuras y de preocupación existen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Estados Uni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u temática se centra en el presente; se valora la juventud y la energía; el protagonista vive aislado, en soledad y quiere “hacerse a sí mismo”, lograr éxito en la vida; uno de sus temas predilectos es la libertad en lucha con una sociedad de principios morales ríg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La novela “victoriana”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imeros años del reinad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temas relacionados con la injusticia social. Autor más importante y popular: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harles Dick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Últimos años del reinad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evolución hacia una temática más ligada a las aventuras y a las preocupaciones existenciales. Autores: Robert Louis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tevenso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Joseph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rad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y Rudyar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Kipling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3800" spc="-1" strike="noStrike">
                <a:solidFill>
                  <a:srgbClr val="336699"/>
                </a:solidFill>
                <a:latin typeface="Arial"/>
              </a:rPr>
              <a:t>Nacimiento de la narrativa norteamericana</a:t>
            </a:r>
            <a:endParaRPr b="1" lang="en-US" sz="3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incide con la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claración de Independencia de los Estados Unid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n 177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imer autor clave: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dgar Allan Po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el más importante narrador de cuentos (terror, policíacos, aventuras y viajes extraordinarios) del siglo X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nda generación, autores de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ndencia simbolist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Nathaniel Hawthrone y Herman Melvil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3800" spc="-1" strike="noStrike">
                <a:solidFill>
                  <a:srgbClr val="336699"/>
                </a:solidFill>
                <a:latin typeface="Arial"/>
              </a:rPr>
              <a:t>El realismo en la novela norteamericana</a:t>
            </a:r>
            <a:endParaRPr b="1" lang="en-US" sz="3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s la Guerra Civil (1861-1865)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Estados Unidos deja de ser una colonia británica agrícola para convertirse en un país industrial moderno y en una gran potencia mund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ark Twai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opta por el realismo para poder criticar la sociedad, denunciando las desigualdades sociales, la esclavitud y el exceso de interés por el éxito y el din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3800" spc="-1" strike="noStrike">
                <a:solidFill>
                  <a:srgbClr val="336699"/>
                </a:solidFill>
                <a:latin typeface="Arial"/>
              </a:rPr>
              <a:t>Nuevas tendencias: </a:t>
            </a:r>
            <a:br>
              <a:rPr sz="3800"/>
            </a:br>
            <a:r>
              <a:rPr b="1" lang="es-ES" sz="3800" spc="-1" strike="noStrike">
                <a:solidFill>
                  <a:srgbClr val="336699"/>
                </a:solidFill>
                <a:latin typeface="Arial"/>
              </a:rPr>
              <a:t>hacia el siglo XX</a:t>
            </a:r>
            <a:endParaRPr b="1" lang="en-US" sz="3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enry Jam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americano de nacimiento, inglés de adop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racterísticas de sus novel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muy cuidadas desde el punto formal y lingüístico; personajes muy reflexivos; enfoque psicológ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ovedades que anticipan la novela del siglo XX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descripción de la vida interior de sus personajes y empleo de narradores múlti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16:58:18Z</dcterms:created>
  <dc:creator>leticia</dc:creator>
  <dc:description/>
  <dc:language>en-US</dc:language>
  <cp:lastModifiedBy> </cp:lastModifiedBy>
  <dcterms:modified xsi:type="dcterms:W3CDTF">2010-12-21T08:56:39Z</dcterms:modified>
  <cp:revision>42</cp:revision>
  <dc:subject/>
  <dc:title>Tema 2. La narrativa durante la segunda mitad del siglo XIX en las literaturas de lengua inglesa</dc:title>
</cp:coreProperties>
</file>