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1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2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B9A4CA5E-A59B-4442-87D3-F2C0278F3AB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7474F1EA-F16D-4839-99FE-6992891376D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4AC6C455-2E8B-4781-92DE-EC57C8160395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2D35C878-4C8A-4235-8604-0CA9DDB2669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26C48F52-6FFF-4862-B5AA-657DA0D4F83E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06D277F4-B75F-4897-B93F-FE04F713654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9ADE676F-3992-46EA-A07E-9CEADCEDE7CF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3 Marcador de número de diapositiva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0F795B2A-9FEB-4A64-990A-37AE385105A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4DCE0345-92C6-4CCE-AF40-CB1F7224B26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71640" y="6524640"/>
            <a:ext cx="8172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rebuchet MS"/>
              </a:rPr>
              <a:t>Airport Authorities had cancelled some flights because of bad weather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39640" y="62064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aco had dreamt with this journey befo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3600" spc="-1" strike="noStrike">
                <a:solidFill>
                  <a:srgbClr val="336699"/>
                </a:solidFill>
                <a:latin typeface="Arial"/>
              </a:rPr>
              <a:t>Airport Authorities had cancelled some flights because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3600" spc="-1" strike="noStrike">
                <a:solidFill>
                  <a:srgbClr val="336699"/>
                </a:solidFill>
                <a:latin typeface="Arial"/>
              </a:rPr>
              <a:t>bad weather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484360" y="3608280"/>
            <a:ext cx="446400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76201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78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336699"/>
                </a:solidFill>
                <a:latin typeface="Arial"/>
              </a:rPr>
              <a:t>Past Perfect Tense</a:t>
            </a:r>
            <a:endParaRPr b="1" lang="en-US" sz="3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2780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is tense is formed using two components: the auxiliary verb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in the past tense), and th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ast particip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orm of a verb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ad finished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my exercise when my friends called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y fathe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ad bought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some bread before we met h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ith a regular verb the past participle ends i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-e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just like the simple past)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rregular verb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have a special past participle form that you have to learn by heart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816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336699"/>
                </a:solidFill>
                <a:latin typeface="Arial"/>
              </a:rPr>
              <a:t>Conditional sentences type III</a:t>
            </a:r>
            <a:endParaRPr b="1" lang="en-US" sz="3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8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member that conditional sentences types 1 and 2 are possible to fulfi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former are possible and very likely that the condition will be fulfil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he will do the shopping with us if she is early at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d the latter are also possible but very unlikely that the condition will be fulfil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 would help her with the homework if she finished her meal now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wever, conditional sentences type 3 are impossible because they refer to the pa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t is used to express a hypothetical result to a past given situation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 would not have had an accident if he had driven more slowly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500040" y="404640"/>
            <a:ext cx="803268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alibri"/>
              </a:rPr>
              <a:t>Passive voic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alibri"/>
              </a:rPr>
              <a:t>present and past t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900000" y="1844640"/>
            <a:ext cx="7488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Constantia"/>
              </a:rPr>
              <a:t>Uses of the passive voice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Passive voice is used when the focus is on the action: who or what is performing the action is not relevant, important or know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                                                   </a:t>
            </a:r>
            <a:r>
              <a:rPr b="0" i="1" lang="es-ES" sz="1600" spc="-1" strike="noStrike">
                <a:solidFill>
                  <a:srgbClr val="000000"/>
                </a:solidFill>
                <a:latin typeface="Constantia"/>
              </a:rPr>
              <a:t>My car was stolen.</a:t>
            </a: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In the example above, the focus is on the fact that my car was stolen. However, I do not know who did it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nstantia"/>
              </a:rPr>
              <a:t>Form of the passive 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As you may have deduced, the basic form of the passive voice is subject + finite form of to be + Past Participle: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s-ES" sz="1600" spc="-1" strike="noStrike">
                <a:solidFill>
                  <a:srgbClr val="000000"/>
                </a:solidFill>
                <a:latin typeface="Constantia"/>
              </a:rPr>
              <a:t>Van Gogh painted this picture (ACTIVE VOIC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Constantia"/>
              </a:rPr>
              <a:t>This picture was painted by Van Gogh (PASSIVE VOICE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3500280"/>
            <a:ext cx="8228160" cy="63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Arial"/>
              </a:rPr>
              <a:t>Suffixes</a:t>
            </a:r>
            <a:endParaRPr b="1" lang="en-US" sz="3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0040" y="1428840"/>
            <a:ext cx="822816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causative is a common structure in English. It is used when one thing or person causes another thing or person to do something, that is to say, when we speak about a professional service which someone has done for us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y parents are having their house repaired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It means that my parents have asked to somebody to repair their house) 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09480" y="428760"/>
            <a:ext cx="82281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600" spc="-1" strike="noStrike">
                <a:solidFill>
                  <a:srgbClr val="336699"/>
                </a:solidFill>
                <a:latin typeface="Calibri"/>
              </a:rPr>
              <a:t>Have / get something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42960" y="4143240"/>
            <a:ext cx="822816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uffixes are groups of letters attached to the end of roots, words, and word groups. Suffixes serve a grammatical function. A suffix can indicate what part of speech (noun, verb, adjective, adverb) the word belongs 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-al, -tious, -tive, -ly, 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Economical, ambitious, enjoyable, lovely, sen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336699"/>
                </a:solidFill>
                <a:latin typeface="Arial"/>
              </a:rPr>
              <a:t>Question  tags</a:t>
            </a:r>
            <a:endParaRPr b="1" lang="en-US" sz="3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278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question tag is a special construction in English. It is placed at the end of the sent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e use tag questions at the end of statements to ask for confirmation. They mean something like: "Am I right?" or "Do you agree?" We always use  an auxiliary verb to form a question ta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y are very common in Englis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ir basic structur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+) Positive statement, (-) negative ta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our sister is at home, isn’t s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-)  Negative statement,(+) positive ta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ou don't like pizza, do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2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>Rafa</cp:lastModifiedBy>
  <dcterms:modified xsi:type="dcterms:W3CDTF">2010-03-24T07:55:06Z</dcterms:modified>
  <cp:revision>23</cp:revision>
  <dc:subject/>
  <dc:title>Estudiamos las palabras invariables</dc:title>
</cp:coreProperties>
</file>