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Unidad 4. La población españ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3423D-DD83-40D9-BC99-5E15ACF2BC8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8CD8C9-98CE-46C8-B36B-4CA022CAC48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62C1-FD28-4A98-BCC1-2B8A0AD51E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70CE-C475-42AF-8B4A-DA6B3C2B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3725-68EE-459F-A880-CCEDF98D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50E5-33DE-47D8-8AB1-CC9E98B407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A2930-C492-4A45-BD58-D09669A7E6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8D91A-9B14-49E4-9EEF-40568A92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6B8B4-44D6-4454-A4F2-344886C3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C178A-75F5-479B-B48B-2F35A434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F7F95-F33E-40EF-AEF5-65E7D9A7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AE903-AC15-4BF4-A285-EFDAA096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EA45D-88DC-4FFF-ACE8-29B0B2B8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4873-F244-417D-B7A1-A4A23512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E7614-4D6B-4C85-BA0F-A9E27AD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0D1C5-6D23-47C2-9684-D4EACB44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4CDB5-FD7C-4F12-9267-4451BF9D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C6D6F-6FB1-494C-8245-58021597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D8711-2720-428A-A9F7-48885BC4F2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EB02-318B-411D-9D57-B7F37B10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0A26-FE60-4E26-8B1F-F11DF168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045D-0A98-4717-B056-0E9EFAD8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334D-8ED8-49FD-9D02-5EBFA1E9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B7A0-B56D-4C4F-906D-0038EC04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4586-61C8-4DB3-BAC7-BA226058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39FF-2949-43CC-B750-2B94A0F7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AC5289-2A52-4703-BFC7-00D1A14396C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9A0724-CB80-4C56-8898-66276F864448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9280" y="6524640"/>
            <a:ext cx="51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Localización y dimensión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714760" y="4245120"/>
            <a:ext cx="2857320" cy="1895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857680" y="6211800"/>
            <a:ext cx="24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1 . Autor: Creación prop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4720" y="952560"/>
            <a:ext cx="83152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desarrollo y la estrategia empresarial:</a:t>
            </a:r>
            <a:br>
              <a:rPr sz="4400"/>
            </a:b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ocalización y dimensión de la empresa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429240" y="2928960"/>
            <a:ext cx="2363760" cy="1568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57120" y="1143000"/>
            <a:ext cx="621504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elección de un lugar óptimo para situar las diferentes plantas, oficinas y centros de actividad de una empresa es una decisión compleja. En ella inf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e de los factor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 acceso a l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man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l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57960" y="45720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. Elaboración prop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ocalización de la empresa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ocalización de las fábrica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localización de las fábricas depende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ponibilidad y precio de suelo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eso a materias primas y otros sumin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istencia de mano de obra abund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istencia de industria auxiliar y de asistencia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raestructuras, transportes y 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istencia de subvenciones públicas o deducciones fi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57120" y="1143000"/>
            <a:ext cx="6375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57960" y="3786120"/>
            <a:ext cx="2293920" cy="1521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286680" y="5429160"/>
            <a:ext cx="244764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5. http://recursostic.educacion.es/bancoimagenes/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ocalización comercial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ctores que influyen en la localización comercial y servi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ximidad a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cilidad de comunicaciones y ac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etidores cer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ste del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ividades complement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ivel socio-económico de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929280" y="2246400"/>
            <a:ext cx="1905120" cy="2232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96000" y="46432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3 . Autor: Creación prop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Nuevas tendencias en la localización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1440" indent="-271440">
              <a:spcBef>
                <a:spcPts val="901"/>
              </a:spcBef>
              <a:buClr>
                <a:srgbClr val="e7bc29"/>
              </a:buClr>
              <a:buSzPct val="95000"/>
              <a:buFont typeface="Wingdings" charset="2"/>
              <a:buChar char="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Deslocalización industr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901"/>
              </a:spcBef>
              <a:buClr>
                <a:srgbClr val="e7bc29"/>
              </a:buClr>
              <a:buSzPct val="95000"/>
              <a:buFont typeface="Wingdings" charset="2"/>
              <a:buChar char="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omercio electrón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901"/>
              </a:spcBef>
              <a:buClr>
                <a:srgbClr val="e7bc29"/>
              </a:buClr>
              <a:buSzPct val="95000"/>
              <a:buFont typeface="Wingdings" charset="2"/>
              <a:buChar char="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Ven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901"/>
              </a:spcBef>
              <a:buClr>
                <a:srgbClr val="e7bc29"/>
              </a:buClr>
              <a:buSzPct val="95000"/>
              <a:buFont typeface="Wingdings" charset="2"/>
              <a:buChar char="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Televen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901"/>
              </a:spcBef>
              <a:buNone/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901"/>
              </a:spcBef>
              <a:buNone/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5840" y="1643040"/>
            <a:ext cx="84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Formas de medi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Volumen de ven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Número de trabaj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Recursos propios o financiación prop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Activos o inversiones d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Beneficios netos anu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357960" y="1603440"/>
            <a:ext cx="2381400" cy="1579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357960" y="335772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4 . Autor: Creación prop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a dimensión empresarial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57120" y="299556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444d26"/>
                </a:solidFill>
                <a:latin typeface="Calibri"/>
                <a:ea typeface="LilyUPC"/>
              </a:rPr>
              <a:t>Concentración y extern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428840"/>
            <a:ext cx="82296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imens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s la capacidad productiva potencial, es decir, la que puede llegar a alcanzar al máximo de sus posi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cup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es la capacidad productiva realmente utilizada en un moment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2680" y="70164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444d26"/>
                </a:solidFill>
                <a:latin typeface="Calibri"/>
                <a:ea typeface="LilyUPC"/>
              </a:rPr>
              <a:t>Dimensión y ocu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422748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Concentración: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roceso de unión de empresas lo que supone el aumento de la dimensión empresa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Externalización: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tratar a otras empresas fases que antes hacía la propia empresa lo que supone una disminución de la dimen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05:25Z</dcterms:created>
  <dc:creator>Genesis XXI</dc:creator>
  <dc:description/>
  <dc:language>en-US</dc:language>
  <cp:lastModifiedBy> </cp:lastModifiedBy>
  <dcterms:modified xsi:type="dcterms:W3CDTF">2010-09-21T21:52:05Z</dcterms:modified>
  <cp:revision>68</cp:revision>
  <dc:subject/>
  <dc:title>Tema 1. La actividad económ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stado">
    <vt:lpwstr>Subido</vt:lpwstr>
  </property>
</Properties>
</file>