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84720" y="6453360"/>
            <a:ext cx="478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Sistemas de control. Introdu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9360" y="87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rol y programación de sistemas automáticos:  Sistemas de control. 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406520"/>
            <a:ext cx="3456000" cy="6415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stemas digi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stemas de numeración. Conver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ódigos bin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46844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Sistemas digit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3240" y="192888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ñal Analógic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Aquella que toma valores continuos en el tiemp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ñal Digital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s discontinua, varía en forma de incrementos discretos. La mayoría de las señales digitales utilizan códigos bin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3714840"/>
            <a:ext cx="7500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stemas digitales combinacionale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lida del sistema depende únicamente de la combinación de valores que presentan las entradas lógicas en ese i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stemas digitales secuenciale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salida depende de la combinación de las entradas del momento y de la secuencia de combinaciones de las entradas previas.  Necesitan módulos de memoria que acumulen la información de lo ocurrido anteriormente en 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560" y="3286080"/>
            <a:ext cx="25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isten dos tipos de sist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760" y="1357200"/>
            <a:ext cx="7464240" cy="946440"/>
          </a:xfrm>
          <a:prstGeom prst="rect">
            <a:avLst/>
          </a:prstGeom>
          <a:noFill/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sistemas digitales actúan mediante la interpretación de señales que toman un número discreto de val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 hace que sea necesario cuantificar el valor que toman las magnitudes a contr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95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ello se utilizan diferentes sistemas de nume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8680" y="2500200"/>
            <a:ext cx="560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bitualmente utilizamos un código decimal de num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sistemas de control utilizan el código bin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1880" y="307188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cdca4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1400" y="4000680"/>
            <a:ext cx="52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necesario conocer métodos que nos permitan pa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un código al otro con fac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200" y="100008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Sistemas de numeración. Conver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71960" y="478620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Códigos bin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4960" y="5214960"/>
            <a:ext cx="3535200" cy="733320"/>
          </a:xfrm>
          <a:prstGeom prst="rect">
            <a:avLst/>
          </a:prstGeom>
          <a:noFill/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95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ódigo binario más común es el nat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95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isten muchos otros tip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WinuE</cp:lastModifiedBy>
  <dcterms:modified xsi:type="dcterms:W3CDTF">2010-10-28T14:32:57Z</dcterms:modified>
  <cp:revision>155</cp:revision>
  <dc:subject/>
  <dc:title>Diapositiva 1</dc:title>
</cp:coreProperties>
</file>