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5" y="0"/>
                </a:moveTo>
                <a:arcTo wR="5" hR="5" stAng="16200000" swAng="-5400000"/>
                <a:lnTo>
                  <a:pt x="0" y="31134"/>
                </a:lnTo>
                <a:arcTo wR="5" hR="5" stAng="10800000" swAng="-5400000"/>
                <a:lnTo>
                  <a:pt x="21595" y="311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0" y="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4020840" y="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3440" cy="3835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8640" cy="46036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9718560"/>
            <a:ext cx="30765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4"/>
          </p:nvPr>
        </p:nvSpPr>
        <p:spPr>
          <a:xfrm>
            <a:off x="402084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50760" bIns="507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  <a:defRPr b="0" lang="en-GB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A4DA2F29-3084-4EB8-B450-D8B20D236814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C3D6BF2F-9D03-430D-BD83-DD0F84D58DD7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D6099097-780A-441B-B829-859CAD4E625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8B5C364F-CDC8-4F15-BEE0-1EC519FEFE4C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4F1AECA7-B815-4FCA-85C2-741BF9AFEB9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DD876AB7-495E-471F-A364-3DDC5A16C5D6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262A23FB-0DE8-43AB-BD0A-1AF9FCC7DDFD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DF782F9E-AC94-44EF-A792-8932F8FCB03D}" type="slidenum">
              <a:rPr b="0" lang="en-GB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182600" y="768240"/>
            <a:ext cx="473400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2520"/>
                <a:tab algn="l" pos="7923240"/>
                <a:tab algn="l" pos="8913960"/>
                <a:tab algn="l" pos="9904320"/>
                <a:tab algn="l" pos="10895040"/>
              </a:tabLst>
            </a:pPr>
            <a:fld id="{10AE779E-2240-4E54-AD44-70C3E80FC979}" type="slidenum">
              <a:rPr b="0" lang="en-GB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A586D-724D-4F57-BEB6-9AA367811E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B6F7E-BE64-4338-BD74-9509E617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B9E1-8A85-417F-AFF5-2DA5FC7C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36AC0-DA33-494C-AB07-3DF47C142F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2524D-6BE5-40C0-949F-AE86F118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6A1AB-126C-4DCA-B697-6BA30D92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99D18-069C-43A3-8D1B-5EE8A435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15C4-8B38-4602-BC17-428D8D51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540F8-0142-4E4A-9ACA-41017C65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CC8E-90F8-4164-964D-6DD040EC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3D5F-02A1-4A37-A970-C8C7B634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AF19-722C-4777-94A3-62225874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f7825"/>
              </a:gs>
              <a:gs pos="100000">
                <a:srgbClr val="ffc4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f9506"/>
              </a:gs>
              <a:gs pos="100000">
                <a:srgbClr val="f4921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8160" cy="157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44d2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44d26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9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8280" indent="-246240">
              <a:lnSpc>
                <a:spcPct val="102000"/>
              </a:lnSpc>
              <a:spcBef>
                <a:spcPts val="649"/>
              </a:spcBef>
              <a:buClr>
                <a:srgbClr val="a5b592"/>
              </a:buClr>
              <a:buSzPct val="8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2000"/>
              </a:lnSpc>
              <a:spcBef>
                <a:spcPts val="649"/>
              </a:spcBef>
              <a:buClr>
                <a:srgbClr val="f3a447"/>
              </a:buClr>
              <a:buSzPct val="70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584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0520" indent="-208080">
              <a:lnSpc>
                <a:spcPct val="102000"/>
              </a:lnSpc>
              <a:spcBef>
                <a:spcPts val="649"/>
              </a:spcBef>
              <a:buClr>
                <a:srgbClr val="e7bc29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0520" indent="-208080">
              <a:lnSpc>
                <a:spcPct val="102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2666880" y="635472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3E6CAA-7400-471B-A21B-2B0872505C03}" type="slidenum">
              <a:rPr b="0" lang="en-GB" sz="1200" spc="-1" strike="noStrike">
                <a:solidFill>
                  <a:srgbClr val="404924"/>
                </a:solidFill>
                <a:latin typeface="Constanti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643280" y="6583320"/>
            <a:ext cx="450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Origen y evolución del Unive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52" name="Line 9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1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Nuestro lugar en el Universo: Origen y evolución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 del Universo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857160" y="2506680"/>
            <a:ext cx="27147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488000" cy="3384720"/>
          </a:xfrm>
          <a:prstGeom prst="rect">
            <a:avLst/>
          </a:prstGeom>
          <a:ln w="0">
            <a:noFill/>
          </a:ln>
        </p:spPr>
      </p:pic>
      <p:sp>
        <p:nvSpPr>
          <p:cNvPr id="101" name="5 CuadroTexto"/>
          <p:cNvSpPr/>
          <p:nvPr/>
        </p:nvSpPr>
        <p:spPr>
          <a:xfrm>
            <a:off x="826920" y="6093000"/>
            <a:ext cx="727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Fotografía de </a:t>
            </a:r>
            <a:r>
              <a:rPr b="1" lang="en-GB" sz="1000" spc="-1" strike="noStrike">
                <a:solidFill>
                  <a:srgbClr val="8e58b6"/>
                </a:solidFill>
                <a:latin typeface="Arial"/>
              </a:rPr>
              <a:t>NASA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GB" sz="1000" spc="-1" strike="noStrike">
                <a:solidFill>
                  <a:srgbClr val="8e58b6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jo licencia Dominio Público, llamada </a:t>
            </a: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Gloria Celesti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3278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4400" spc="-1" strike="noStrike">
                <a:solidFill>
                  <a:srgbClr val="336699"/>
                </a:solidFill>
                <a:latin typeface="Arial"/>
              </a:rPr>
              <a:t>Índice</a:t>
            </a:r>
            <a:br>
              <a:rPr sz="4400"/>
            </a:b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2 CuadroTexto"/>
          <p:cNvSpPr/>
          <p:nvPr/>
        </p:nvSpPr>
        <p:spPr>
          <a:xfrm>
            <a:off x="684360" y="1989000"/>
            <a:ext cx="811980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 Big Bang</a:t>
            </a:r>
            <a:r>
              <a:rPr b="0" lang="en-GB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Galaxias  y estrel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 Sistema Solar: el S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 Sistema Solar: los plane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xplorando el Sistema So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704880"/>
            <a:ext cx="8229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El Big Ba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468360" y="1628640"/>
            <a:ext cx="46083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oda la materia y energía, así como el espacio y el tiempo que constituyen el Universo, aparecieron hace unos 13.700 millones de años a partir de una gran explosión, según la teoría más aceptada en la actua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95280" y="5013360"/>
            <a:ext cx="8501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 final del Universo dependerá de la masa que éste teng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796000" y="3357720"/>
            <a:ext cx="264312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1185840"/>
                <a:tab algn="l" pos="2100240"/>
                <a:tab algn="l" pos="3014640"/>
                <a:tab algn="l" pos="3929040"/>
                <a:tab algn="l" pos="4843440"/>
                <a:tab algn="l" pos="5757840"/>
                <a:tab algn="l" pos="6672240"/>
                <a:tab algn="l" pos="7586640"/>
                <a:tab algn="l" pos="8501040"/>
                <a:tab algn="l" pos="9415440"/>
                <a:tab algn="l" pos="1032984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6 Imagen" descr="Universo_en_expansion_es.jpg.png"/>
          <p:cNvPicPr/>
          <p:nvPr/>
        </p:nvPicPr>
        <p:blipFill>
          <a:blip r:embed="rId1"/>
          <a:stretch/>
        </p:blipFill>
        <p:spPr>
          <a:xfrm>
            <a:off x="5508720" y="1557360"/>
            <a:ext cx="3012840" cy="2797200"/>
          </a:xfrm>
          <a:prstGeom prst="rect">
            <a:avLst/>
          </a:prstGeom>
          <a:ln w="0">
            <a:noFill/>
          </a:ln>
        </p:spPr>
      </p:pic>
      <p:sp>
        <p:nvSpPr>
          <p:cNvPr id="109" name="6 CuadroTexto"/>
          <p:cNvSpPr/>
          <p:nvPr/>
        </p:nvSpPr>
        <p:spPr>
          <a:xfrm>
            <a:off x="5580000" y="4437000"/>
            <a:ext cx="2952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utor desconocido.</a:t>
            </a:r>
            <a:br>
              <a:rPr sz="1200"/>
            </a:b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icencia Creative Comm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95280" y="2781360"/>
            <a:ext cx="778680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n el Universo se distinguen objetos formados por la agrupación de masa y ener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Las galaxias son regiones del espacio formadas por millones de estrellas que permanecen unidas por la grav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7bc29"/>
              </a:buClr>
              <a:buFont typeface="Constant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Las estrellas producen energía por fusión nuclear, y pasan por diferentes fases a medida que producen ener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609480" y="857160"/>
            <a:ext cx="489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Galaxias y estrell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4 Imagen" descr="agujeroN_en_actividad.jpg"/>
          <p:cNvPicPr/>
          <p:nvPr/>
        </p:nvPicPr>
        <p:blipFill>
          <a:blip r:embed="rId1"/>
          <a:stretch/>
        </p:blipFill>
        <p:spPr>
          <a:xfrm>
            <a:off x="5867280" y="692280"/>
            <a:ext cx="2441520" cy="1619280"/>
          </a:xfrm>
          <a:prstGeom prst="rect">
            <a:avLst/>
          </a:prstGeom>
          <a:ln w="0">
            <a:noFill/>
          </a:ln>
        </p:spPr>
      </p:pic>
      <p:sp>
        <p:nvSpPr>
          <p:cNvPr id="113" name="4 CuadroTexto"/>
          <p:cNvSpPr/>
          <p:nvPr/>
        </p:nvSpPr>
        <p:spPr>
          <a:xfrm>
            <a:off x="5867280" y="2349360"/>
            <a:ext cx="2449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utor:NASA. Licencia Dominio Públic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1 CuadroTexto"/>
          <p:cNvSpPr/>
          <p:nvPr/>
        </p:nvSpPr>
        <p:spPr>
          <a:xfrm>
            <a:off x="755640" y="620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Sistema Solar: El So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5 Imagen" descr="sol.jpg"/>
          <p:cNvPicPr/>
          <p:nvPr/>
        </p:nvPicPr>
        <p:blipFill>
          <a:blip r:embed="rId1"/>
          <a:stretch/>
        </p:blipFill>
        <p:spPr>
          <a:xfrm>
            <a:off x="971640" y="4221000"/>
            <a:ext cx="2801880" cy="2102040"/>
          </a:xfrm>
          <a:prstGeom prst="rect">
            <a:avLst/>
          </a:prstGeom>
          <a:ln w="0">
            <a:noFill/>
          </a:ln>
        </p:spPr>
      </p:pic>
      <p:sp>
        <p:nvSpPr>
          <p:cNvPr id="116" name="7 Rectángulo"/>
          <p:cNvSpPr/>
          <p:nvPr/>
        </p:nvSpPr>
        <p:spPr>
          <a:xfrm>
            <a:off x="755640" y="1268280"/>
            <a:ext cx="820908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 Sistema Solar es un sistema planetario, es decir formado por una estrella, el Sol, y un conjunto de plane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Nuestro Sol es una estrella que se encuentra en la llamada secuencia princip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iene una estructura en forma de capas, sucediendo en cada una de ellas distintos procesos fís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5 CuadroTexto"/>
          <p:cNvSpPr/>
          <p:nvPr/>
        </p:nvSpPr>
        <p:spPr>
          <a:xfrm>
            <a:off x="1042920" y="6381720"/>
            <a:ext cx="2665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utor: NASA.</a:t>
            </a: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icencia Dominio Públic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68360" y="2565360"/>
            <a:ext cx="81439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os planetas que se encuentan alrededor del Sol son och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buClr>
                <a:srgbClr val="e7bc29"/>
              </a:buClr>
              <a:buFont typeface="Constant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Los cuatro planetas más cercanos al Sol tienen una estructura sólida y un tamaño relativamente pequeño. Son: Mercurio, Venus, la Tierra y Mar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46240" algn="just">
              <a:lnSpc>
                <a:spcPct val="100000"/>
              </a:lnSpc>
              <a:spcBef>
                <a:spcPts val="499"/>
              </a:spcBef>
              <a:buClr>
                <a:srgbClr val="e7bc29"/>
              </a:buClr>
              <a:buFont typeface="Constanti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  <a:ea typeface="MS Gothic"/>
              </a:rPr>
              <a:t>Los cuatro planetas más alejados son gaseosos y de gran tamaño. Son: Júpiter, Saturno, Neptuno y Ur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68360" y="907920"/>
            <a:ext cx="446400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Sistema Solar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los planet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4 Imagen" descr="sistema_solar.jpg"/>
          <p:cNvPicPr/>
          <p:nvPr/>
        </p:nvPicPr>
        <p:blipFill>
          <a:blip r:embed="rId1"/>
          <a:stretch/>
        </p:blipFill>
        <p:spPr>
          <a:xfrm>
            <a:off x="5076720" y="692280"/>
            <a:ext cx="3203640" cy="2385720"/>
          </a:xfrm>
          <a:prstGeom prst="rect">
            <a:avLst/>
          </a:prstGeom>
          <a:ln w="0">
            <a:noFill/>
          </a:ln>
        </p:spPr>
      </p:pic>
      <p:sp>
        <p:nvSpPr>
          <p:cNvPr id="121" name="4 CuadroTexto"/>
          <p:cNvSpPr/>
          <p:nvPr/>
        </p:nvSpPr>
        <p:spPr>
          <a:xfrm>
            <a:off x="5219640" y="3213000"/>
            <a:ext cx="2952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utor: NASA. Licencia Dominio Públic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81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Arial"/>
              </a:rPr>
              <a:t>Explorando el Sistema Solar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3 Rectángulo"/>
          <p:cNvSpPr/>
          <p:nvPr/>
        </p:nvSpPr>
        <p:spPr>
          <a:xfrm>
            <a:off x="324000" y="2924280"/>
            <a:ext cx="850104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 ser humano se ha preocupado desde muy antiguo por investigar el Sistema Solar y el Univers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Científicos como  Copérnico, Galileo, Newton o Hubble han ayudado a construir la visión que hoy tenemos sobre el Univer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n el siglo XX comenzó la exploración del Sistema Solar mediante naves espa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l futuro de la exploración espacial esta lleno de preguntas por respond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4 Imagen" descr="VoyagerThumbnail.png"/>
          <p:cNvPicPr/>
          <p:nvPr/>
        </p:nvPicPr>
        <p:blipFill>
          <a:blip r:embed="rId1"/>
          <a:stretch/>
        </p:blipFill>
        <p:spPr>
          <a:xfrm>
            <a:off x="2050920" y="907920"/>
            <a:ext cx="468180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nesis XXI</dc:creator>
  <dc:description/>
  <dc:language>en-US</dc:language>
  <cp:lastModifiedBy> </cp:lastModifiedBy>
  <dcterms:modified xsi:type="dcterms:W3CDTF">2011-10-05T11:34:13Z</dcterms:modified>
  <cp:revision>26</cp:revision>
  <dc:subject/>
  <dc:title>Tema 1. La actividad económica</dc:title>
</cp:coreProperties>
</file>