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50211" t="33603" r="27525" b="-7557"/>
          <a:stretch/>
        </p:blipFill>
        <p:spPr>
          <a:xfrm>
            <a:off x="6434280" y="6486480"/>
            <a:ext cx="2709720" cy="13032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6424560" y="6583320"/>
            <a:ext cx="271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Título de la 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1" descr="logo3"/>
          <p:cNvPicPr/>
          <p:nvPr/>
        </p:nvPicPr>
        <p:blipFill>
          <a:blip r:embed="rId4"/>
          <a:stretch/>
        </p:blipFill>
        <p:spPr>
          <a:xfrm>
            <a:off x="347760" y="0"/>
            <a:ext cx="2757240" cy="64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742680"/>
            <a:ext cx="82278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ausas de la Revolución rusa de 1905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88920" y="5370480"/>
            <a:ext cx="562284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la imagen Domingo Sangrien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das las imágenes pertenecen al archivo de wikip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Documents and Settings\Usuario\Escritorio\historia mundo contemporaneo\HM1_U3\HM1_U3_T5\imagenes\Bloody_sunday.jpg"/>
          <p:cNvPicPr/>
          <p:nvPr/>
        </p:nvPicPr>
        <p:blipFill>
          <a:blip r:embed="rId1"/>
          <a:stretch/>
        </p:blipFill>
        <p:spPr>
          <a:xfrm>
            <a:off x="2822400" y="1486080"/>
            <a:ext cx="555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2065320"/>
            <a:ext cx="32832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fracaso en la guerra Ruso japon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isis económica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mingo Sangr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801960" y="1355760"/>
            <a:ext cx="49309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872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Guerra ruso-japonesa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07960"/>
            <a:ext cx="44546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licto surgido de las ambiciones imperialistas rivales de la Rusia Imperial y el Japón y que concluyó con la victoria nipona. Se desarrolló durante los años 1904 y 19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usa: Tanto Rusia como Japón deseaban ampliar su área de influencia en Manchuria, provincia China, así como apoderarse de la península de Co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Jap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potencia ascendente, tanto económica y militarmente, se consagró como indiscutible gran país tras la derrota de </a:t>
            </a: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Rus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que sufrió la destrucción de sus flotas del Báltico y el Pa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ecuencia: La derrota provocó en Rusia un fuerte movimiento social en demanda de reformas. El malestar sirvió de detonante a la Revolución de febrero de 19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270400" y="1819440"/>
            <a:ext cx="35244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68112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Crisis económica </a:t>
            </a: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internacion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932120"/>
            <a:ext cx="37544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01-1903 la crisis, de extens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zotó a Rusia, que para entonces había alcanzado cierto grado de industrialización. Se sucediero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ifest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uelg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pecialmente en la región de Bakú (en la imagen), ric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zos de petról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estabilidad se prolongó durante todo 19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222800" y="1292400"/>
            <a:ext cx="446868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Domingo Sangrient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hecho que desencadenó el proceso revolucionario ocurrió el 9 de enero de 1905, cuando una muchedumbre (200.000 personas), desarmada, compuesta por obreros, campesinos, mujeres y niños, dirigida por el pope (sacerdote) Gapón, se encaminó hacia el Palacio de Invierno, residencia del Zar en San Petersbu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tendía hacerle llegar una serie de peticiones: convocatoria de una asamblea constituyente, mejoras salariales, jornada de ocho horas, libertad de sindicación, etc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 respuesta obtuvieron una violenta represión que se saldó con más de mil manifestantes muertos. Este acontecimiento ha pasado a la historia con el nombre de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omingo Sangr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:\Documents and Settings\Usuario\Escritorio\historia mundo contemporaneo\HM1_U3\HM1_U3_T5\imagenes\Bloody_sunday.jpg"/>
          <p:cNvPicPr/>
          <p:nvPr/>
        </p:nvPicPr>
        <p:blipFill>
          <a:blip r:embed="rId1"/>
          <a:stretch/>
        </p:blipFill>
        <p:spPr>
          <a:xfrm>
            <a:off x="4797360" y="1486080"/>
            <a:ext cx="41814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Mariano</cp:lastModifiedBy>
  <dcterms:modified xsi:type="dcterms:W3CDTF">2009-06-26T16:31:44Z</dcterms:modified>
  <cp:revision>30</cp:revision>
  <dc:subject/>
  <dc:title>Diapositiva 1</dc:title>
</cp:coreProperties>
</file>