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19040" y="731880"/>
            <a:ext cx="831528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9040" y="731880"/>
            <a:ext cx="8315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" descr="fondo_horizontal"/>
          <p:cNvPicPr/>
          <p:nvPr/>
        </p:nvPicPr>
        <p:blipFill>
          <a:blip r:embed="rId2"/>
          <a:srcRect l="50211" t="33603" r="27525" b="-7557"/>
          <a:stretch/>
        </p:blipFill>
        <p:spPr>
          <a:xfrm>
            <a:off x="6434280" y="6486480"/>
            <a:ext cx="2709720" cy="130320"/>
          </a:xfrm>
          <a:prstGeom prst="rect">
            <a:avLst/>
          </a:prstGeom>
          <a:ln w="0">
            <a:noFill/>
          </a:ln>
        </p:spPr>
      </p:pic>
      <p:sp>
        <p:nvSpPr>
          <p:cNvPr id="3" name="Text Box 11"/>
          <p:cNvSpPr/>
          <p:nvPr/>
        </p:nvSpPr>
        <p:spPr>
          <a:xfrm>
            <a:off x="4181400" y="4386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2"/>
          <p:cNvSpPr/>
          <p:nvPr/>
        </p:nvSpPr>
        <p:spPr>
          <a:xfrm>
            <a:off x="6424560" y="6583320"/>
            <a:ext cx="27194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6699"/>
                </a:solidFill>
                <a:latin typeface="Trebuchet MS"/>
              </a:rPr>
              <a:t>Título de la Presen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6" descr="fondo_vertical_2"/>
          <p:cNvPicPr/>
          <p:nvPr/>
        </p:nvPicPr>
        <p:blipFill>
          <a:blip r:embed="rId3"/>
          <a:stretch/>
        </p:blipFill>
        <p:spPr>
          <a:xfrm>
            <a:off x="0" y="0"/>
            <a:ext cx="37152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Line 18"/>
          <p:cNvSpPr/>
          <p:nvPr/>
        </p:nvSpPr>
        <p:spPr>
          <a:xfrm>
            <a:off x="419040" y="596880"/>
            <a:ext cx="8612280" cy="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21" descr="logo3"/>
          <p:cNvPicPr/>
          <p:nvPr/>
        </p:nvPicPr>
        <p:blipFill>
          <a:blip r:embed="rId4"/>
          <a:stretch/>
        </p:blipFill>
        <p:spPr>
          <a:xfrm>
            <a:off x="347760" y="0"/>
            <a:ext cx="2757240" cy="641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77600" y="742680"/>
            <a:ext cx="8227800" cy="78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6699"/>
                </a:solidFill>
                <a:latin typeface="Arial"/>
              </a:rPr>
              <a:t>Causas de la Revolución rusa de 1905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2788920" y="5370480"/>
            <a:ext cx="5622840" cy="6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n la imagen Domingo Sangrient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Todas las imágenes pertenecen al archivo de wikiped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C:\Documents and Settings\Usuario\Escritorio\historia mundo contemporaneo\HM1_U3\HM1_U3_T5\imagenes\Bloody_sunday.jpg"/>
          <p:cNvPicPr/>
          <p:nvPr/>
        </p:nvPicPr>
        <p:blipFill>
          <a:blip r:embed="rId1"/>
          <a:stretch/>
        </p:blipFill>
        <p:spPr>
          <a:xfrm>
            <a:off x="2822400" y="1486080"/>
            <a:ext cx="55501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52000" y="2465280"/>
            <a:ext cx="3282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fracaso en la guerra Ruso japon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risis económica Intern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omingo Sangrien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C:\Documents and Settings\Usuario\Escritorio\historia mundo contemporaneo\HM1_U3\HM1_U3_T5\imagenes\Asien_1905.jpg"/>
          <p:cNvPicPr/>
          <p:nvPr/>
        </p:nvPicPr>
        <p:blipFill>
          <a:blip r:embed="rId1"/>
          <a:stretch/>
        </p:blipFill>
        <p:spPr>
          <a:xfrm>
            <a:off x="3338640" y="1201680"/>
            <a:ext cx="5476680" cy="47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8720" y="731880"/>
            <a:ext cx="83152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6699"/>
                </a:solidFill>
                <a:latin typeface="Arial"/>
              </a:rPr>
              <a:t>Guerra ruso-japonesa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407960"/>
            <a:ext cx="445464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nflicto surgido de las ambiciones imperialistas rivales de la Rusia Imperial y el Japón y que concluyó con la victoria nipona. Se desarrolló durante los años 1904 y 190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ausa: Tanto Rusia como Japón deseaban ampliar su área de influencia en Manchuria, provincia China, así como apoderarse de la península de Core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70c0"/>
                </a:solidFill>
                <a:latin typeface="Arial"/>
              </a:rPr>
              <a:t>Japón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, potencia ascendente, tanto económica y militarmente, se consagró como indiscutible gran país tras la derrota de </a:t>
            </a:r>
            <a:r>
              <a:rPr b="1" lang="es-ES" sz="1600" spc="-1" strike="noStrike">
                <a:solidFill>
                  <a:srgbClr val="0070c0"/>
                </a:solidFill>
                <a:latin typeface="Arial"/>
              </a:rPr>
              <a:t>Rusia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, que sufrió la destrucción de sus flotas del Báltico y el Pacífi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nsecuencia: La derrota provocó en Rusia un fuerte movimiento social en demanda de reformas. El malestar sirvió de detonante a la Revolución de febrero de 19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5270400" y="1819440"/>
            <a:ext cx="3524400" cy="42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9040" y="681120"/>
            <a:ext cx="83152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6699"/>
                </a:solidFill>
                <a:latin typeface="Arial"/>
              </a:rPr>
              <a:t>Crisis económica </a:t>
            </a:r>
            <a:r>
              <a:rPr b="1" lang="es-ES" sz="4000" spc="-1" strike="noStrike">
                <a:solidFill>
                  <a:srgbClr val="336699"/>
                </a:solidFill>
                <a:latin typeface="Arial"/>
              </a:rPr>
              <a:t>internacional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6840" y="1932120"/>
            <a:ext cx="37544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re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901-1903 la crisis, de extensión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nternacional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azotó a Rusia, que para entonces había alcanzado cierto grado de industrialización. Se sucedieron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anifestacion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uelg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especialmente en la región de Bakú (en la imagen), rica 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zos de petróle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inestabilidad se prolongó durante todo 190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4222800" y="1292400"/>
            <a:ext cx="4468680" cy="48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731880"/>
            <a:ext cx="83152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6699"/>
                </a:solidFill>
                <a:latin typeface="Arial"/>
              </a:rPr>
              <a:t>Domingo Sangriento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6840" y="1600200"/>
            <a:ext cx="4381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l hecho que desencadenó el proceso revolucionario ocurrió el 9 de enero de 1905, cuando una muchedumbre (200.000 personas), desarmada, compuesta por obreros, campesinos, mujeres y niños, dirigida por el pope (sacerdote) Gapón, se encaminó hacia el Palacio de Invierno, residencia del Zar en San Petersburg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etendía hacerle llegar una serie de peticiones: convocatoria de una asamblea constituyente, mejoras salariales, jornada de ocho horas, libertad de sindicación, etc.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or respuesta obtuvieron una violenta represión que se saldó con más de mil manifestantes muertos. Este acontecimiento ha pasado a la historia con el nombre de 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Domingo Sangr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C:\Documents and Settings\Usuario\Escritorio\historia mundo contemporaneo\HM1_U3\HM1_U3_T5\imagenes\Bloody_sunday.jpg"/>
          <p:cNvPicPr/>
          <p:nvPr/>
        </p:nvPicPr>
        <p:blipFill>
          <a:blip r:embed="rId1"/>
          <a:stretch/>
        </p:blipFill>
        <p:spPr>
          <a:xfrm>
            <a:off x="4797360" y="1486080"/>
            <a:ext cx="4181400" cy="44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18:25:37Z</dcterms:created>
  <dc:creator>pc</dc:creator>
  <dc:description/>
  <dc:language>en-US</dc:language>
  <cp:lastModifiedBy>Mariano</cp:lastModifiedBy>
  <dcterms:modified xsi:type="dcterms:W3CDTF">2009-06-26T16:45:34Z</dcterms:modified>
  <cp:revision>31</cp:revision>
  <dc:subject/>
  <dc:title>Diapositiva 1</dc:title>
</cp:coreProperties>
</file>