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fondo_horizontal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11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Planeta Tierra. Nuestro ento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6" descr="fondo_vertical_2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7" descr="logo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Line 18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0" descr="Ed_Permanente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1560" y="742680"/>
            <a:ext cx="835956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Planeta Tierra</a:t>
            </a: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: nuestro entorno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1467000" y="1890720"/>
            <a:ext cx="6210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estro sistema global: Planeta Tier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acciones en lo sub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mbios en el tiempo: breve historia del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Y cómo lo sabemos? Instrumentos y métodos de est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ra a tu alrededor. El medio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6148440" y="1790640"/>
            <a:ext cx="2295360" cy="19893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7f7f7f">
                <a:alpha val="50000"/>
              </a:srgbClr>
            </a:outerShdw>
          </a:effectLst>
        </p:spPr>
      </p:pic>
      <p:sp>
        <p:nvSpPr>
          <p:cNvPr id="49" name="Rectangle 4"/>
          <p:cNvSpPr/>
          <p:nvPr/>
        </p:nvSpPr>
        <p:spPr>
          <a:xfrm>
            <a:off x="331920" y="743040"/>
            <a:ext cx="8359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5392800" y="4294080"/>
            <a:ext cx="3073320" cy="2048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Nuestro sistema global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52" name="3 Marcador de contenido" descr="ap1_capas.jpg"/>
          <p:cNvPicPr/>
          <p:nvPr/>
        </p:nvPicPr>
        <p:blipFill>
          <a:blip r:embed="rId1"/>
          <a:stretch/>
        </p:blipFill>
        <p:spPr>
          <a:xfrm>
            <a:off x="1009800" y="1728720"/>
            <a:ext cx="7124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Aprendiendo sobre sistema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: conjunto de elementos que interaccionan entre sí y forman un todo coherente. Pueden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bie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er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isl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ímites definidos entre elementos o difusos (interf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piedades emergentes: surgen de la interacción de los elementos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ierra es un sistema abierto formado por cuatro subsistemas que interaccionan entre s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2749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Breve historia del mund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56" name="6 Marcador de contenido" descr="crono.jpg"/>
          <p:cNvPicPr/>
          <p:nvPr/>
        </p:nvPicPr>
        <p:blipFill>
          <a:blip r:embed="rId1"/>
          <a:stretch/>
        </p:blipFill>
        <p:spPr>
          <a:xfrm>
            <a:off x="4084560" y="679320"/>
            <a:ext cx="4092480" cy="585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ierra tiene más de 4500 Millones de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en este tiempo ha sufrido numerosos cambios en todos los subsiste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humanidad es una incorporación rec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ser humano es actualmente un factor importante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6560" y="606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Instrumentos y métodos de estudio de la Tierra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a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47840" y="2276640"/>
            <a:ext cx="464184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tiva: sin fecha concreta. P.e. disposición de estr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soluta: con fecha concreta. P.e. métodos radiométr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640" y="44445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ledet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1040" y="5195880"/>
            <a:ext cx="8369280" cy="12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mágenes enviadas por satélite con distribución de diversos factores: temperaturas, grado de humedad del suelo, grado de insolación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9 Imagen" descr="ap4_graficos_isotopos.gif"/>
          <p:cNvPicPr/>
          <p:nvPr/>
        </p:nvPicPr>
        <p:blipFill>
          <a:blip r:embed="rId1"/>
          <a:stretch/>
        </p:blipFill>
        <p:spPr>
          <a:xfrm>
            <a:off x="4951440" y="2170080"/>
            <a:ext cx="41925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Medio ambient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edio ambie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ntorno que afecta y condiciona las circunstancias de vida de las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curs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aquello que utilizamos para satisfacer nuestras necesida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novables: según su uso, podrían ser inago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renovables: no se pueden repo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Impactos ambient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modificaciones positivas o negativas sobre medio ambiente debidas a actividades hum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esiduo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estos sin uso de las actividades huma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ntamin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alteración del medio causadas por los residu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Alberto</cp:lastModifiedBy>
  <dcterms:modified xsi:type="dcterms:W3CDTF">2011-09-10T15:50:57Z</dcterms:modified>
  <cp:revision>36</cp:revision>
  <dc:subject/>
  <dc:title>Diapositiva 1</dc:title>
</cp:coreProperties>
</file>