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0360" cy="124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0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0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0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67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59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0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0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0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0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9040" y="371520"/>
            <a:ext cx="8305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0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0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0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0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33342" t="16329" r="27525" b="0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400720" y="6583320"/>
            <a:ext cx="374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336699"/>
                </a:solidFill>
                <a:latin typeface="Trebuchet MS"/>
              </a:rPr>
              <a:t>Juguemos a Econom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19040" y="596880"/>
            <a:ext cx="8612280" cy="144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7280" y="1062000"/>
            <a:ext cx="8825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Ordenamos y mejoramos la información:</a:t>
            </a: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Juguemos a Economista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05960" y="5675040"/>
            <a:ext cx="51627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gramación Lin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708360" y="2378160"/>
            <a:ext cx="5075280" cy="306684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808080">
                <a:alpha val="85000"/>
              </a:srgbClr>
            </a:outerShdw>
          </a:effectLst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403280" y="1403280"/>
            <a:ext cx="3865680" cy="30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 problema de programación lineal consiste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ptimizar F(x,y)=ax+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función objetiv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jeto a unas restriccio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ES" sz="1800" spc="-1" strike="noStrike" baseline="-33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+b</a:t>
            </a:r>
            <a:r>
              <a:rPr b="1" lang="es-ES" sz="1800" spc="-1" strike="noStrike" baseline="-33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≤ c</a:t>
            </a:r>
            <a:r>
              <a:rPr b="1" lang="es-ES" sz="18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ES" sz="18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+b</a:t>
            </a:r>
            <a:r>
              <a:rPr b="1" lang="es-ES" sz="18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≤ c</a:t>
            </a:r>
            <a:r>
              <a:rPr b="1" lang="es-ES" sz="18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s-ES" sz="18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x+b</a:t>
            </a:r>
            <a:r>
              <a:rPr b="1" lang="es-ES" sz="18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y ≤ c</a:t>
            </a:r>
            <a:r>
              <a:rPr b="1" lang="es-ES" sz="18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932360" y="1967040"/>
            <a:ext cx="3060720" cy="408132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808080">
                <a:alpha val="80000"/>
              </a:srgbClr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025640" y="971640"/>
            <a:ext cx="7326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 solución de un problema de programación lineal se encuentra en una región polig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sta región viene determinada por la intersección de todas las restricciones de nuestro problema y se le denomin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región factibl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862360" y="2879640"/>
            <a:ext cx="3419280" cy="3017880"/>
          </a:xfrm>
          <a:prstGeom prst="rect">
            <a:avLst/>
          </a:prstGeom>
          <a:ln w="18000">
            <a:solidFill>
              <a:srgbClr val="000000"/>
            </a:solidFill>
            <a:round/>
          </a:ln>
          <a:effectLst>
            <a:outerShdw dist="101823" dir="2700000" blurRad="0" rotWithShape="0">
              <a:srgbClr val="808080">
                <a:alpha val="90000"/>
              </a:srgbClr>
            </a:outerShdw>
          </a:effectLst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00000" y="792000"/>
            <a:ext cx="3600720" cy="51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 región factible puede ser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cotada o no acotad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i la región es acotada el problema siempre tiene solu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i no es acotada puede que no tenga solu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205240" y="1620720"/>
            <a:ext cx="2448000" cy="2278080"/>
          </a:xfrm>
          <a:prstGeom prst="rect">
            <a:avLst/>
          </a:prstGeom>
          <a:ln w="18000">
            <a:solidFill>
              <a:srgbClr val="000000"/>
            </a:solidFill>
            <a:round/>
          </a:ln>
          <a:effectLst>
            <a:outerShdw dist="101823" dir="2700000" blurRad="0" rotWithShape="0">
              <a:srgbClr val="808080">
                <a:alpha val="80000"/>
              </a:srgbClr>
            </a:outerShdw>
          </a:effectLst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205240" y="4211640"/>
            <a:ext cx="2448000" cy="2004840"/>
          </a:xfrm>
          <a:prstGeom prst="rect">
            <a:avLst/>
          </a:prstGeom>
          <a:ln w="18000">
            <a:solidFill>
              <a:srgbClr val="000000"/>
            </a:solidFill>
            <a:round/>
          </a:ln>
          <a:effectLst>
            <a:outerShdw dist="101823" dir="2700000" blurRad="0" rotWithShape="0">
              <a:srgbClr val="808080">
                <a:alpha val="80000"/>
              </a:srgbClr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00000" y="971640"/>
            <a:ext cx="4140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 región factible puede s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Discreta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ólo puede tomar valores ente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ontinua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uede tomar cualquier valor dentro de la reg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61120" y="1116000"/>
            <a:ext cx="2406600" cy="2087640"/>
          </a:xfrm>
          <a:prstGeom prst="rect">
            <a:avLst/>
          </a:prstGeom>
          <a:ln w="18000">
            <a:solidFill>
              <a:srgbClr val="000000"/>
            </a:solidFill>
            <a:round/>
          </a:ln>
          <a:effectLst>
            <a:outerShdw dist="101823" dir="2700000" blurRad="0" rotWithShape="0">
              <a:srgbClr val="808080">
                <a:alpha val="80000"/>
              </a:srgbClr>
            </a:outerShdw>
          </a:effectLst>
        </p:spPr>
      </p:pic>
      <p:pic>
        <p:nvPicPr>
          <p:cNvPr id="65" name="" descr=""/>
          <p:cNvPicPr/>
          <p:nvPr/>
        </p:nvPicPr>
        <p:blipFill>
          <a:blip r:embed="rId2"/>
          <a:srcRect l="19969" t="0" r="14973" b="35260"/>
          <a:stretch/>
        </p:blipFill>
        <p:spPr>
          <a:xfrm>
            <a:off x="5062680" y="3745080"/>
            <a:ext cx="3001680" cy="1800000"/>
          </a:xfrm>
          <a:prstGeom prst="rect">
            <a:avLst/>
          </a:prstGeom>
          <a:ln w="18000">
            <a:solidFill>
              <a:srgbClr val="000000"/>
            </a:solidFill>
            <a:round/>
          </a:ln>
          <a:effectLst>
            <a:outerShdw dist="101823" dir="2700000" blurRad="0" rotWithShape="0">
              <a:srgbClr val="808080">
                <a:alpha val="80000"/>
              </a:srgbClr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00000" y="971640"/>
            <a:ext cx="73803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 solución para un problema de programación lineal, si existe, siempre se alcanzan en los vértices de la región fact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62240" y="2519280"/>
            <a:ext cx="4618080" cy="3130560"/>
          </a:xfrm>
          <a:prstGeom prst="rect">
            <a:avLst/>
          </a:prstGeom>
          <a:ln w="18000">
            <a:solidFill>
              <a:srgbClr val="000000"/>
            </a:solidFill>
            <a:round/>
          </a:ln>
          <a:effectLst>
            <a:outerShdw dist="101823" dir="2700000" blurRad="0" rotWithShape="0">
              <a:srgbClr val="808080">
                <a:alpha val="90000"/>
              </a:srgbClr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00000" y="971640"/>
            <a:ext cx="774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i el valor óptimo se alcanza en dos de los vértices de la región factible C y D, entonces también son solución todos los puntos del segmento CD, es decir, el correspondiente a un lado de la región fact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806560" y="2543040"/>
            <a:ext cx="3532320" cy="3132360"/>
          </a:xfrm>
          <a:prstGeom prst="rect">
            <a:avLst/>
          </a:prstGeom>
          <a:ln w="18000">
            <a:solidFill>
              <a:srgbClr val="000000"/>
            </a:solidFill>
            <a:round/>
          </a:ln>
          <a:effectLst>
            <a:outerShdw dist="101823" dir="2700000" blurRad="0" rotWithShape="0">
              <a:srgbClr val="808080">
                <a:alpha val="8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8:25:37Z</dcterms:created>
  <dc:creator>pc</dc:creator>
  <dc:description/>
  <dc:language>en-US</dc:language>
  <cp:lastModifiedBy>Rafa</cp:lastModifiedBy>
  <dcterms:modified xsi:type="dcterms:W3CDTF">2010-06-14T10:13:26Z</dcterms:modified>
  <cp:revision>23</cp:revision>
  <dc:subject/>
  <dc:title>Diapositiva 1</dc:title>
</cp:coreProperties>
</file>