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071A-D67E-4E74-8612-8B25D8776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4D1D-66C9-4185-82DF-0D86D710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50F7-476F-4324-9384-11DF383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0775-9962-4997-A738-35F2BFA2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298A-DF7D-43BE-82FD-05547AB7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B279-2DC3-442C-ADCC-179F6ED4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1E9B-E26C-464B-8610-CCCA0C73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CA88-E583-4288-9833-5ADFAE5B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03AF-DB7B-45F7-9E20-F2EAC8D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9807-2C51-41C2-950B-B74C627B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C98C-5E4C-4C68-9BFB-11CC509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77F4-5FEF-4A40-B25C-5114019B7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405AF-8D34-4AF8-BE29-452A979954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5C760-474D-4F49-82E1-3E3AEFBB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7E32-DAC7-4360-9CBF-29423A64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DBE9C-BC7F-4B9B-A0E3-E58AE534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F9D7E-37BA-46FD-835C-74F33FB6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A754C-002E-4057-BF37-390950C7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E8ED9-3347-436B-B433-2CDD912B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A745B-2944-4962-9E07-FA50C71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3B2AF-21BA-4262-BC74-0526E1C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8AB2E-3C79-4029-8D3A-D606BDA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DE024-631B-404C-964C-F041AB79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8F57-15E6-4147-87C6-0AA3964FF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71880" y="6524640"/>
            <a:ext cx="6072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El nacimiento de la lírica moderna y la renovación del tea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065F-BC5E-4690-BD18-FA4A01BCCBBE}" type="slidenum">
              <a:rPr b="0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8CB-D609-4357-B85A-0D7EFDC510F6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8786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200" spc="-1" strike="noStrike">
                <a:solidFill>
                  <a:srgbClr val="336699"/>
                </a:solidFill>
                <a:latin typeface="Arial"/>
              </a:rPr>
              <a:t>La literatura en la segunda mitad del Siglo XIX:</a:t>
            </a:r>
            <a:br>
              <a:rPr sz="4200"/>
            </a:br>
            <a:r>
              <a:rPr b="1" lang="es-ES" sz="4200" spc="-1" strike="noStrike">
                <a:solidFill>
                  <a:srgbClr val="336699"/>
                </a:solidFill>
                <a:latin typeface="Arial"/>
              </a:rPr>
              <a:t>El nacimiento de la lírica moderna y la renovación del teatro</a:t>
            </a:r>
            <a:endParaRPr b="1" lang="en-US" sz="4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Charles Baudelaire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arles Baudelai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reador de la lírica mode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su único libro de poesía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s flores del m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ublicado en 1857, desencadenó un escándalo al ser acusado de inmor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 su poesía: reflejo de la vida urbana, incorporación del lenguaje cotidiano y apertura a temas como la angustia, el tedio y el ansia de evas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ilo: aúna la libertad expresiva, incluso hasta llegar a lo desagradable y lo soez, con un exquisito cuidado de la for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Parnasianismo y simbolism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nasian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ende el "arte por el arte“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bol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cibe la poesía como una forma de conocimient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téphane Mallarmé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intentó alcanzar la belleza absoluta mediante la lucha contra las limitaciones del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ul Verlain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oeta musical e inti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hur Rimbau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nticipa direcciones de la poesía moderna como la metáfora visionaria, el verso libre y la rebeldía contra todas las no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a poesía norteamerican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dgar Allan Po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primer gran poeta norteameric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alt Whitm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libertad métrica, individualismo, canto a la democracia y al hombre comú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mily Dickins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poesía de versos cortos, expresión lacónica e intenso simb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La renovación del teatro europeo I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eatro de finales del siglo XIX indaga en los problemas existenciales y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nrik Ibs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ra de tipo naturalista y de gran penetración psicológica; temas como la marginación de la mujer, la hipocresía social o la mediocridad de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gust Strindberg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ursor de la estética expresionista, caracterizada por el dominio de lo emotivo y lo irracional; su obra es una meditación sobre el conflicto en las relaciones humanas, marcadas por las imposiciones sociales y famili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La renovación del teatro europeo II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on Chejov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scribe desde una perspectiva realista, en la que ironía y la melancolía se combinan para trazar un retrato crítico de la soci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scar Wil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scoge la vía del ingenio y el esteticismo para criticar a la alta soci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scritor de ideas progresistas, obtuvo fama con obras como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igmal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58:18Z</dcterms:created>
  <dc:creator>leticia</dc:creator>
  <dc:description/>
  <dc:language>en-US</dc:language>
  <cp:lastModifiedBy> </cp:lastModifiedBy>
  <dcterms:modified xsi:type="dcterms:W3CDTF">2010-12-21T09:36:54Z</dcterms:modified>
  <cp:revision>19</cp:revision>
  <dc:subject/>
  <dc:title>Tema 3. El nacimiento de la lírica moderna y la renovación del teatro</dc:title>
</cp:coreProperties>
</file>