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806830D-0806-4B90-9D94-ADDF6B79AA8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F1839F8-FD9A-47BF-97FF-D397E016C79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B5C9635-E310-4FED-B7C9-F0A9E5C92DD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6E6E7EE-3162-4394-B9DF-79742F8C663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D509725-89A8-4CCE-94F2-5175AFE24BC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739D84A-D2DB-483D-9BE3-03C940BA6AE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C6CB87B-16A0-405B-B119-F796D0E4F2E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E0140BE-63CD-44EB-9C07-AA1A5896679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3882EB7-67C3-4979-9121-EAF60F484FC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1E5668E-A2AE-448D-AD96-85A07AD2830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C0576DD-0F89-4CDD-AE03-63DEE60A0EA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B35EB7C-1134-430B-9C37-E044D1EEF40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A6AF702-4D6D-4584-B58C-07C77EC37FC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1D5F-A5AE-43DF-A198-EDF5AEE45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8326-80DA-4FE0-B30D-869D2B4C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7BFF-64DC-49B1-A5B1-152D336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9174-25E7-435E-89C2-E6C5040EA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B12A-8DA3-4A19-815D-85887D22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32FA-D697-443C-9E35-0D5193C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34B3-ABC8-4071-9B8F-C7569DE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3255-C48E-437A-9036-23646753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BE9E-25CD-41DB-81B1-51503F6A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A275-6ED3-42FF-B0A7-9F8B1C4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C35A-541D-47B4-9128-3EBEF39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9C23-03EC-4792-B194-4C24AB2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E56B0D-2CBD-4F75-98A4-DCAA9A2892BD}" type="slidenum">
              <a:rPr b="0" lang="en-U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6583320"/>
            <a:ext cx="637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Empleamos el idioma como instrumento de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omunicación y lenguaje II: 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14240" y="242892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 imprescindible para convivir en una soc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ede s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Oral. Espontane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scrita. Mayor grado de forma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39640" y="1916280"/>
            <a:ext cx="78487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municación 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Depende de los siguientes factor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a) Zona geográfica (</a:t>
            </a: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dialectos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), que ocasionan diferencias d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Enton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Realización de los sonid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Léxic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b) Factores sociales (</a:t>
            </a: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sociolectos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), que dependen d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E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Sex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- Nivel cultur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) Situación de comunicación: (</a:t>
            </a: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registros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d) Factores individuales: (</a:t>
            </a: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idiolecto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55640" y="2637000"/>
            <a:ext cx="77868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rma lingüí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glas que aseguran la unidad de un idi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stablecidas por la Real Academia de la Lengua (R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a RAE es la institución que regula en España las normas de uso lingüís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395280" y="2708280"/>
            <a:ext cx="8143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coexistencia de más de una lengua en un país origina dos fenóme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Bilingüism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. Empleo de dos lenguas de forma indistinta y en las mismas condiciones de igual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glosi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. Predominio de una de las lenguas sobre la ot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11280" y="1773360"/>
            <a:ext cx="817236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iversidad lingüística de Españ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Lengu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a) Oficial en todo el Estado: español o castella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b) Oficiales en sus respectivas comunidades autónom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Catalá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Galleg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Vasco o eusker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Valenciano (nombre del catalán en la comunidad valencian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) No oficiales: aragonés y astur-leoné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nstantia"/>
              </a:rPr>
              <a:t>Dialectos del castellan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Modernos: andaluz y canari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cccc00"/>
              </a:buClr>
              <a:buFont typeface="Constanti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  <a:ea typeface="MS Gothic"/>
              </a:rPr>
              <a:t>De transición: extremeño y murcia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mpleamos el idioma como instrumento de comunicació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domus</cp:lastModifiedBy>
  <dcterms:modified xsi:type="dcterms:W3CDTF">2010-08-11T14:51:16Z</dcterms:modified>
  <cp:revision>13</cp:revision>
  <dc:subject/>
  <dc:title>Tema 1. La actividad económica</dc:title>
</cp:coreProperties>
</file>