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4D5E-0555-4244-9771-4D31925931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F6D8-747C-4207-8975-8815C67E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A9D9-FE4D-40C4-9E62-4D46FDC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A3EA-764B-4924-B67F-63548FBEC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EE5E-21CB-4939-A159-BB7AC87D0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DD334-CF3F-445D-A102-C7BA77CF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D6170-298F-4DB7-84CF-6C233AE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930D1-124D-482B-BE7F-055E25A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2316E-B84C-4128-9BAA-2260CC7E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33B3B-0E94-4199-A658-677EEA8E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5109E-ABEF-4862-9737-2201432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BC25-DE1D-4A35-89D6-7324092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1B981-B017-41C3-9685-B87621D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D6A2C-2EA2-457B-B767-61F1B371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5B43E-E348-4E92-912B-7760C4F9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3476C-4D0B-4090-A445-4987BAB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18E4C-7ACF-416F-85A0-12A639406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3764-F109-4BBF-BBCF-A75460C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4D61-046D-47BE-91BD-3C83AB3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C3D0-0BEC-478B-A1E5-ECEF1E95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CCA7-B5E6-420C-B8CC-50ECA5FE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6A72-C80B-4F47-ADA5-614C02AB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1E22-6EF1-445A-B720-51636B4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0A5D-341F-49C7-B7E4-09A37DB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F34FB8-91D9-4B9E-8980-3895C6F917A6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279360" y="6492960"/>
            <a:ext cx="86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444d26"/>
                </a:solidFill>
                <a:latin typeface="Arial"/>
                <a:ea typeface="Arial"/>
              </a:rPr>
              <a:t>TEMA 1. Estructura interna y propie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FE0CDE-F91F-43B4-A621-40BDB74D802C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Estructura interna y prop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mediateca.educa.madrid.org/imagen/ver.php?id_imagen=4ilx8m3u21wpdp5m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commons.wikimedia.org/wiki/File:Quartz_Crystal.jpg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teca.educa.madrid.org/imagen/ver.php?id_imagen=syesigqlhiyaupbe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upload.wikimedia.org/wikipedia/commons/f/f4/Redes_de_Bravais.png" TargetMode="Externa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033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ateriales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structura interna y propiedad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341360"/>
            <a:ext cx="4176720" cy="100656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. Sólidos cristalinos. Tipos de cris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. Redes cristalin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dos al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. Ale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. Problemas resuel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1341360"/>
            <a:ext cx="36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formas en que puede solidificar un material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5884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ólido amor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5884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ólido cristal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862960" y="4797360"/>
            <a:ext cx="2331000" cy="1382040"/>
            <a:chOff x="5862960" y="4797360"/>
            <a:chExt cx="2331000" cy="138204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6083280" y="4797360"/>
              <a:ext cx="17146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862960" y="5948280"/>
              <a:ext cx="233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2. </a:t>
              </a:r>
              <a:r>
                <a:rPr b="0" lang="es-ES" sz="9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4"/>
                </a:rPr>
                <a:t>Mediatec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Creative Common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58880" y="5732640"/>
              <a:ext cx="144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ÓPALO, sólido amor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999320" y="2492280"/>
            <a:ext cx="2331000" cy="2102760"/>
            <a:chOff x="4999320" y="2492280"/>
            <a:chExt cx="2331000" cy="2102760"/>
          </a:xfrm>
        </p:grpSpPr>
        <p:grpSp>
          <p:nvGrpSpPr>
            <p:cNvPr id="149" name=""/>
            <p:cNvGrpSpPr/>
            <p:nvPr/>
          </p:nvGrpSpPr>
          <p:grpSpPr>
            <a:xfrm>
              <a:off x="4999320" y="2563920"/>
              <a:ext cx="2331000" cy="2031120"/>
              <a:chOff x="4999320" y="2563920"/>
              <a:chExt cx="2331000" cy="20311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5"/>
              <a:srcRect l="10287" t="0" r="25133" b="0"/>
              <a:stretch/>
            </p:blipFill>
            <p:spPr>
              <a:xfrm>
                <a:off x="5291280" y="2563920"/>
                <a:ext cx="173484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4999320" y="4363920"/>
                <a:ext cx="2331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agen 1. </a:t>
                </a:r>
                <a:r>
                  <a:rPr b="0" lang="es-ES" sz="9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6"/>
                  </a:rPr>
                  <a:t>Wikimedia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 Creative Commons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5297400" y="2492280"/>
              <a:ext cx="164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ARZO, sólido cristali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68360" y="472428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 indent="-258480">
              <a:lnSpc>
                <a:spcPct val="100000"/>
              </a:lnSpc>
              <a:tabLst>
                <a:tab algn="l" pos="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ristalización depende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58480">
              <a:lnSpc>
                <a:spcPct val="100000"/>
              </a:lnSpc>
              <a:tabLst>
                <a:tab algn="l" pos="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omposición 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emperatura y pre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pacio y 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981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Sólidos cristalinos. Tipos de cri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4221000"/>
            <a:ext cx="38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 general los sólidos de la naturaleza son cristalinos lo que implica que los iones, átomos o moléculas que los constituyen se ordenan geométricamente en el espac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0" y="3789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605454"/>
                </a:solidFill>
                <a:latin typeface="Arial"/>
                <a:ea typeface="Arial"/>
              </a:rPr>
              <a:t>2. Redes crist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1700280"/>
            <a:ext cx="28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n sólido cristalino es aquél que tiene una estructura periódica y ordenada, que se expande en las tres direcciones del espac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60360" y="537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redes cristalinas se caracterizan fundamentalmente por un orden o periodic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1120" y="1557360"/>
            <a:ext cx="2344320" cy="1648800"/>
            <a:chOff x="321120" y="1557360"/>
            <a:chExt cx="2344320" cy="1648800"/>
          </a:xfrm>
        </p:grpSpPr>
        <p:sp>
          <p:nvSpPr>
            <p:cNvPr id="160" name=""/>
            <p:cNvSpPr/>
            <p:nvPr/>
          </p:nvSpPr>
          <p:spPr>
            <a:xfrm>
              <a:off x="321120" y="2975040"/>
              <a:ext cx="233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3. </a:t>
              </a:r>
              <a:r>
                <a:rPr b="0" lang="es-ES" sz="9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1"/>
                </a:rPr>
                <a:t>Mediatec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Creative Common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80960" y="1557360"/>
              <a:ext cx="2184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0400" y="163188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07000" y="981000"/>
            <a:ext cx="3422880" cy="5271480"/>
            <a:chOff x="5607000" y="981000"/>
            <a:chExt cx="3422880" cy="5271480"/>
          </a:xfrm>
        </p:grpSpPr>
        <p:pic>
          <p:nvPicPr>
            <p:cNvPr id="164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607000" y="981000"/>
              <a:ext cx="34228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223320" y="6021360"/>
              <a:ext cx="233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4. </a:t>
              </a:r>
              <a:r>
                <a:rPr b="0" lang="es-ES" sz="9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4"/>
                </a:rPr>
                <a:t>Wikimedi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Creative Common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981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Estados Alotró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581360"/>
            <a:ext cx="475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lamamos aleación a la mezcla homogénea en estado fundido de un metal con, al menos, otro elemento, que puede ser metálico o no, pero el producto final obtenido debe presentar características metálic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076640"/>
            <a:ext cx="74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605454"/>
                </a:solidFill>
                <a:latin typeface="Arial"/>
                <a:ea typeface="Arial"/>
              </a:rPr>
              <a:t>4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ción de las propiedades de los metales. Ale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484280"/>
            <a:ext cx="813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lgunos metales tienen la característica de que cambian de red de cristalización dependiendo de la temperatura a que se encuentren, entonces se dice que el metal es politrópico, y a cada uno de los sistemas en que cristaliza el metal se le llaman estados alotróp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421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 el hierro puro se distinguen cuatro estados alotróp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940360" y="2060640"/>
            <a:ext cx="2778120" cy="1815480"/>
            <a:chOff x="5940360" y="2060640"/>
            <a:chExt cx="2778120" cy="1815480"/>
          </a:xfrm>
        </p:grpSpPr>
        <p:grpSp>
          <p:nvGrpSpPr>
            <p:cNvPr id="172" name=""/>
            <p:cNvGrpSpPr/>
            <p:nvPr/>
          </p:nvGrpSpPr>
          <p:grpSpPr>
            <a:xfrm>
              <a:off x="5940360" y="2060640"/>
              <a:ext cx="2778120" cy="1815480"/>
              <a:chOff x="5940360" y="2060640"/>
              <a:chExt cx="2778120" cy="1815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8720" y="2060640"/>
                <a:ext cx="1409760" cy="140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0360" y="2060640"/>
                <a:ext cx="136224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6439320" y="3645000"/>
                <a:ext cx="1715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agen 5. Elaboración propia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157800" y="3357720"/>
              <a:ext cx="62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erro </a:t>
              </a:r>
              <a:r>
                <a:rPr b="1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960" y="3357720"/>
              <a:ext cx="61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erro </a:t>
              </a:r>
              <a:r>
                <a:rPr b="1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580000" y="4581360"/>
            <a:ext cx="2601360" cy="1815480"/>
            <a:chOff x="5580000" y="4581360"/>
            <a:chExt cx="2601360" cy="181548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5580000" y="4581360"/>
              <a:ext cx="20574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862960" y="6165720"/>
              <a:ext cx="1715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6. Elaboración propia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47640" y="5516640"/>
              <a:ext cx="1233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sólid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 sustitució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metal B en el 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domus</cp:lastModifiedBy>
  <dcterms:modified xsi:type="dcterms:W3CDTF">2010-07-26T06:24:01Z</dcterms:modified>
  <cp:revision>148</cp:revision>
  <dc:subject/>
  <dc:title>Diapositiva 1</dc:title>
</cp:coreProperties>
</file>