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72CEE255-C245-4B90-883C-5CF0C53CB31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E9C4AA2F-E254-4D3E-8F77-FEF700619D6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3868E7B2-6739-4801-8ECE-2FD8186C818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FFA403E1-F657-48D6-BC31-296BCA1AAE6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23ABC1BB-332F-4651-9262-F6D023BDB33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D7EDA112-57EB-49E1-BD82-E1940E4C092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161FC4E3-4D4F-4635-9B22-8C7A5C6A155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05453A85-9935-42E4-891E-75AFC368419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FB97B933-AC28-49C8-B2EB-97EB7A12C2A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CE252938-C919-4278-9369-266F0403F72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087D51CC-B1DE-441B-8D0D-8A5737BA7C7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1E63-398E-47C4-84CE-0F93AA61E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5D7C-1F5F-4350-A616-C195955B3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C0A5-12B0-42DA-8288-CDB5DA1C0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D159-6447-496E-8B11-DA91A0A62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FC7D-0063-4F74-9D1F-A11A58977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AA9B-2F3F-4BAB-B212-772DFC56B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D4CA-A398-427A-A992-5416F5236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2797-A769-4B5A-8B60-6D22FDF13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95DB-C108-4098-A0BC-6351229E0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53C0-4234-4C6A-839A-810503F3E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C606-70EF-4BAD-8B60-969F423B8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5812-43EA-4CA3-B9B2-38242C6F1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51C38-332A-4ED9-8C14-5B038BA88851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38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On the bus t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00360" y="1916280"/>
            <a:ext cx="45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Ireland: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On the bus t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6021360"/>
            <a:ext cx="3178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y Sam the sham and the photos, Creative Common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228600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The future with ‘will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989000"/>
            <a:ext cx="68832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I will surviv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tructu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 + will + infin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fteen Euros is a bit expensive, bu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antastic to visit all the main Dublin attra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f course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 will answ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ny question you might h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think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ou will enjo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e sightsee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The future with ‘going to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1916280"/>
            <a:ext cx="5951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aco is going to visit Dub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tructure: S + to be + going to + infin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ou are going to visi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ne of the most beautiful cities in Euro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 are going to se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e most important Dublin sites from the b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 am going to tel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ou about all of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tunately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t’s not going to r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98100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Differences between ‘will’ and ‘going to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1773360"/>
            <a:ext cx="6381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I’ll come with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2565360"/>
          <a:ext cx="6097320" cy="3868560"/>
        </p:xfrm>
        <a:graphic>
          <a:graphicData uri="http://schemas.openxmlformats.org/drawingml/2006/table">
            <a:tbl>
              <a:tblPr/>
              <a:tblGrid>
                <a:gridCol w="3048480"/>
                <a:gridCol w="30488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WI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GOING 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A 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An off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A prediction based on opin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A decision made at the moment of spea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A plan or int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A prediction based on what is happe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83664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Diphtho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85960" y="1773360"/>
            <a:ext cx="5500800" cy="41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ow 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908000" y="2852640"/>
          <a:ext cx="5713200" cy="3303360"/>
        </p:xfrm>
        <a:graphic>
          <a:graphicData uri="http://schemas.openxmlformats.org/drawingml/2006/table">
            <a:tbl>
              <a:tblPr/>
              <a:tblGrid>
                <a:gridCol w="2856960"/>
                <a:gridCol w="285624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/aʊ/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/əʊ/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with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h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do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go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k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h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MS Gothic"/>
                        </a:rPr>
                        <a:t>brok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/>
  <dcterms:modified xsi:type="dcterms:W3CDTF">2021-06-09T09:39:06Z</dcterms:modified>
  <cp:revision>29</cp:revision>
  <dc:subject/>
  <dc:title>Estudiamos las palabras invariables</dc:title>
</cp:coreProperties>
</file>