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21200" y="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91800" y="768240"/>
            <a:ext cx="5111640" cy="383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971856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2"/>
          </p:nvPr>
        </p:nvSpPr>
        <p:spPr>
          <a:xfrm>
            <a:off x="4020840" y="972144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172F4-7EEC-4994-916C-019D64DA4708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913D6-D0F8-40D3-A185-43CF57894737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B71D8-448D-4F30-AF9E-71B9E7EF552C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DF848-E3F1-4813-AF6C-E7FEAF440BD3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C9521F-D2C7-4044-83B5-AB3EFAD42C00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3A0BA-BB7B-4998-A4DD-8030344B72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DC3AB-0DA9-4B7D-9A6E-88CCAA837B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E931A-6883-420B-B25E-A628943299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5684A-7E41-4938-9915-F6F02C62C5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19040" y="371520"/>
            <a:ext cx="8313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F6E63-3F2B-408B-B3E2-FFF69B2F59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CF2CB-4AAE-4417-80CF-42332B6EA4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5D117-16DE-4CA5-A127-326FD81CC1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0D630-A03D-422A-B233-7F9DCADA0D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371520"/>
            <a:ext cx="8313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7000A-50CD-4DF8-81F4-F5C02C4531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F73CF-95AF-45FC-8602-E565CE5565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9D77D-C794-48EA-857E-F331C6A615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08C65-451D-481B-BC42-024FCA16C9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 rot="420000">
            <a:off x="3164040" y="1107000"/>
            <a:ext cx="5257800" cy="4114800"/>
          </a:xfrm>
          <a:prstGeom prst="pie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V="1" rot="420000">
            <a:off x="800064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V="1">
            <a:off x="-9000" y="5814000"/>
            <a:ext cx="9162720" cy="1041480"/>
          </a:xfrm>
          <a:prstGeom prst="pie">
            <a:avLst/>
          </a:prstGeom>
          <a:gradFill rotWithShape="0">
            <a:gsLst>
              <a:gs pos="0">
                <a:srgbClr val="ffc400"/>
              </a:gs>
              <a:gs pos="100000">
                <a:srgbClr val="bf782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4381560" y="6217560"/>
            <a:ext cx="4762440" cy="638280"/>
          </a:xfrm>
          <a:prstGeom prst="pie">
            <a:avLst/>
          </a:prstGeom>
          <a:gradFill rotWithShape="0">
            <a:gsLst>
              <a:gs pos="0">
                <a:srgbClr val="f4921f"/>
              </a:gs>
              <a:gs pos="100000">
                <a:srgbClr val="bf95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46240"/>
            <a:ext cx="8226360" cy="1598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8077320" y="6356160"/>
            <a:ext cx="6062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D1DA9-61B2-4E5A-99D6-6799D811970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33342" t="16329" r="27525" b="-7422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65833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Identificamos las unidades de la lengu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19040" y="596880"/>
            <a:ext cx="8612280" cy="144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rae.es/rae/gestores/gespub000015.nsf/(voanexos)/arch7E8694F9D6446133C12571640039A189/$FILE/Ortografia.pdf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95280" y="1241280"/>
            <a:ext cx="831528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  <a:ea typeface="Arial Unicode MS"/>
              </a:rPr>
              <a:t>Comunicación y lenguaje (I):</a:t>
            </a:r>
            <a:br>
              <a:rPr sz="4000"/>
            </a:br>
            <a:r>
              <a:rPr b="1" lang="es-ES" sz="4000" spc="-1" strike="noStrike">
                <a:solidFill>
                  <a:srgbClr val="336699"/>
                </a:solidFill>
                <a:latin typeface="Arial"/>
                <a:ea typeface="Arial Unicode MS"/>
              </a:rPr>
              <a:t>Identificamos las unidades de la lengu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1280" y="981000"/>
            <a:ext cx="822780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72000"/>
              </a:lnSpc>
              <a:spcBef>
                <a:spcPts val="82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Arial"/>
                <a:ea typeface="Arial Unicode MS"/>
              </a:rPr>
              <a:t>- Dos vocales que pertenecen a sílabas distintas: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72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Vocal abierta (a, e, o) + vocal cerrada (y al contrario): caída, María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72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Dos vocales abiertas: tarea, muse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72000"/>
              </a:lnSpc>
              <a:spcBef>
                <a:spcPts val="726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72000"/>
              </a:lnSpc>
              <a:spcBef>
                <a:spcPts val="82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Arial"/>
                <a:ea typeface="Arial Unicode MS"/>
              </a:rPr>
              <a:t>- ¿Cuándo se acentúan?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72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Vocal abierta + cerrada: Si el acento recae sobre la vocal cerrada se acentúa siempr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72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Dos vocales abiertas: Siguen siempre las reglas de acentuación general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72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9640" y="1268280"/>
            <a:ext cx="532764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2000"/>
              </a:lnSpc>
              <a:spcBef>
                <a:spcPts val="924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3700" spc="-1" strike="noStrike">
                <a:solidFill>
                  <a:srgbClr val="000000"/>
                </a:solidFill>
                <a:latin typeface="Arial"/>
                <a:ea typeface="Arial Unicode MS"/>
              </a:rPr>
              <a:t>Triptongo: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82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- Unión de tres vocales en l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82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misma sílab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82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82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- Siguen esta estructura: vocal cerrada + vocal abierta + vocal cerr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82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82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- La tilde debe ir siempre sobre la vocal abier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929200" y="1571760"/>
          <a:ext cx="2548080" cy="2762280"/>
        </p:xfrm>
        <a:graphic>
          <a:graphicData uri="http://schemas.openxmlformats.org/drawingml/2006/table">
            <a:tbl>
              <a:tblPr/>
              <a:tblGrid>
                <a:gridCol w="2548080"/>
              </a:tblGrid>
              <a:tr h="181584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6440">
                <a:tc>
                  <a:txBody>
                    <a:bodyPr lIns="90000" rIns="90000" tIns="59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aboración propia. Cedido los derechos a la Consejería de Educación de la Junta de Extremadu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286680" y="1714680"/>
            <a:ext cx="1817640" cy="15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924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3700" spc="-1" strike="noStrike">
                <a:solidFill>
                  <a:srgbClr val="000000"/>
                </a:solidFill>
                <a:latin typeface="Arial"/>
                <a:ea typeface="Arial Unicode MS"/>
              </a:rPr>
              <a:t>Unidades mínimas de la lengua: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- Fone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- Soni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- Grafí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9640" y="981000"/>
            <a:ext cx="822816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72000"/>
              </a:lnSpc>
              <a:spcBef>
                <a:spcPts val="774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Arial"/>
                <a:ea typeface="Arial Unicode MS"/>
              </a:rPr>
              <a:t>Fonema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72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72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- Representación mental del son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72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72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- Pertenecen a la lengu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72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72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- Se escriben entre barras /p/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72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72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- Su estudio corresponde a l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fonologí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72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72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- En español hay un total de 24 fonemas (19 consonánticos y 5 vocálico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07920"/>
            <a:ext cx="82278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924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3700" spc="-1" strike="noStrike">
                <a:solidFill>
                  <a:srgbClr val="000000"/>
                </a:solidFill>
                <a:latin typeface="Arial"/>
                <a:ea typeface="Arial Unicode MS"/>
              </a:rPr>
              <a:t>Sonidos: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- Realización física del fonema en el hab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- Se escriben entre corchetes [p]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- De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su estudio se ocupa la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Fonétic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4360" y="981000"/>
            <a:ext cx="78580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2000"/>
              </a:lnSpc>
              <a:spcBef>
                <a:spcPts val="8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Arial"/>
                <a:ea typeface="Arial Unicode MS"/>
              </a:rPr>
              <a:t>Grafías (letras)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- Se emplean para escribir los soni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- Pertenecen a la lengua escri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- La ciencia que las estudia es la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Ortografí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Arial"/>
                <a:ea typeface="Arial Unicode MS"/>
                <a:hlinkClick r:id="rId1"/>
              </a:rPr>
              <a:t>Ortografía de la RA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- En castellano se emplean 29 grafí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9640" y="1341360"/>
            <a:ext cx="5400720" cy="45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1640">
              <a:lnSpc>
                <a:spcPct val="82000"/>
              </a:lnSpc>
              <a:spcBef>
                <a:spcPts val="8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Arial"/>
                <a:ea typeface="Arial Unicode MS"/>
              </a:rPr>
              <a:t>Rasgos suprasegmental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-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Acento: es el golpe de voz que reca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sobre la sílaba (tónica). La sílaba si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acento se denomina áton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- Entonación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- Sirve para diferenciar significados en la lengua ora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- Se representa mediante curvas melódicas: ascendente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2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descendente, en suspensió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072120" y="1714680"/>
          <a:ext cx="2905200" cy="3670200"/>
        </p:xfrm>
        <a:graphic>
          <a:graphicData uri="http://schemas.openxmlformats.org/drawingml/2006/table">
            <a:tbl>
              <a:tblPr/>
              <a:tblGrid>
                <a:gridCol w="2905200"/>
              </a:tblGrid>
              <a:tr h="278424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9e35d"/>
                    </a:solidFill>
                  </a:tcPr>
                </a:tc>
              </a:tr>
              <a:tr h="885960"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aboración propia. Cedido los derechos a la Consejería de Educación de la Junta de Extremadura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35d"/>
                    </a:solidFill>
                  </a:tcPr>
                </a:tc>
              </a:tr>
            </a:tbl>
          </a:graphicData>
        </a:graphic>
      </p:graphicFrame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286680" y="1857240"/>
            <a:ext cx="2449440" cy="25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11280" y="1746360"/>
            <a:ext cx="831528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  <a:ea typeface="Arial Unicode MS"/>
              </a:rPr>
              <a:t>Con acento, sí. Pero… ¿con tilde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1280" y="1052640"/>
            <a:ext cx="813744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924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3700" spc="-1" strike="noStrike">
                <a:solidFill>
                  <a:srgbClr val="000000"/>
                </a:solidFill>
                <a:latin typeface="Arial"/>
                <a:ea typeface="Arial Unicode MS"/>
              </a:rPr>
              <a:t>Acento y tilde: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924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37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- Golpe de voz que recae sobre u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determinada sílaba (tónic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- Tilde: símbolo gráfico que han de llev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algunas palabras según las reglas 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44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acentu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71640" y="1125360"/>
            <a:ext cx="7574040" cy="43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2000"/>
              </a:lnSpc>
              <a:spcBef>
                <a:spcPts val="924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3700" spc="-1" strike="noStrike">
                <a:solidFill>
                  <a:srgbClr val="000000"/>
                </a:solidFill>
                <a:latin typeface="Arial"/>
                <a:ea typeface="Arial Unicode MS"/>
              </a:rPr>
              <a:t>Diptongo: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2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2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-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e unen dos vocales en la misma sílab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2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Dos vocales cerradas (i, u): ciudad, cuid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2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Una vocal cerrada (i, u) + una vocal abierta (a) o semiabierta (e, o): cuenta, cie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92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- ¿Cuándo se acentúan? Siguen siempre las reglas de acentuación de las palabras llanas, agudas y esdrújul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qui</dc:creator>
  <dc:description/>
  <dc:language>en-US</dc:language>
  <cp:lastModifiedBy>USUARIO</cp:lastModifiedBy>
  <dcterms:modified xsi:type="dcterms:W3CDTF">2010-09-22T10:54:15Z</dcterms:modified>
  <cp:revision>13</cp:revision>
  <dc:subject/>
  <dc:title>Tema 2. Identificamos las unidades de la lengua</dc:title>
</cp:coreProperties>
</file>