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0FEB1BA-AF10-4DA5-BEDD-B4AD3626DD4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2B530B2-5A2B-47F2-BAEA-19536EE2658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DC8E5B6-B3B1-4139-93F3-027E1EB7B40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1B22EA2-1F2F-46B9-916E-B68C10FFC5C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548E5F0-26FA-44AC-A76F-1E96671F3D8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32D0AF0-BBF4-45E7-91A6-B9C82E98980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0674232-7A58-4CE7-96F0-0D6E99D60DB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6E6C759-C3F1-4B62-B0C4-C6F64FC67F0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CE88C39-1CF6-4FD9-92C3-16C738482F2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EF51014-A871-4E43-A261-CF346C03D66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6D630D8-3746-4595-80B9-F582B4C809D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38792EE-5C5C-48EC-9CDC-D03E5C39338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727E911-ABBE-4EBF-8A18-A499C079944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ateriales y medio 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0584185@N03/1930236986/" TargetMode="External"/><Relationship Id="rId2" Type="http://schemas.openxmlformats.org/officeDocument/2006/relationships/hyperlink" Target="http://creativecommons.org/licenses/by-nc-nd/2.0/deed.es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reación de nuevos materiales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ateriales y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edio ambient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765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Constantia"/>
              </a:rPr>
              <a:t>No todas las basuras son iguales: R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58920" y="1673280"/>
            <a:ext cx="878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Se define </a:t>
            </a:r>
            <a:r>
              <a:rPr b="1" lang="es-ES_tradnl" sz="2000" spc="-1" strike="noStrike">
                <a:solidFill>
                  <a:srgbClr val="000000"/>
                </a:solidFill>
                <a:latin typeface="Constantia"/>
              </a:rPr>
              <a:t>basura o residuo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omo todo aquello que ya no nos es útil, ha perdido su valor y queremos desprendernos de é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os residuos se </a:t>
            </a:r>
            <a:r>
              <a:rPr b="1" lang="es-ES_tradnl" sz="2000" spc="-1" strike="noStrike">
                <a:solidFill>
                  <a:srgbClr val="000000"/>
                </a:solidFill>
                <a:latin typeface="Constantia"/>
              </a:rPr>
              <a:t>clasifican,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según </a:t>
            </a:r>
            <a:r>
              <a:rPr b="1" lang="es-ES_tradnl" sz="2000" spc="-1" strike="noStrike">
                <a:solidFill>
                  <a:srgbClr val="000000"/>
                </a:solidFill>
                <a:latin typeface="Constantia"/>
              </a:rPr>
              <a:t>la Ley de 1998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,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urbanos o municipales; se generan en los domicilios particulares, oficinas, comercios, etcét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 peligrosos; necesitan una gestión espe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os residuos se </a:t>
            </a:r>
            <a:r>
              <a:rPr b="1" lang="es-ES_tradnl" sz="2000" spc="-1" strike="noStrike">
                <a:solidFill>
                  <a:srgbClr val="000000"/>
                </a:solidFill>
                <a:latin typeface="Constantia"/>
              </a:rPr>
              <a:t>clasifican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según su </a:t>
            </a:r>
            <a:r>
              <a:rPr b="1" lang="es-ES_tradnl" sz="2000" spc="-1" strike="noStrike">
                <a:solidFill>
                  <a:srgbClr val="000000"/>
                </a:solidFill>
                <a:latin typeface="Constantia"/>
              </a:rPr>
              <a:t>procedenci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industr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agropecu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sani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siduos sólidos urb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5840" y="5857920"/>
            <a:ext cx="850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50920" y="1071720"/>
            <a:ext cx="8569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Composición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 los residuos generados por la pob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ateria orgánica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rocedente de restos de alimentos, residuos de jardinería, podas, césped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apel y cartón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e periódicos, cajas, envases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lástico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utilizados en bolsas, embalajes, piezas de ordenador,  vehículos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Vidrio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de botellas, tarros de conservas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etale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empleados en latas de conserva, latas de refresco,  zumos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etrabri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ade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ateriales variado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, como pilas, fluorescentes o ace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68360" y="18900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Constantia"/>
              </a:rPr>
              <a:t>Conoce tu bas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93840" y="1500120"/>
            <a:ext cx="8750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gla de las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res erre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ducir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: disminuir el consumo en todas las etapas del proceso de produc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n la fabricación, hay que reducir la peligrosidad de los productos, el volumen y el pes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n el transporte, hay que reducir los envases y embalaj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n el consumo, los productos han de tener una vida útil más lar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utilizar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: alargar la vida de los productos utilizándolos para otros f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Reciclar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:  recuperar los productos, bien sea para lo mismo que fueron diseñados o para otros f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4360" y="836640"/>
            <a:ext cx="81435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Constantia"/>
              </a:rPr>
              <a:t>Hábitos para un mundo más limp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6868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99"/>
                </a:solidFill>
                <a:latin typeface="Constantia"/>
              </a:rPr>
              <a:t>Sistemas de tratamiento de residuos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3 Rectángulo"/>
          <p:cNvSpPr/>
          <p:nvPr/>
        </p:nvSpPr>
        <p:spPr>
          <a:xfrm>
            <a:off x="358920" y="1341360"/>
            <a:ext cx="878508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Gestión de residuos sólidos urbanos: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odas las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peraciones que se realizan con ellos, desde su generación, hasta su tratamiento. Incluye: depósito y recogida, transporte y tratamiento de los mis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Gestión y reciclado de los materiales orgánico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Proceso anaerobio, fermentación en ausencia de oxígeno. Se obtiene biog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Proceso aerobio, fermentación en presencia de oxígeno. Se obtiene compo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Gestión y reciclado de plástic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ciclado mecánico. Se obtienen objetos iguales o difer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Reciclado químico. Se obtiene una nueva materia pr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Valorización enérgica. Se obtiene energ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00040" y="765000"/>
            <a:ext cx="8643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Constantia"/>
              </a:rPr>
              <a:t>El papel y los problemas de defores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14200" y="1000080"/>
            <a:ext cx="8715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3 Rectángulo"/>
          <p:cNvSpPr/>
          <p:nvPr/>
        </p:nvSpPr>
        <p:spPr>
          <a:xfrm>
            <a:off x="468360" y="1989000"/>
            <a:ext cx="828180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p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 fabrica a partir de la celulosa obtenida de los árboles. Se sigue un proceso en el cual se tritura la madera, se  lava con agua y productos químicos, y se lam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ventajas del reciclaj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pape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ff99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sminuye el consumo de madera, agua y energía en la fabricación de pa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ff99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sminuyen los res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ff99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sminuye la tala de árboles y por tanto la deforest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ff99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Disminuye la importación de madera y de papel us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oceso de reciclaj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papel implica: recolección, clasificación, enfardado, almacenamiento y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9 CuadroTexto"/>
          <p:cNvSpPr/>
          <p:nvPr/>
        </p:nvSpPr>
        <p:spPr>
          <a:xfrm>
            <a:off x="324000" y="5877000"/>
            <a:ext cx="4028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onstantia"/>
              </a:rPr>
              <a:t>El problema de la basura afecta a todas las  ciudades, que deben plantearse un buen sistema de gestión de los residuos sólidos urbanos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Imagen 1. Autor: </a:t>
            </a:r>
            <a:r>
              <a:rPr b="0" lang="es-ES" sz="900" spc="-1" strike="noStrike" u="sng">
                <a:solidFill>
                  <a:srgbClr val="009999"/>
                </a:solidFill>
                <a:uFillTx/>
                <a:latin typeface="Constantia"/>
                <a:hlinkClick r:id="rId1"/>
              </a:rPr>
              <a:t>sharon.schneider</a:t>
            </a:r>
            <a:r>
              <a:rPr b="0" lang="es-ES" sz="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 Licencia Creative Comm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15 Rectángulo"/>
          <p:cNvSpPr/>
          <p:nvPr/>
        </p:nvSpPr>
        <p:spPr>
          <a:xfrm>
            <a:off x="4859280" y="3860640"/>
            <a:ext cx="392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Una de las soluciones a la basura es reciclar los residuos sólidos urbanos. Imagen 2. Autor: </a:t>
            </a:r>
            <a:r>
              <a:rPr b="0" lang="es-ES_tradnl" sz="900" spc="-1" strike="noStrike" u="sng">
                <a:solidFill>
                  <a:srgbClr val="009999"/>
                </a:solidFill>
                <a:uFillTx/>
                <a:latin typeface="Constantia"/>
                <a:hlinkClick r:id="rId2"/>
              </a:rPr>
              <a:t>macfaciz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 Licencia Creative Comm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C:\Users\marmota\Desktop\Unidad 5\Unidad 5. Tema 4\Imágenes\viviendo basura.jpg"/>
          <p:cNvPicPr/>
          <p:nvPr/>
        </p:nvPicPr>
        <p:blipFill>
          <a:blip r:embed="rId3"/>
          <a:stretch/>
        </p:blipFill>
        <p:spPr>
          <a:xfrm>
            <a:off x="755640" y="1197000"/>
            <a:ext cx="3019320" cy="451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4859280" y="1125360"/>
            <a:ext cx="37576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pc</cp:lastModifiedBy>
  <dcterms:modified xsi:type="dcterms:W3CDTF">2010-03-08T18:19:24Z</dcterms:modified>
  <cp:revision>135</cp:revision>
  <dc:subject/>
  <dc:title>Tema 1. La actividad económica</dc:title>
</cp:coreProperties>
</file>