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56360" y="6583320"/>
            <a:ext cx="29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  <a:ea typeface="MS Gothic"/>
              </a:rPr>
              <a:t>Álgebra de Bo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9360" y="876240"/>
            <a:ext cx="85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rol y programación de sistemas automáticos: Álgebra de B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406520"/>
            <a:ext cx="3456000" cy="155412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as operaciones lóg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btención f. lógica a partir tabla ver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onogra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Álgebra de Bo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ertas NAND y 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érminos in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040" y="314316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Operaciones bás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28840" y="4143240"/>
          <a:ext cx="7095960" cy="2109960"/>
        </p:xfrm>
        <a:graphic>
          <a:graphicData uri="http://schemas.openxmlformats.org/drawingml/2006/table">
            <a:tbl>
              <a:tblPr/>
              <a:tblGrid>
                <a:gridCol w="1571400"/>
                <a:gridCol w="1428840"/>
                <a:gridCol w="4095720"/>
              </a:tblGrid>
              <a:tr h="3679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ímb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 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c toma el valor 1 si a y b también lo s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8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a 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c toma el valor 1 si a, b o ambas toman el valor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8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b toma el valor 1 si a toma el valor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4643280"/>
            <a:ext cx="647640" cy="13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5072040"/>
            <a:ext cx="743040" cy="152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71920" y="5500800"/>
            <a:ext cx="428760" cy="13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29120" y="1643040"/>
            <a:ext cx="307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nción 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nción can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bla de ver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1571760"/>
            <a:ext cx="357480" cy="13572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1357200"/>
              <a:gd name="textAreaBottom" fmla="*/ 13482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326"/>
                </a:lnTo>
                <a:cubicBezTo>
                  <a:pt x="10800" y="10563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4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dca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4200" y="100008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Otras operaciones lóg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8840" y="1285920"/>
          <a:ext cx="7095960" cy="2689200"/>
        </p:xfrm>
        <a:graphic>
          <a:graphicData uri="http://schemas.openxmlformats.org/drawingml/2006/table">
            <a:tbl>
              <a:tblPr/>
              <a:tblGrid>
                <a:gridCol w="1571400"/>
                <a:gridCol w="1428840"/>
                <a:gridCol w="4095720"/>
              </a:tblGrid>
              <a:tr h="3664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ímb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0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toma el valor 1 si A y B no toman simultáneamente el valor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8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toma el valor 1 si A y B toman a la vez el valor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8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toma el valor 1 si  una entrada es 0 y la otra es 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810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alida toma el valor 1 si las dos entradas son 0 ó 1 simultáne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14800" y="1857240"/>
            <a:ext cx="744480" cy="14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14800" y="2357280"/>
            <a:ext cx="842760" cy="15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28960" y="2928960"/>
            <a:ext cx="1371600" cy="15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00240" y="3357720"/>
            <a:ext cx="1371600" cy="156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200" y="371484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Función lógica a partir tabla ver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040" y="400068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vez obtenida la tabla de verdad de un sistema , existen dos métodos para obtener la función lógica en forma canóncia que la repres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nterms: implementación por u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axterms: implementación por c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72080" y="392904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. Cronogra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86240" y="421488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étodo gráfico en el que se representa por niveles altos y bajos (1 y 0) que van tomando las variables.  Permite obtener la tabla de verdad y la función lóg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500960" y="4000680"/>
            <a:ext cx="148104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200" y="1000080"/>
            <a:ext cx="47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. Algebra de Bo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200" y="371484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6. Implementación de circuitos con puertas NAND y 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040" y="400068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plementar un circuito empleando solamente un tipo de puertas abarata cos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e método de implementación solo se puede realizar con puertas NAND o NOR, ya que solo estas dos puertas lógicas so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72080" y="3857760"/>
            <a:ext cx="357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7. Simplificación de funciones lóg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6240" y="4214880"/>
            <a:ext cx="385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5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na vez obtenida la función canónica de una expresión lógica, se debe buscar una expresión simplificada de é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 ello se minimiza el número de errores posibles y abarata su implemen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5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los dos métodos más extendidos utilizaremos el de Karnaug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920" y="1357200"/>
            <a:ext cx="332424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798720" y="2000160"/>
            <a:ext cx="5202360" cy="125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713040" y="1357200"/>
            <a:ext cx="5040" cy="2214720"/>
          </a:xfrm>
          <a:prstGeom prst="line">
            <a:avLst/>
          </a:prstGeom>
          <a:ln w="25560">
            <a:solidFill>
              <a:srgbClr val="cdca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32080" y="27860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stul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31360" y="157176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es y teor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WinuE</cp:lastModifiedBy>
  <dcterms:modified xsi:type="dcterms:W3CDTF">2010-10-30T06:26:52Z</dcterms:modified>
  <cp:revision>162</cp:revision>
  <dc:subject/>
  <dc:title>Diapositiva 1</dc:title>
</cp:coreProperties>
</file>