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DE7-F019-4E3B-8387-433AED19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D52-F51B-4DD7-B712-DF8A5EFD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75C-E4A7-4CBB-8025-A41A8DB5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0D8-7A23-463B-B7F2-979AFF57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827-E1F9-4552-8A5E-80F47F04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5AB-55F1-4049-8045-B1508258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4F9-42B0-4181-810A-149DFEED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1E9-3AC4-4CA0-9CBD-A9BB3D5E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CF2-2852-43A1-86D8-ECD69F95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D4F-ED43-4392-AA73-91CC4DEB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476-A2AD-4492-973C-8A68664B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314-77BD-4293-8F46-CE7893C7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6266-27E6-4C49-A3B5-266F2648E9B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barra presentaciones"/>
          <p:cNvPicPr/>
          <p:nvPr/>
        </p:nvPicPr>
        <p:blipFill>
          <a:blip r:embed="rId1"/>
          <a:stretch/>
        </p:blipFill>
        <p:spPr>
          <a:xfrm>
            <a:off x="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botón presentaciones"/>
          <p:cNvPicPr/>
          <p:nvPr/>
        </p:nvPicPr>
        <p:blipFill>
          <a:blip r:embed="rId2"/>
          <a:stretch/>
        </p:blipFill>
        <p:spPr>
          <a:xfrm>
            <a:off x="468360" y="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 1" descr="juntaandalucia_gr.png"/>
          <p:cNvPicPr/>
          <p:nvPr/>
        </p:nvPicPr>
        <p:blipFill>
          <a:blip r:embed="rId3"/>
          <a:stretch/>
        </p:blipFill>
        <p:spPr>
          <a:xfrm>
            <a:off x="8101080" y="93600"/>
            <a:ext cx="900000" cy="59868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573120" y="765000"/>
            <a:ext cx="831996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ribete presentaciones"/>
          <p:cNvPicPr/>
          <p:nvPr/>
        </p:nvPicPr>
        <p:blipFill>
          <a:blip r:embed="rId4"/>
          <a:stretch/>
        </p:blipFill>
        <p:spPr>
          <a:xfrm>
            <a:off x="6372360" y="6237360"/>
            <a:ext cx="2743200" cy="199800"/>
          </a:xfrm>
          <a:prstGeom prst="rect">
            <a:avLst/>
          </a:prstGeom>
          <a:ln w="0">
            <a:noFill/>
          </a:ln>
        </p:spPr>
      </p:pic>
      <p:sp>
        <p:nvSpPr>
          <p:cNvPr id="84" name="CuadroTexto 8"/>
          <p:cNvSpPr/>
          <p:nvPr/>
        </p:nvSpPr>
        <p:spPr>
          <a:xfrm>
            <a:off x="1584360" y="2347920"/>
            <a:ext cx="5975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1e4649"/>
                </a:solidFill>
                <a:latin typeface="Arial"/>
              </a:rPr>
              <a:t>Resumen del tema 7.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oking for a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4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rriculum Vitae Vs Résum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uadroTexto 10"/>
          <p:cNvSpPr/>
          <p:nvPr/>
        </p:nvSpPr>
        <p:spPr>
          <a:xfrm>
            <a:off x="404640" y="1773360"/>
            <a:ext cx="8425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un listado de datos personales, académicos y profesionales sean éstos relevantes o no para el empleo al que se pretende acceder o para participar en la selección para un empleo. Todos estos datos se ofrecen en el CV en orden cronológ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CIONES MÁS IMPORTANTES DEL CV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 detail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estros dat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nationality, a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ucatio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é estudios tenem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schools, university, other training and qua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 experienc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experiencia laboral) previous jobs and your r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skill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ras habilidad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other things you can do, such as languages, computer skill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il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 habilidades nos convierten en buenos candidat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a few lines summarising who you are, what you're good at and what makes you 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est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iciones, hobbies, etc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do you like reading, dancing, football, et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s que pueden dar buenas referencias de nosotr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former bosses, teachers or other people who could say that you are a good candid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2200" y="56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rriculum Vitae Vs 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uadroTexto 10"/>
          <p:cNvSpPr/>
          <p:nvPr/>
        </p:nvSpPr>
        <p:spPr>
          <a:xfrm>
            <a:off x="395280" y="128412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ésumé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s un documento que relata nuestro historial académico y laboral de una manera concisa, pero hace hincapié en las experiencias, habilidades y estudios que poseemos y pueden hacernos interesantes para los objetivos del empleo que solicitamos o para participar en un proceso de sele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 information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datos pers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 objective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tipo de trabajo que uno quiere te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 accomplishment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gros conseguidos en trabajos anteri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 history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est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eses 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ucation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udios y aprendizaj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ta de presentació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4" descr=""/>
          <p:cNvPicPr/>
          <p:nvPr/>
        </p:nvPicPr>
        <p:blipFill>
          <a:blip r:embed="rId1"/>
          <a:stretch/>
        </p:blipFill>
        <p:spPr>
          <a:xfrm>
            <a:off x="639720" y="1413000"/>
            <a:ext cx="774072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9800" y="83520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ME EXPRESSIONS: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 – IN -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52320" y="1835280"/>
          <a:ext cx="8229600" cy="4759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2103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S DEL D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S DE COMIDAS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ÍAS FESTIVOS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 DE 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CIONES DEL AÑ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S DEL D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ÍAS DE LA SEM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AS EXAC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 DE SEMANA (AmE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night, at noon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2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unch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Christma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he weeek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p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XXI centu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morning, in the evening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23th 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the weeke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 CONTINUOUS: FORM</a:t>
            </a:r>
            <a:br>
              <a:rPr sz="32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IT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11280" y="1916280"/>
          <a:ext cx="7921440" cy="4524120"/>
        </p:xfrm>
        <a:graphic>
          <a:graphicData uri="http://schemas.openxmlformats.org/drawingml/2006/table">
            <a:tbl>
              <a:tblPr/>
              <a:tblGrid>
                <a:gridCol w="1996920"/>
                <a:gridCol w="1998720"/>
                <a:gridCol w="1996920"/>
                <a:gridCol w="19288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nove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 CONTINUOUS: FORM</a:t>
            </a:r>
            <a:br>
              <a:rPr sz="32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GAT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11280" y="1844640"/>
          <a:ext cx="7921440" cy="4621320"/>
        </p:xfrm>
        <a:graphic>
          <a:graphicData uri="http://schemas.openxmlformats.org/drawingml/2006/table">
            <a:tbl>
              <a:tblPr/>
              <a:tblGrid>
                <a:gridCol w="1800000"/>
                <a:gridCol w="2376720"/>
                <a:gridCol w="1815840"/>
                <a:gridCol w="19288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nove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not/i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not/are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 CONTINUOUS: FORM</a:t>
            </a:r>
            <a:br>
              <a:rPr sz="32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ERROGATIVE SENTENCES/YES-NO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1844640"/>
          <a:ext cx="7921440" cy="4856040"/>
        </p:xfrm>
        <a:graphic>
          <a:graphicData uri="http://schemas.openxmlformats.org/drawingml/2006/table">
            <a:tbl>
              <a:tblPr/>
              <a:tblGrid>
                <a:gridCol w="1996920"/>
                <a:gridCol w="1998720"/>
                <a:gridCol w="1996920"/>
                <a:gridCol w="19288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novel</a:t>
                      </a:r>
                      <a:r>
                        <a:rPr b="1" lang="es-E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4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SENT CONTINUOUS: FORM</a:t>
            </a:r>
            <a:br>
              <a:rPr sz="2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844640"/>
          <a:ext cx="8229600" cy="4281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8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I a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you ar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he i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we ar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you ar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they ar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I am no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you aren’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he isn’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we aren’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you aren’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they aren’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 CONTINUOUS: MAIN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01880" y="1989000"/>
          <a:ext cx="7140240" cy="3303720"/>
        </p:xfrm>
        <a:graphic>
          <a:graphicData uri="http://schemas.openxmlformats.org/drawingml/2006/table">
            <a:tbl>
              <a:tblPr/>
              <a:tblGrid>
                <a:gridCol w="2820960"/>
                <a:gridCol w="4319280"/>
              </a:tblGrid>
              <a:tr h="180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es que están ocurriendo ahora m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learning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glish now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not swimming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ow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ou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ing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es que están en progreso actual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studying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become a docto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not studying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become a denti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reading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book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 Sawyer.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6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ING SPELL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29600" cy="5029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os de una sílaba acabados en cons+vocal+c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uplicar la última conso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u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os de 2 o más sílabas con acento en la prim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IS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e añade –ing sin m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iste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os de 2 o más sílabas con acento en la segu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uplicar la última conso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gi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os acabados en –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mbiar –ie por –y+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y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os acabados en –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e pierde la -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ri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dos los demás verb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e añade –ing sin m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4360" y="813960"/>
            <a:ext cx="83152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uncios de periódico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classified ad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comprender ofertas de empleo publicadas en periódicos, es necesario aprender una terminología determi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orto lado, su estilo tiende a ser telegráfico, es decir, con el menor número de palabras posible, dado que se pagan por palabras public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ejor forma de entenderlas es analizarlas minuciosamente, anotando las palabras nuevas en el cuaderno y tratar de traducir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TIME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826920" y="1979640"/>
            <a:ext cx="7428240" cy="4064040"/>
          </a:xfrm>
          <a:prstGeom prst="rect">
            <a:avLst/>
          </a:prstGeom>
          <a:ln w="0">
            <a:noFill/>
          </a:ln>
        </p:spPr>
      </p:pic>
      <p:sp>
        <p:nvSpPr>
          <p:cNvPr id="123" name="Título 1"/>
          <p:cNvSpPr/>
          <p:nvPr/>
        </p:nvSpPr>
        <p:spPr>
          <a:xfrm>
            <a:off x="611280" y="557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ME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27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OCABULARIO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hora te ofrecemos u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ía de vocabulari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anuncios con la que podrás seguir recopilando la información, y que contiene una serie de términos específicos que se van a repetir recurrentemente en todo este blo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 need /need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necesitar / se necesita, se bus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t-time / full tim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rabajo a tiempo parcial / trabajo a tiempo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ppointment / in person / phone / e-mai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ita / en persona / llamada telefónica / correo electró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 require / requirement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querir / requi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 apply / applican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olicitar / solic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sition /vacancy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uesto laboral / puesto va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kil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habilidad, 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 contac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nerse en cont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484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FERTAS FOR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s ofertas de agencia resultan algo más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mplejas,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ues ya no se trata de destacar lo más llamativo o atractivo de la oferta de trabajo,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hora es una descripción de todos los aspectos que la compon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4360" y="864720"/>
            <a:ext cx="83152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TES DE LA OFERTA 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Marcador de contenido 3" descr=""/>
          <p:cNvPicPr/>
          <p:nvPr/>
        </p:nvPicPr>
        <p:blipFill>
          <a:blip r:embed="rId1"/>
          <a:stretch/>
        </p:blipFill>
        <p:spPr>
          <a:xfrm>
            <a:off x="919080" y="1940040"/>
            <a:ext cx="730584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4360" y="802800"/>
            <a:ext cx="83152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TES DE LA OFERTA 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Marcador de contenido 4" descr=""/>
          <p:cNvPicPr/>
          <p:nvPr/>
        </p:nvPicPr>
        <p:blipFill>
          <a:blip r:embed="rId1"/>
          <a:stretch/>
        </p:blipFill>
        <p:spPr>
          <a:xfrm>
            <a:off x="500040" y="1814400"/>
            <a:ext cx="82296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5724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TES DE LA OFERTA 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Marcador de contenido 3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8229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DICIONES Y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anuncio anterior, para hablar de los requisitos que se pide que cumplan los candidatos se han utiliz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para expresar consejo, recomendación - se puede traducir por "debería") 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pplicants 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shoul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speak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writ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fluent Spanis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candidatos deberían hablar y escribir español fluí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para expresar obligación - se puede traducir por "deber o tener que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pplcants 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mus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hav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some experi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candidatos 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debe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tene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lguna experi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llama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erbos mod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pues en realidad no aportan un verdadero significado, una verdadera acción, sino qu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presan un modo o manera de hacer una ac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por eso tienen la particularidad de ir siempre acompañados de otro verbo (no pueden ir solos, salvo en las respuestas cortas, cla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RBOS MODALES:  CÓMO FUNCIO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1280" y="172404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 Van siempr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ante de un verbo principa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infinitivo), al que aportan una modalidad o forma de realizar la ac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ndidates 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mus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apply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in person. &gt;&gt;&gt; Los candidatos 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debe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solicita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en perso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. Los verbos modale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 varían de form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a expresar tiempo ni persona (no tienen formas en –ed ni la –s de tercera pers. sing. de presente, por ejemp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mus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speak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French to get the job. (present: no hay –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3. Como van acompañando a un verbo que podríamos decir que es el principal, para la interrogativa y la negativa no necesitan de otro auxiliar (do / don’t) y ellos se comportan como el auxilia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Mus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speak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French? No. She 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musn’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speak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Fren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8T15:34:21Z</dcterms:created>
  <dc:creator>Migue</dc:creator>
  <dc:description/>
  <dc:language>en-US</dc:language>
  <cp:lastModifiedBy>Usuario</cp:lastModifiedBy>
  <dcterms:modified xsi:type="dcterms:W3CDTF">2016-08-23T09:35:21Z</dcterms:modified>
  <cp:revision>9</cp:revision>
  <dc:subject/>
  <dc:title>Diapositiva 1</dc:title>
</cp:coreProperties>
</file>