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" descr="fondo_horizontal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3195720" y="6416640"/>
            <a:ext cx="5948280" cy="200160"/>
          </a:xfrm>
          <a:prstGeom prst="rect">
            <a:avLst/>
          </a:prstGeom>
          <a:ln w="0">
            <a:noFill/>
          </a:ln>
        </p:spPr>
      </p:pic>
      <p:sp>
        <p:nvSpPr>
          <p:cNvPr id="3" name="Text Box 11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1584360" y="6581880"/>
            <a:ext cx="74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La ciudad produce residu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6" descr="fondo_vertical_2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7" descr="logo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Line 18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0" descr="Ed_Permanente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0240" y="965160"/>
            <a:ext cx="90090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Tierra, medio ambiente y humanidad: La ciudad produce residuo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1690560" y="2343240"/>
            <a:ext cx="61437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65040" y="1269720"/>
            <a:ext cx="877896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 indent="-249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cepto y naturaleza de residu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5320" indent="-249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rigen de los residu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1000" indent="-249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siduos procedentes del sector prim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51000" indent="-249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siduos procedentes del sector secund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51000" indent="-249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siduos procedentes del sector terciari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51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1000" indent="-249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stión de residuos sól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1000" indent="-249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selección, recogida y traslado de los residu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50960" indent="-249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vases y plástic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50960" indent="-2491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apel y cart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650960" indent="-2491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id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650960" indent="-2491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rgán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51000" indent="-249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macenamiento de residuos: vertederos y depósitos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50960" indent="-2491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lmacenamiento de residuos radiactiv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51000" indent="-249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incinerado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51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588960"/>
            <a:ext cx="91440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669960"/>
            <a:ext cx="92725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Concepto y naturaleza de los residu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9 CuadroTexto"/>
          <p:cNvSpPr/>
          <p:nvPr/>
        </p:nvSpPr>
        <p:spPr>
          <a:xfrm>
            <a:off x="328680" y="1550880"/>
            <a:ext cx="8705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define como residuo cualquier material resultado de un proceso de fabricación, transformación, utilización, consumo o limpieza, cuando su poseedor o productor lo destina al abando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residuos generados pueden se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ólid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íquido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aguas residuales) o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eoso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contaminantes atmosférico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673280" y="3581280"/>
            <a:ext cx="2066760" cy="181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5394240" y="3586320"/>
            <a:ext cx="2086200" cy="1847520"/>
          </a:xfrm>
          <a:prstGeom prst="rect">
            <a:avLst/>
          </a:prstGeom>
          <a:ln w="0">
            <a:noFill/>
          </a:ln>
        </p:spPr>
      </p:pic>
      <p:sp>
        <p:nvSpPr>
          <p:cNvPr id="53" name="6 Rectángulo"/>
          <p:cNvSpPr/>
          <p:nvPr/>
        </p:nvSpPr>
        <p:spPr>
          <a:xfrm>
            <a:off x="785880" y="5618160"/>
            <a:ext cx="771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ntro de los residuos sólidos los más peligrosos son los tóxicos y los radiact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669960"/>
            <a:ext cx="92725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Origen de los residuos I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6 Rectángulo"/>
          <p:cNvSpPr/>
          <p:nvPr/>
        </p:nvSpPr>
        <p:spPr>
          <a:xfrm>
            <a:off x="527040" y="1508040"/>
            <a:ext cx="771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cedentes del sector primario (agropecuario, forestal, mine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295280" y="1871640"/>
            <a:ext cx="6553440" cy="1857240"/>
          </a:xfrm>
          <a:prstGeom prst="rect">
            <a:avLst/>
          </a:prstGeom>
          <a:ln w="0">
            <a:noFill/>
          </a:ln>
        </p:spPr>
      </p:pic>
      <p:sp>
        <p:nvSpPr>
          <p:cNvPr id="57" name="7 Rectángulo"/>
          <p:cNvSpPr/>
          <p:nvPr/>
        </p:nvSpPr>
        <p:spPr>
          <a:xfrm>
            <a:off x="595440" y="3840120"/>
            <a:ext cx="789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cedentes del sector secundario (industrias, producción de energía, construc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1305000" y="4254480"/>
            <a:ext cx="65340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669960"/>
            <a:ext cx="92725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Origen de los residuos II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6 Rectángulo"/>
          <p:cNvSpPr/>
          <p:nvPr/>
        </p:nvSpPr>
        <p:spPr>
          <a:xfrm>
            <a:off x="527040" y="1508040"/>
            <a:ext cx="771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cedentes del sector terciario (sanidad, educación, transporte, hogares,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995480" y="2413080"/>
            <a:ext cx="5153040" cy="2771640"/>
          </a:xfrm>
          <a:prstGeom prst="rect">
            <a:avLst/>
          </a:prstGeom>
          <a:ln w="0">
            <a:noFill/>
          </a:ln>
        </p:spPr>
      </p:pic>
      <p:sp>
        <p:nvSpPr>
          <p:cNvPr id="62" name="9 Rectángulo"/>
          <p:cNvSpPr/>
          <p:nvPr/>
        </p:nvSpPr>
        <p:spPr>
          <a:xfrm>
            <a:off x="650880" y="5446800"/>
            <a:ext cx="771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on los residuos sólidos urba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si exceptuamos los sanitarios, que pueden ser bastante tóxic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669960"/>
            <a:ext cx="92725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Gestión de residuos sólid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3602160" y="1565280"/>
            <a:ext cx="2124000" cy="1733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993600" y="1589040"/>
            <a:ext cx="2114640" cy="1981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6178680" y="1581120"/>
            <a:ext cx="2181240" cy="2457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4"/>
          <a:stretch/>
        </p:blipFill>
        <p:spPr>
          <a:xfrm>
            <a:off x="671400" y="4100400"/>
            <a:ext cx="2783160" cy="1731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5"/>
          <a:stretch/>
        </p:blipFill>
        <p:spPr>
          <a:xfrm>
            <a:off x="3165480" y="3209760"/>
            <a:ext cx="2959200" cy="1889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6"/>
          <a:stretch/>
        </p:blipFill>
        <p:spPr>
          <a:xfrm>
            <a:off x="3165480" y="4735440"/>
            <a:ext cx="2944800" cy="1882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"/>
          <p:cNvPicPr/>
          <p:nvPr/>
        </p:nvPicPr>
        <p:blipFill>
          <a:blip r:embed="rId7"/>
          <a:stretch/>
        </p:blipFill>
        <p:spPr>
          <a:xfrm>
            <a:off x="5904000" y="4073400"/>
            <a:ext cx="29527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Título"/>
          <p:cNvSpPr/>
          <p:nvPr/>
        </p:nvSpPr>
        <p:spPr>
          <a:xfrm>
            <a:off x="192240" y="528480"/>
            <a:ext cx="89517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Almacenamiento de residu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1 CuadroTexto"/>
          <p:cNvSpPr/>
          <p:nvPr/>
        </p:nvSpPr>
        <p:spPr>
          <a:xfrm>
            <a:off x="442800" y="1390680"/>
            <a:ext cx="8534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ese a la regla de las 3R, al final tenemos residuos que eliminar. Pueden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macenars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cinerars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 El almacenamiento dependerá de si no son tóxicos (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rtedero controlad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o si sí lo son (tras tratamiento especial se almacenan en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pósit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aparte, sobre todo en el caso de residuos radiactivo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1427040" y="2606760"/>
            <a:ext cx="66963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5:37Z</dcterms:created>
  <dc:creator>pc</dc:creator>
  <dc:description/>
  <dc:language>en-US</dc:language>
  <cp:lastModifiedBy> </cp:lastModifiedBy>
  <dcterms:modified xsi:type="dcterms:W3CDTF">2011-04-25T11:32:42Z</dcterms:modified>
  <cp:revision>224</cp:revision>
  <dc:subject/>
  <dc:title>Diapositiva 1</dc:title>
</cp:coreProperties>
</file>