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La novela posterior a la II Guerr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336699"/>
                </a:solidFill>
                <a:latin typeface="Arial"/>
              </a:rPr>
              <a:t>Nuevos horizontes: la literatura de nuestro tiempo.</a:t>
            </a:r>
            <a:br>
              <a:rPr sz="4200"/>
            </a:br>
            <a:r>
              <a:rPr b="1" lang="es-ES" sz="4200" spc="-1" strike="noStrike">
                <a:solidFill>
                  <a:srgbClr val="336699"/>
                </a:solidFill>
                <a:latin typeface="Arial"/>
              </a:rPr>
              <a:t>La novela posterior a la II Guerra Mundial</a:t>
            </a:r>
            <a:endParaRPr b="1" lang="en-US" sz="4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spectos generales y novela existenci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asgos gener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alidad, otra vez re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riedad de tendencias y gén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xistencialismo recorre todo este perio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narrativa norteamericana es hegemó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novela se extiende y afianza en otros paí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vela existen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cialismo “religioso”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.K Chesterton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istorias del padre Brow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cialismo “ateo”: Jean-Paul Sartre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náu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cialismo “humanista”: Albert Camus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extranj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Tendencias y autores principales en la novela francesa, italiana y portugues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vela france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uveau Roman”: Michel Butor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mod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rguerite Yourcenar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Memorias de Adr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vela italia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orrealismo: Alberto Moravia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rom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vela histórica: Umberto Eco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 nombre de la r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vela portugue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osé Saramago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, Ensayo sobre la cegu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Tendencias y autores principales en la novela en lengua inglesa y aleman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vela en lengua ingle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vela fantástica: J.R.R. Tolkien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señor de los ani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vela histórica: Robert Graves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Yo, Cla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vela de ciencia-ficción: Arthur C. Clark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2001: Una odisea espa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as tendencias: Lawrence Durrell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cuarteto de Alejandrí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 W. Golding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, El señor de las moscas;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ris Lessing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cuaderno dora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vela alem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vela fantástica: M. Ende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historia intermin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as tendencias: Heinrich Boll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piniones de un payaso;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ünter Grass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tambor de hojalat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Novela estadounidense: </a:t>
            </a:r>
            <a:br>
              <a:rPr sz="3200"/>
            </a:b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el nuevo realismo a la posmoderni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vela reportaj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ruman Capote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 sangre f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lismo sucio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arles Bukows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vela “beat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Jack Kerouac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n el cami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; J.D. Salinger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 guardián entre el cent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vela experim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Vladimir Nabokov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ol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vela negra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shiell Hammett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 halcón malt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smodern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aul Below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erzog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hilp Roth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astoral Americ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; Don DeLillo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uido de fondo;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ohn Irving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 mundo según Gar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; Paul Auster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, Leviath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Narrativa en un mundo globalizad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rrativa japon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Haruki Murakami,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okio Blues (Norwegian woo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rrativa hebrea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mos Oz,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 caja neg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rrativa árab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Naguib Mahfuz,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l callejón de los milag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rrativa tur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Orham Pamuk,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l museo de la inoc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vela china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i Sije,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Balzac y la joven costurera ch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6:58:18Z</dcterms:created>
  <dc:creator>leticia</dc:creator>
  <dc:description/>
  <dc:language>en-US</dc:language>
  <cp:lastModifiedBy>USUARIO</cp:lastModifiedBy>
  <dcterms:modified xsi:type="dcterms:W3CDTF">2011-03-30T09:21:05Z</dcterms:modified>
  <cp:revision>51</cp:revision>
  <dc:subject/>
  <dc:title>Tema 2. La narrativa posterior a la II Guerra Mundial</dc:title>
</cp:coreProperties>
</file>