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D05-F443-4442-B3EA-B57C1076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44E-1D52-46B1-8370-FC2BCA7A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D5E-942D-4C4D-8A51-387746C2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63C-428F-4442-B83E-ECD94CCD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D603-AEC6-4491-A052-9D7B614C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A4DB-6FD7-4C55-A1BA-DEE933FD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CCC7-115F-49A7-B7B1-E2A2BC0A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EBF5-58F2-45DD-BF9A-E44DCDF9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4AE9-77A1-443F-8487-ADEB1B54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177B-03DB-457C-B61D-D9F015E4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A45D-EFDD-485F-8622-0DE9831F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142-65F2-4911-8632-27212768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DACE-6768-46E9-9507-E1AF3623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1656-868B-4CA2-878E-E625148E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93B9-2B87-47EF-832D-D4F5F6F7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D206-7169-4037-9C88-9AD06A61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A07E-57D0-4CB9-8387-337F28C1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6ABA-3D31-4797-AF06-75E7490C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B80-CEE8-42E0-A86A-662EDA78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B83-CFE9-42E0-985A-9F17B2FC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4C0-28FA-49C3-B275-18B06E4E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2D3-2307-42D6-B32C-61ECAF10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E8A-8376-4C34-8346-81D44DFA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7D3-F8CE-46A4-ABF9-C7D0F8D5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924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6BBA-4A49-4B26-ABB8-F06CD94CA6C6}" type="slidenum">
              <a:rPr b="0" lang="es-ES" sz="1200" spc="-1" strike="noStrike">
                <a:solidFill>
                  <a:srgbClr val="404924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"/>
          <p:cNvSpPr/>
          <p:nvPr/>
        </p:nvSpPr>
        <p:spPr>
          <a:xfrm>
            <a:off x="279360" y="6492960"/>
            <a:ext cx="86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4d26"/>
                </a:solidFill>
                <a:latin typeface="Arial"/>
              </a:rPr>
              <a:t>TEMA 2. ENERGÍAS NO RENO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924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B1EE-717E-4DF8-B784-C29FFE64311E}" type="slidenum">
              <a:rPr b="0" lang="es-ES" sz="1200" spc="-1" strike="noStrike">
                <a:solidFill>
                  <a:srgbClr val="404924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6583320"/>
            <a:ext cx="586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Arial"/>
              </a:rPr>
              <a:t>Energías no reno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22321" r="0" b="11427"/>
          <a:stretch/>
        </p:blipFill>
        <p:spPr>
          <a:xfrm>
            <a:off x="539640" y="1689120"/>
            <a:ext cx="8599680" cy="4908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759120" y="1700280"/>
            <a:ext cx="5384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Energías no renovables: el carbón y el petról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entrales térmicas conven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1 Impacto ambi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nergía nucl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Centrales nucle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La Energía: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Energías no renovabl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9360" y="876240"/>
            <a:ext cx="65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. ENERGÍAS NO RENO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628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s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nergías no renovable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son aquellas que existen en una cantidad limitada en la naturaleza y sin ninguna posibilidad de regenerar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s principales energías no renovables que utilizamos son los combustibles fósiles: el carbón y el petróleo, formados hace millones de años a partir de restos de restos animales y vegetales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55640" y="27082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e distribuyen irregularmente en la naturale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e agotarán en un tiempo limitado si se sigue el ritmo actual de consu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mayor parte de la energía que se produce actualmente procede de estas fu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979640" y="5013360"/>
            <a:ext cx="1582560" cy="1050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714920" y="5011560"/>
            <a:ext cx="16016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79360" y="8762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. CENTRALES TÉRMICAS CONVEN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628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ntral térmic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s una instalación en la que se transforma la energía química de los combustibles fósiles en energía eléctric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55640" y="2421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 quema el combustible (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 la energía calorífica de la combustión se calienta el agua de la caldera, que se convierte en vapor (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vapor de agua incide en la turbina, haciéndola girar y generando energía mecánica de rotación (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3500280"/>
            <a:ext cx="3960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energía mecánica de la turbina es transformada en energía eléctrica en el generador (4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vapor pasa al condensador donde se convierte de nuevo en agua (5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agua es impulsada por una bomba a la caldera para reiniciar el ciclo (6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vapor producido por el condensador es enviado a la torre de refrigeración para convertirlo en agua y ser utilizada de nuevo (7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716360" y="3443400"/>
            <a:ext cx="4249800" cy="2722320"/>
            <a:chOff x="4716360" y="3443400"/>
            <a:chExt cx="4249800" cy="2722320"/>
          </a:xfrm>
        </p:grpSpPr>
        <p:pic>
          <p:nvPicPr>
            <p:cNvPr id="155" name="" descr=""/>
            <p:cNvPicPr/>
            <p:nvPr/>
          </p:nvPicPr>
          <p:blipFill>
            <a:blip r:embed="rId8"/>
            <a:srcRect l="26443" t="16034" r="8811" b="21301"/>
            <a:stretch/>
          </p:blipFill>
          <p:spPr>
            <a:xfrm>
              <a:off x="4716360" y="3443400"/>
              <a:ext cx="4249800" cy="269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"/>
            <p:cNvGrpSpPr/>
            <p:nvPr/>
          </p:nvGrpSpPr>
          <p:grpSpPr>
            <a:xfrm>
              <a:off x="5651640" y="5877000"/>
              <a:ext cx="288720" cy="288720"/>
              <a:chOff x="5651640" y="5877000"/>
              <a:chExt cx="288720" cy="288720"/>
            </a:xfrm>
          </p:grpSpPr>
          <p:sp>
            <p:nvSpPr>
              <p:cNvPr id="157" name=""/>
              <p:cNvSpPr/>
              <p:nvPr/>
            </p:nvSpPr>
            <p:spPr>
              <a:xfrm>
                <a:off x="5651640" y="587700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29400" y="5929200"/>
                <a:ext cx="14292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076f"/>
                    </a:solidFill>
                    <a:latin typeface="Verdan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588000" y="4851360"/>
              <a:ext cx="288720" cy="288720"/>
              <a:chOff x="6588000" y="4851360"/>
              <a:chExt cx="288720" cy="288720"/>
            </a:xfrm>
          </p:grpSpPr>
          <p:sp>
            <p:nvSpPr>
              <p:cNvPr id="160" name=""/>
              <p:cNvSpPr/>
              <p:nvPr/>
            </p:nvSpPr>
            <p:spPr>
              <a:xfrm>
                <a:off x="6588000" y="485136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665760" y="4903560"/>
                <a:ext cx="14292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076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6012000" y="4941720"/>
              <a:ext cx="288720" cy="288720"/>
              <a:chOff x="6012000" y="4941720"/>
              <a:chExt cx="288720" cy="288720"/>
            </a:xfrm>
          </p:grpSpPr>
          <p:sp>
            <p:nvSpPr>
              <p:cNvPr id="163" name=""/>
              <p:cNvSpPr/>
              <p:nvPr/>
            </p:nvSpPr>
            <p:spPr>
              <a:xfrm>
                <a:off x="6012000" y="494172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89760" y="4993920"/>
                <a:ext cx="14292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076f"/>
                    </a:solidFill>
                    <a:latin typeface="Verdana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7236000" y="5300640"/>
              <a:ext cx="288720" cy="288720"/>
              <a:chOff x="7236000" y="5300640"/>
              <a:chExt cx="288720" cy="288720"/>
            </a:xfrm>
          </p:grpSpPr>
          <p:sp>
            <p:nvSpPr>
              <p:cNvPr id="166" name=""/>
              <p:cNvSpPr/>
              <p:nvPr/>
            </p:nvSpPr>
            <p:spPr>
              <a:xfrm>
                <a:off x="7236000" y="530064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313760" y="5352840"/>
                <a:ext cx="14292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076f"/>
                    </a:solidFill>
                    <a:latin typeface="Verdana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6732720" y="5805360"/>
              <a:ext cx="288720" cy="288720"/>
              <a:chOff x="6732720" y="5805360"/>
              <a:chExt cx="288720" cy="28872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580536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10480" y="5857560"/>
                <a:ext cx="14292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076f"/>
                    </a:solidFill>
                    <a:latin typeface="Verdana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300720" y="5661000"/>
              <a:ext cx="288720" cy="288720"/>
              <a:chOff x="6300720" y="5661000"/>
              <a:chExt cx="288720" cy="288720"/>
            </a:xfrm>
          </p:grpSpPr>
          <p:sp>
            <p:nvSpPr>
              <p:cNvPr id="172" name=""/>
              <p:cNvSpPr/>
              <p:nvPr/>
            </p:nvSpPr>
            <p:spPr>
              <a:xfrm>
                <a:off x="6300720" y="566100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78480" y="5713200"/>
                <a:ext cx="14292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076f"/>
                    </a:solidFill>
                    <a:latin typeface="Verdana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7812000" y="5013360"/>
              <a:ext cx="288720" cy="288720"/>
              <a:chOff x="7812000" y="5013360"/>
              <a:chExt cx="288720" cy="288720"/>
            </a:xfrm>
          </p:grpSpPr>
          <p:sp>
            <p:nvSpPr>
              <p:cNvPr id="175" name=""/>
              <p:cNvSpPr/>
              <p:nvPr/>
            </p:nvSpPr>
            <p:spPr>
              <a:xfrm>
                <a:off x="7812000" y="501336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89760" y="5065560"/>
                <a:ext cx="14292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076f"/>
                    </a:solidFill>
                    <a:latin typeface="Verdana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79360" y="8762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.1.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1628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ntral térmic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mite a la atmósfer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640" y="486864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fectos de estas emis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3606840" cy="2705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42920" y="3211560"/>
            <a:ext cx="1627200" cy="244440"/>
          </a:xfrm>
          <a:prstGeom prst="borderCallout1">
            <a:avLst>
              <a:gd name="adj1" fmla="val 32558"/>
              <a:gd name="adj2" fmla="val 28332"/>
              <a:gd name="adj3" fmla="val 1517"/>
              <a:gd name="adj4" fmla="val 283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POR DE A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3280" y="2492280"/>
            <a:ext cx="1511280" cy="432000"/>
          </a:xfrm>
          <a:prstGeom prst="borderCallout1">
            <a:avLst>
              <a:gd name="adj1" fmla="val -15315"/>
              <a:gd name="adj2" fmla="val -3812"/>
              <a:gd name="adj3" fmla="val 19966"/>
              <a:gd name="adj4" fmla="val -38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Y S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522936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40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Efecto invernad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y S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luvia á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Vapor de agua: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Modificación del ecosistema del ento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79360" y="8762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3. ENERGÍA NU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628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ergía nuclea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s la energía contenida en la materia que es liberada cuando se produce alguna reacción nuclea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2421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pos de reacciones nuclea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19280" y="4508640"/>
            <a:ext cx="2158920" cy="1647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11280" y="2852640"/>
            <a:ext cx="39607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SIÓN NU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enera gran cantidad de energí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enera residuos radiactiv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o genera gases de efecto invernader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852640"/>
            <a:ext cx="396108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SIÓN NU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enera gran cantidad de energí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o genera residuos radiactiv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o genera gases de efecto invernader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289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o existe la tecnología adecuada para su utiliz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1"/>
          <a:srcRect l="0" t="3476" r="0" b="17563"/>
          <a:stretch/>
        </p:blipFill>
        <p:spPr>
          <a:xfrm>
            <a:off x="5364000" y="5013360"/>
            <a:ext cx="288144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79360" y="8762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4. CENTRALES NUCLE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628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ntral nuclea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s una central térmica en la que la aportación de energía térmica proviene de las reacciones de fisión del combustible, generalmente uran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9280" y="263700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única diferencia respecto a la central térmica convencional es que tiene un reactor nuclear en lugar de una cald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resto de la central y su funcionamiento es simil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19640" y="3716280"/>
            <a:ext cx="5184720" cy="2436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19280" y="3860640"/>
            <a:ext cx="2700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fisión tiene lugar en el reactor de la central, y existen dos tipo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agua a presión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agua en ebullición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2:11:28Z</dcterms:created>
  <dc:creator>Isabel</dc:creator>
  <dc:description/>
  <dc:language>en-US</dc:language>
  <cp:lastModifiedBy>Rafa</cp:lastModifiedBy>
  <dcterms:modified xsi:type="dcterms:W3CDTF">2010-05-25T11:47:26Z</dcterms:modified>
  <cp:revision>47</cp:revision>
  <dc:subject/>
  <dc:title>Diapositiva 1</dc:title>
</cp:coreProperties>
</file>