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C85-F2C6-4A33-90F3-406D1B2D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4A5-4948-40B5-A46E-F5540A5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803-F0FF-45E2-8DF6-C3813FFA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270-13C2-42FF-807F-311340DE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FA9-D7E5-4B2E-8C4F-0E978811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90A-D61F-4076-A149-6778C7D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990-EF43-4905-8782-8B5024D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4C1-9BBF-490A-A899-E05F804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0CA3-669E-417F-992A-6234FF4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C4D-FBD4-42CB-BFA6-C090853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26C-6359-4C0E-8067-C7D5715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17D-789E-48E4-8787-1E5FDD7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DA96-1D8F-4B41-98D3-A355D19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B3CE-12CC-4F1B-958E-4AFEA85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8713-4A7A-49C5-9FE9-BC2F53F3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559-1BE4-45C2-8CE4-7901B62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532E-ABC9-42FA-83D3-4E13ECFB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64F-6940-4047-B7E7-FC2F183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218-CA74-4563-8A59-9F04C349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42B-D805-4BAB-8EE8-CD5978F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DE0-F9D1-4785-B995-A375295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341-6187-4BA7-B9EB-F7310B0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DA2-A511-483D-B9BB-00915511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9A7-65E1-4592-814A-F7E64FD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CE8-4A59-4F76-90D1-4480CADECC9A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279360" y="6492960"/>
            <a:ext cx="86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d26"/>
                </a:solidFill>
                <a:latin typeface="Arial"/>
              </a:rPr>
              <a:t>TEMA 2. 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5AF-D5A9-4CDA-90C4-F9CA9E9F452A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22321" r="0" b="11427"/>
          <a:stretch/>
        </p:blipFill>
        <p:spPr>
          <a:xfrm>
            <a:off x="539640" y="1689120"/>
            <a:ext cx="8599680" cy="490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59120" y="1700280"/>
            <a:ext cx="5384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nergías no renovables: el carbón y el petró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entrales térmicas conven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Impacto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nergía nucl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entrales nucle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Energía: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nergías no renovabl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9360" y="87624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. ENERGÍAS NO RENO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nergías no renovable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son aquellas que existen en una cantidad limitada en la naturaleza y sin ninguna posibilidad de regener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s principales energías no renovables que utilizamos son los combustibles fósiles: el carbón y el petróleo, formados hace millones de años a partir de restos de restos animales y vegetal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708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distribuyen irregularmente en la naturale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agotarán en un tiempo limitado si se sigue el ritmo actual de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mayor parte de la energía que se produce actualmente procede de estas fu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979640" y="5013360"/>
            <a:ext cx="1582560" cy="1050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714920" y="5011560"/>
            <a:ext cx="1601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 CENTRALES TÉRMICAS CONVEN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térm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una instalación en la que se transforma la energía química de los combustibles fósiles en energía eléctric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55640" y="242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quema el combustible (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 la energía calorífica de la combustión se calienta el agua de la caldera, que se convierte en vapor (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de agua incide en la turbina, haciéndola girar y generando energía mecánica de rotación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3500280"/>
            <a:ext cx="3960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energía mecánica de la turbina es transformada en energía eléctrica en el generador (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pasa al condensador donde se convierte de nuevo en agua (5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agua es impulsada por una bomba a la caldera para reiniciar el ciclo (6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vapor producido por el condensador es enviado a la torre de refrigeración para convertirlo en agua y ser utilizada de nuevo (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16360" y="3443400"/>
            <a:ext cx="4249800" cy="2722320"/>
            <a:chOff x="4716360" y="3443400"/>
            <a:chExt cx="4249800" cy="2722320"/>
          </a:xfrm>
        </p:grpSpPr>
        <p:pic>
          <p:nvPicPr>
            <p:cNvPr id="155" name="" descr=""/>
            <p:cNvPicPr/>
            <p:nvPr/>
          </p:nvPicPr>
          <p:blipFill>
            <a:blip r:embed="rId8"/>
            <a:srcRect l="26443" t="16034" r="8811" b="21301"/>
            <a:stretch/>
          </p:blipFill>
          <p:spPr>
            <a:xfrm>
              <a:off x="4716360" y="3443400"/>
              <a:ext cx="4249800" cy="26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5651640" y="5877000"/>
              <a:ext cx="288720" cy="288720"/>
              <a:chOff x="5651640" y="5877000"/>
              <a:chExt cx="288720" cy="288720"/>
            </a:xfrm>
          </p:grpSpPr>
          <p:sp>
            <p:nvSpPr>
              <p:cNvPr id="157" name=""/>
              <p:cNvSpPr/>
              <p:nvPr/>
            </p:nvSpPr>
            <p:spPr>
              <a:xfrm>
                <a:off x="5651640" y="587700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29400" y="592920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588000" y="4851360"/>
              <a:ext cx="288720" cy="288720"/>
              <a:chOff x="6588000" y="4851360"/>
              <a:chExt cx="288720" cy="288720"/>
            </a:xfrm>
          </p:grpSpPr>
          <p:sp>
            <p:nvSpPr>
              <p:cNvPr id="160" name=""/>
              <p:cNvSpPr/>
              <p:nvPr/>
            </p:nvSpPr>
            <p:spPr>
              <a:xfrm>
                <a:off x="6588000" y="4851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65760" y="4903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012000" y="4941720"/>
              <a:ext cx="288720" cy="288720"/>
              <a:chOff x="6012000" y="4941720"/>
              <a:chExt cx="288720" cy="288720"/>
            </a:xfrm>
          </p:grpSpPr>
          <p:sp>
            <p:nvSpPr>
              <p:cNvPr id="163" name=""/>
              <p:cNvSpPr/>
              <p:nvPr/>
            </p:nvSpPr>
            <p:spPr>
              <a:xfrm>
                <a:off x="6012000" y="494172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89760" y="499392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236000" y="5300640"/>
              <a:ext cx="288720" cy="288720"/>
              <a:chOff x="7236000" y="5300640"/>
              <a:chExt cx="288720" cy="288720"/>
            </a:xfrm>
          </p:grpSpPr>
          <p:sp>
            <p:nvSpPr>
              <p:cNvPr id="166" name=""/>
              <p:cNvSpPr/>
              <p:nvPr/>
            </p:nvSpPr>
            <p:spPr>
              <a:xfrm>
                <a:off x="723600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13760" y="535284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732720" y="5805360"/>
              <a:ext cx="288720" cy="288720"/>
              <a:chOff x="6732720" y="5805360"/>
              <a:chExt cx="288720" cy="28872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5805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10480" y="5857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00720" y="5661000"/>
              <a:ext cx="288720" cy="288720"/>
              <a:chOff x="6300720" y="5661000"/>
              <a:chExt cx="28872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6300720" y="566100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78480" y="571320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812000" y="5013360"/>
              <a:ext cx="288720" cy="288720"/>
              <a:chOff x="7812000" y="5013360"/>
              <a:chExt cx="288720" cy="288720"/>
            </a:xfrm>
          </p:grpSpPr>
          <p:sp>
            <p:nvSpPr>
              <p:cNvPr id="175" name=""/>
              <p:cNvSpPr/>
              <p:nvPr/>
            </p:nvSpPr>
            <p:spPr>
              <a:xfrm>
                <a:off x="7812000" y="501336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89760" y="5065560"/>
                <a:ext cx="14292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9076f"/>
                    </a:solidFill>
                    <a:latin typeface="Verdana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.1.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térm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mite a la atmósfe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48686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ectos de estas em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06840" cy="2705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3211560"/>
            <a:ext cx="1627200" cy="244440"/>
          </a:xfrm>
          <a:prstGeom prst="borderCallout1">
            <a:avLst>
              <a:gd name="adj1" fmla="val 32558"/>
              <a:gd name="adj2" fmla="val 28332"/>
              <a:gd name="adj3" fmla="val 1517"/>
              <a:gd name="adj4" fmla="val 283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POR DE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2492280"/>
            <a:ext cx="1511280" cy="432000"/>
          </a:xfrm>
          <a:prstGeom prst="borderCallout1">
            <a:avLst>
              <a:gd name="adj1" fmla="val -15315"/>
              <a:gd name="adj2" fmla="val -3812"/>
              <a:gd name="adj3" fmla="val 19966"/>
              <a:gd name="adj4" fmla="val -38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Y S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22936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Efecto invernad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S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luvia á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por de agua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odificación del ecosistema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3. ENERGÍA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ergía nucl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la energía contenida en la materia que es liberada cuando se produce alguna reacción nucle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242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pos de reacciones nucle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158920" cy="164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11280" y="2852640"/>
            <a:ext cx="39607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SIÓN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gran cantidad de energí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residuos radiactiv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gases de efecto invernader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852640"/>
            <a:ext cx="39610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SIÓN 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enera gran cantidad de energí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residuos radiactiv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genera gases de efecto invernader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o existe la tecnología adecuada para su utiliz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rcRect l="0" t="3476" r="0" b="17563"/>
          <a:stretch/>
        </p:blipFill>
        <p:spPr>
          <a:xfrm>
            <a:off x="5364000" y="5013360"/>
            <a:ext cx="288144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79360" y="876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. CENTRALES NUCLE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628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ntral nucl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s una central térmica en la que la aportación de energía térmica proviene de las reacciones de fisión del combustible, generalmente ura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9280" y="263700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única diferencia respecto a la central térmica convencional es que tiene un reactor nuclear en lugar de una cal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resto de la central y su funcionamiento es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5184720" cy="2436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19280" y="3860640"/>
            <a:ext cx="2700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fisión tiene lugar en el reactor de la central, y existen dos tip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agua a pres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agua en ebullic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Rafa</cp:lastModifiedBy>
  <dcterms:modified xsi:type="dcterms:W3CDTF">2010-05-25T11:47:26Z</dcterms:modified>
  <cp:revision>47</cp:revision>
  <dc:subject/>
  <dc:title>Diapositiva 1</dc:title>
</cp:coreProperties>
</file>