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B0EB7D-87D5-46EC-ADF1-D329630FBC4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0C3737-51C6-4E39-A693-60D57E40E82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9C9543-60C2-4004-BC78-67A240A4E75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BB5C40-8099-46BB-97CA-79BFDC2EE4C4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86F859-72B0-4715-8719-EBBC8A05650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ABE762-AD25-4173-A7E0-21872B969E3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441B18-5636-4752-B36F-D6796E55405F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3D22-B4B2-4B21-B784-05FC2C575E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2369-CACF-4866-A21B-71ED099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32FD-0E14-4619-962E-73C84D84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7CC2-B5DD-491A-BC43-06B24D2E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EF77-1514-4D3B-A35C-40C778A2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B851-D75B-4CA3-8B06-AA3298D1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A233-EE9F-4545-BF22-E30EDA8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CF77-06C4-4E57-BFDB-1F5E0C2F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37A1-D0A7-4AA9-8C73-A89FFFD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5135-063D-46F7-86E1-673AE30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1BB9-572A-4A26-8023-44F175B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691B-5408-4678-A404-06AD4744F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48C79-0DF2-49E7-8A5C-E1386919F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2692-6C34-4841-9F93-7DD4DC25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BE591-D61F-43F2-B3EB-FC3F2D31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4DB7B-7B82-43E6-82B9-EB8E525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F305-A4D9-482B-BB0F-98D9487D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748B2-D05E-4184-87C8-80FBA169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2ACF-3106-4D13-86AE-CACC797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7A453-14FD-44A2-9F99-5FA395C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9FD1E-40A9-41DB-9EA9-DE049DC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662E7-0277-44F5-8C10-0C58392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BD23-F55B-4E13-A365-585CC8A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DA7EE-0BEA-4A45-8A2E-B5C97C23E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5148360" y="6524640"/>
            <a:ext cx="39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6" descr="fondo_vertical_2"/>
          <p:cNvPicPr/>
          <p:nvPr/>
        </p:nvPicPr>
        <p:blipFill>
          <a:blip r:embed="rId6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7" descr="logo"/>
          <p:cNvPicPr/>
          <p:nvPr/>
        </p:nvPicPr>
        <p:blipFill>
          <a:blip r:embed="rId7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2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20" descr="Ed_Permanente"/>
          <p:cNvPicPr/>
          <p:nvPr/>
        </p:nvPicPr>
        <p:blipFill>
          <a:blip r:embed="rId8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9C57-39BD-4307-A882-B9EA3C704158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6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FA5D-192C-4849-9192-2C8605F9072A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600" y="742680"/>
            <a:ext cx="86058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Del Idealismo a la Filosofía analítica: Marx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001960" y="5781600"/>
            <a:ext cx="516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 de Felix42contralacensura 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4 Imagen" descr="postermarx.jpg"/>
          <p:cNvPicPr/>
          <p:nvPr/>
        </p:nvPicPr>
        <p:blipFill>
          <a:blip r:embed="rId1"/>
          <a:stretch/>
        </p:blipFill>
        <p:spPr>
          <a:xfrm>
            <a:off x="3139920" y="1701720"/>
            <a:ext cx="30211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Influencias y crítica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levó a cabo una profunda revisión crítica del pensamiento de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Hegel y las corrientes hegelian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 el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socialismo utópico francés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y la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conomía política ingles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rente al socialismo utópico propone un socialismo científic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 De su estudio de la economía política inglesa extrae las herramientas técnicas para la interpretación del sistema económi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rx simpatiza con la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zquierda hegeliana, materialista y dialéctic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 aunque acaba revisándola críticamente, especialmente a la filosofía de Feuerb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 CuadroTexto"/>
          <p:cNvSpPr/>
          <p:nvPr/>
        </p:nvSpPr>
        <p:spPr>
          <a:xfrm>
            <a:off x="6114960" y="568476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5 Imagen" descr="hegel.jpg"/>
          <p:cNvPicPr/>
          <p:nvPr/>
        </p:nvPicPr>
        <p:blipFill>
          <a:blip r:embed="rId1"/>
          <a:stretch/>
        </p:blipFill>
        <p:spPr>
          <a:xfrm>
            <a:off x="5408640" y="1420920"/>
            <a:ext cx="3327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La alien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x refiriere la alienación a la condición humana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iga a la actividad económ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nte el trabajo el ser humano se realiza en su condición, transforma la naturaleza, establece relaciones con los demás y se desarrolla como ser histó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sistema capitalista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ad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poseído del objeto resultante de su trab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 p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bién de su propia activ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i la realidad del ser humano consiste en su actividad productiva, su desposesión es la negación de sí mismo, su desre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5905440" y="5433840"/>
            <a:ext cx="18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agen de postaletrice en Flick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7 Imagen" descr="niños mineros.jpg"/>
          <p:cNvPicPr/>
          <p:nvPr/>
        </p:nvPicPr>
        <p:blipFill>
          <a:blip r:embed="rId1"/>
          <a:stretch/>
        </p:blipFill>
        <p:spPr>
          <a:xfrm>
            <a:off x="4811760" y="2316240"/>
            <a:ext cx="41212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beneficio económico de la actividad productiva,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usval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no revierte en el trabajador, sino que queda a favor del propietario de los medios de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ienación que el trabajador sufre en el ámbito del trabajo deriva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tras formas de alien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alienación social, política, religiosa y filosófic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x considera a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sión falseada de la real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cial que se encuentra en consonancia con los intereses de la clase dir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8 Rectángulo"/>
          <p:cNvSpPr/>
          <p:nvPr/>
        </p:nvSpPr>
        <p:spPr>
          <a:xfrm>
            <a:off x="6005160" y="4933800"/>
            <a:ext cx="18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agen en Wikimedia Comm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7 Imagen" descr="speech William Jennings Bryan.jpg"/>
          <p:cNvPicPr/>
          <p:nvPr/>
        </p:nvPicPr>
        <p:blipFill>
          <a:blip r:embed="rId1"/>
          <a:stretch/>
        </p:blipFill>
        <p:spPr>
          <a:xfrm>
            <a:off x="4826160" y="1887480"/>
            <a:ext cx="3941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Materialismo históric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6120" y="15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fundamento del proceso dialéctico se encuentra en la relación que establece el ser humano con la naturaleza a través de su actividad transformadora;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ax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a lugar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flictos y contradi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constituye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tor de la his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o en que se organiza la producción determina el modo en que se constituyen las instituciones jurídicas y políticas, así como las formas de pensamiento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640480" y="5181480"/>
            <a:ext cx="20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de america.gov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6 Imagen" descr="trabajadores2.jpg"/>
          <p:cNvPicPr/>
          <p:nvPr/>
        </p:nvPicPr>
        <p:blipFill>
          <a:blip r:embed="rId1"/>
          <a:stretch/>
        </p:blipFill>
        <p:spPr>
          <a:xfrm>
            <a:off x="4761000" y="2390760"/>
            <a:ext cx="3801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27040" y="13456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acuerdo con el grado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arrollo de las fuerzas productiv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seres humanos organizan el trabajo de una determinada forma, entran en determinad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laciones de produc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Éstas constituyen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económ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sociedad, la base sobre la que se levantan 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perestructura jurídica y polí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que corresponden determinadas formas de entender la realidad. De este mod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modos de producción material determinan la vida social, política y espiritu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No es la conciencia la que determina el ser del hombre, sino que son las condiciones materiales las que determinan la conciencia que el ser humano tiene de sí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252840" y="503856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6 Imagen" descr="trabajadores.jpg"/>
          <p:cNvPicPr/>
          <p:nvPr/>
        </p:nvPicPr>
        <p:blipFill>
          <a:blip r:embed="rId1"/>
          <a:stretch/>
        </p:blipFill>
        <p:spPr>
          <a:xfrm>
            <a:off x="4656240" y="2222640"/>
            <a:ext cx="41464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 </cp:lastModifiedBy>
  <dcterms:modified xsi:type="dcterms:W3CDTF">2011-02-15T10:57:28Z</dcterms:modified>
  <cp:revision>49</cp:revision>
  <dc:subject/>
  <dc:title>Diapositiva 1</dc:title>
</cp:coreProperties>
</file>