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977760" y="6583320"/>
            <a:ext cx="8166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ás allá de las formas artísticas: La parte y el todo: una mutua re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1434960"/>
            <a:ext cx="8645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Más allá de las formas artísticas: La parte y el todo: Una mutua relación.</a:t>
            </a:r>
            <a:br>
              <a:rPr sz="4400"/>
            </a:b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211720" y="6272280"/>
            <a:ext cx="354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mello en rítmico paisaje arbolado. Paul Klee. 192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aul_Klee_Kamel_in_rhythmischer_Baumlandschaft_klein"/>
          <p:cNvPicPr/>
          <p:nvPr/>
        </p:nvPicPr>
        <p:blipFill>
          <a:blip r:embed="rId1"/>
          <a:stretch/>
        </p:blipFill>
        <p:spPr>
          <a:xfrm>
            <a:off x="5119560" y="2563920"/>
            <a:ext cx="31006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422600"/>
            <a:ext cx="770904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orma es el aspecto externo de los objetos y el principal elemento para su identificación. Se pueden presentar aisladas o agrupadas con otras y en un contexto al que llamamos fondo. Entre ambos se produce una relación mutua que influye en su signifi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04640" y="766800"/>
            <a:ext cx="857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1. La for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068640" y="3940200"/>
            <a:ext cx="345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Bodegón. Zurbarán.163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Zurbaran_-_Bodegon"/>
          <p:cNvPicPr/>
          <p:nvPr/>
        </p:nvPicPr>
        <p:blipFill>
          <a:blip r:embed="rId1"/>
          <a:stretch/>
        </p:blipFill>
        <p:spPr>
          <a:xfrm>
            <a:off x="2516040" y="1488960"/>
            <a:ext cx="4518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4440" y="4429080"/>
            <a:ext cx="763740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formas pueden ser tridimensionales o bidimensionales. Al representar una forma en dos dimensiones puedes darle apariencia de volume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3" name="Picture 7" descr="esfera I"/>
          <p:cNvPicPr/>
          <p:nvPr/>
        </p:nvPicPr>
        <p:blipFill>
          <a:blip r:embed="rId1"/>
          <a:stretch/>
        </p:blipFill>
        <p:spPr>
          <a:xfrm>
            <a:off x="860400" y="1459080"/>
            <a:ext cx="3305160" cy="322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sferas"/>
          <p:cNvPicPr/>
          <p:nvPr/>
        </p:nvPicPr>
        <p:blipFill>
          <a:blip r:embed="rId2"/>
          <a:stretch/>
        </p:blipFill>
        <p:spPr>
          <a:xfrm>
            <a:off x="5191200" y="1434960"/>
            <a:ext cx="32972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9000" y="5324400"/>
            <a:ext cx="83739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hay abstractas o figurativas, regulares e ir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31640" y="75240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2. El signific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ZOOM-DE-CARTELES-baja-resolucion1"/>
          <p:cNvPicPr/>
          <p:nvPr/>
        </p:nvPicPr>
        <p:blipFill>
          <a:blip r:embed="rId1"/>
          <a:stretch/>
        </p:blipFill>
        <p:spPr>
          <a:xfrm>
            <a:off x="3121200" y="1474920"/>
            <a:ext cx="32907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3. Los límites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1200" y="1600200"/>
            <a:ext cx="762804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una forma esta limitada por una línea de contorno que la diferencia del fondo es una forma cerrada. Cuando sus límites no están perfectamente definidos es una forma abi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esfera II"/>
          <p:cNvPicPr/>
          <p:nvPr/>
        </p:nvPicPr>
        <p:blipFill>
          <a:blip r:embed="rId1"/>
          <a:stretch/>
        </p:blipFill>
        <p:spPr>
          <a:xfrm>
            <a:off x="1870200" y="3621240"/>
            <a:ext cx="2619360" cy="255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sferaabierta"/>
          <p:cNvPicPr/>
          <p:nvPr/>
        </p:nvPicPr>
        <p:blipFill>
          <a:blip r:embed="rId2"/>
          <a:stretch/>
        </p:blipFill>
        <p:spPr>
          <a:xfrm>
            <a:off x="5183280" y="3571920"/>
            <a:ext cx="25653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4. El esqueleto. La estructura interna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5360" y="1809360"/>
            <a:ext cx="798372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ivinar la  estructura interna de una forma te ayudará a identificarlas con formas geométricas que facilitarán los trazados de los objetos, a crear líneas de referencia que definan direcciones y proporciones o a ubicar puntos en el espacio que ayuden a encajar los elem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acitalinea"/>
          <p:cNvPicPr/>
          <p:nvPr/>
        </p:nvPicPr>
        <p:blipFill>
          <a:blip r:embed="rId1"/>
          <a:stretch/>
        </p:blipFill>
        <p:spPr>
          <a:xfrm>
            <a:off x="3240000" y="3583080"/>
            <a:ext cx="29336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5. Las formas se relacionan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4253040"/>
            <a:ext cx="7902360" cy="16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en una composición aparecen dos o más formas entre ambas se establecen relaciones que producen diferentes sensaciones espaciales. La distancia, el tamaño, el peso o la gravedad son percibidos según la posición que una forma adopta respecto a o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SC_0462"/>
          <p:cNvPicPr/>
          <p:nvPr/>
        </p:nvPicPr>
        <p:blipFill>
          <a:blip r:embed="rId1">
            <a:grayscl/>
            <a:lum bright="18000"/>
          </a:blip>
          <a:srcRect l="0" t="7223" r="898" b="24693"/>
          <a:stretch/>
        </p:blipFill>
        <p:spPr>
          <a:xfrm>
            <a:off x="3343320" y="1450800"/>
            <a:ext cx="2584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6. Las formas en su contexto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007480" cy="13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nceptos de forma y fondo son inseparables. Difícilmente encontrarás una forma aislada en el espacio bidimensional, y aunque es posible, lo natural es encontrar una figura sobre un fondo determinado. Las soluciones para dibujar una forma en un contexto pueden ser v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egativas (6)"/>
          <p:cNvPicPr/>
          <p:nvPr/>
        </p:nvPicPr>
        <p:blipFill>
          <a:blip r:embed="rId1"/>
          <a:stretch/>
        </p:blipFill>
        <p:spPr>
          <a:xfrm>
            <a:off x="4473720" y="3387600"/>
            <a:ext cx="971280" cy="779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85720" y="5192640"/>
            <a:ext cx="504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Buscar el contraste entre forma y fon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arra POSITIVO copia"/>
          <p:cNvPicPr/>
          <p:nvPr/>
        </p:nvPicPr>
        <p:blipFill>
          <a:blip r:embed="rId2"/>
          <a:stretch/>
        </p:blipFill>
        <p:spPr>
          <a:xfrm>
            <a:off x="5504040" y="3367080"/>
            <a:ext cx="9493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ontorno"/>
          <p:cNvPicPr/>
          <p:nvPr/>
        </p:nvPicPr>
        <p:blipFill>
          <a:blip r:embed="rId3"/>
          <a:stretch/>
        </p:blipFill>
        <p:spPr>
          <a:xfrm>
            <a:off x="6719760" y="4230720"/>
            <a:ext cx="538200" cy="82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intorno"/>
          <p:cNvPicPr/>
          <p:nvPr/>
        </p:nvPicPr>
        <p:blipFill>
          <a:blip r:embed="rId4"/>
          <a:stretch/>
        </p:blipFill>
        <p:spPr>
          <a:xfrm>
            <a:off x="7334280" y="4222800"/>
            <a:ext cx="52380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ilueta"/>
          <p:cNvPicPr/>
          <p:nvPr/>
        </p:nvPicPr>
        <p:blipFill>
          <a:blip r:embed="rId5"/>
          <a:stretch/>
        </p:blipFill>
        <p:spPr>
          <a:xfrm>
            <a:off x="7939080" y="4235400"/>
            <a:ext cx="519120" cy="831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628560" y="2936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ferenciar forma y fondo invirtiendo los espacios llenos y vacíos. Formas positivas y neg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arra II"/>
          <p:cNvPicPr/>
          <p:nvPr/>
        </p:nvPicPr>
        <p:blipFill>
          <a:blip r:embed="rId6"/>
          <a:stretch/>
        </p:blipFill>
        <p:spPr>
          <a:xfrm>
            <a:off x="7508880" y="3365640"/>
            <a:ext cx="923760" cy="74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jarra NEGATIVO"/>
          <p:cNvPicPr/>
          <p:nvPr/>
        </p:nvPicPr>
        <p:blipFill>
          <a:blip r:embed="rId7"/>
          <a:stretch/>
        </p:blipFill>
        <p:spPr>
          <a:xfrm>
            <a:off x="6500880" y="3365640"/>
            <a:ext cx="963720" cy="772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585720" y="4786200"/>
            <a:ext cx="62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rabajar con la línea de contorno, el dintorno o la silu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9" descr="color"/>
          <p:cNvPicPr/>
          <p:nvPr/>
        </p:nvPicPr>
        <p:blipFill>
          <a:blip r:embed="rId8"/>
          <a:stretch/>
        </p:blipFill>
        <p:spPr>
          <a:xfrm>
            <a:off x="5830920" y="5210280"/>
            <a:ext cx="866880" cy="695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textura"/>
          <p:cNvPicPr/>
          <p:nvPr/>
        </p:nvPicPr>
        <p:blipFill>
          <a:blip r:embed="rId9"/>
          <a:stretch/>
        </p:blipFill>
        <p:spPr>
          <a:xfrm>
            <a:off x="6745320" y="5210280"/>
            <a:ext cx="852480" cy="68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tono"/>
          <p:cNvPicPr/>
          <p:nvPr/>
        </p:nvPicPr>
        <p:blipFill>
          <a:blip r:embed="rId10"/>
          <a:stretch/>
        </p:blipFill>
        <p:spPr>
          <a:xfrm>
            <a:off x="7631280" y="5195880"/>
            <a:ext cx="8460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es uno de los elementos más significativos del lenguaje visual y conseguir plasmarla gráficamente es tu objetivo. Las opciones como has visto son múlti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xperimentación y la curiosidad deben ayudarte a conseguir tus propósitos plá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equipo</cp:lastModifiedBy>
  <dcterms:modified xsi:type="dcterms:W3CDTF">2011-12-12T20:46:45Z</dcterms:modified>
  <cp:revision>31</cp:revision>
  <dc:subject/>
  <dc:title>Diapositiva 1</dc:title>
</cp:coreProperties>
</file>