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435ED20-6DD7-4CF6-989A-1920DD003E5D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8CFA0ABC-0BB0-435A-A757-7B345E96549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7E7509C5-7DC7-4CE4-A4EE-88032E3DDBD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C94AB2C-865D-4541-8D48-5CB722CB51C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886200F-6B37-400D-AC24-5AB26401A17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137A79D-52C7-4A31-8723-29C9223C9A61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329FB687-42C6-42D3-AE08-6EA8332ACAC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2BB83A5-5F53-4D12-8FAC-DC3299AF21E0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BCA011A-6D2E-437F-9E4A-3BE4802FA5F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BF7BC18-46DB-4B8E-A1BD-99B52DC272FC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D86EB588-A7F1-4660-B956-032CE6D2D48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Polímeros y nanotecnologí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8720" y="227664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Creación de nuevos materiales: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Polímeros y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nanotecnología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39640" y="765000"/>
            <a:ext cx="56278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000" spc="-1" strike="noStrike">
                <a:solidFill>
                  <a:srgbClr val="444d26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444d26"/>
                </a:solidFill>
                <a:latin typeface="Constantia"/>
              </a:rPr>
              <a:t>Polímeros natu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68360" y="1484280"/>
            <a:ext cx="8032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Un polímero es una macromolécula formada por estructuras menores llamadas 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monómeros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 dividen en dos grandes grupos: naturales y sinté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La formación de polímeros puede realizarse de diferentes man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Por ad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Por condens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Por crecimiento en cade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Por la polimer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Por crecimiento en etap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42960" y="3933720"/>
            <a:ext cx="85010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786280" y="3286080"/>
            <a:ext cx="26434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95280" y="162864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tre los polímeros artificiales distinguimos los semisintéticos y los polímeros sinté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l término plástico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 refiere a un estado del material, pero no al material en sí. Su invento se atribuye a Leo Hendrik Baeke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La fabricación de los plásticos implica cuatro pas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Obtención de las materias pri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íntesis del polímero bás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Obtención del polímero como un producto utilizable industri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Moldeo o deformación del plástico hasta conseguir su forma defini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11280" y="765000"/>
            <a:ext cx="58323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44d26"/>
                </a:solidFill>
                <a:latin typeface="Constantia"/>
              </a:rPr>
              <a:t>Polimeros artificiales: plás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179280" y="1628640"/>
            <a:ext cx="856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l término nanotecnología se refiere a las ciencias y técnicas que se aplican en unas dimensiones extremadamente pequeñ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Cuando se manipula la materia en esa escala tan minúscula, aparecen fenómenos y propiedades nue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n la nanotecnología se distinguen 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tres ámbitos de 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investiga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7210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Nanoelectró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7210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Nanobiotecnologí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7210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Nanomater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755640" y="692280"/>
            <a:ext cx="70563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44d26"/>
                </a:solidFill>
                <a:latin typeface="Constantia"/>
              </a:rPr>
              <a:t>Nanotecnologías</a:t>
            </a:r>
            <a:r>
              <a:rPr b="0" lang="en-GB" sz="5000" spc="-1" strike="noStrike">
                <a:solidFill>
                  <a:srgbClr val="444d2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1019160"/>
            <a:ext cx="640404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336699"/>
                </a:solidFill>
                <a:latin typeface="Constantia"/>
              </a:rPr>
              <a:t>Materiales híbridos y biomateriales</a:t>
            </a: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3 Rectángulo"/>
          <p:cNvSpPr/>
          <p:nvPr/>
        </p:nvSpPr>
        <p:spPr>
          <a:xfrm>
            <a:off x="539640" y="1989000"/>
            <a:ext cx="77155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Los 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materiales híbridos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 están compuestos por materiales de distinta naturaleza. Suelen estar compuestos por un material base, llamado matriz, al que se añaden algunos tipos de fibr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Un 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biomaterial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es un material natural o artificial que forma parte de estructuras vivas o dispositivos médicos que las sustituyen o reemplazan en algunas de sus funciones.</a:t>
            </a:r>
            <a:r>
              <a:rPr b="0" lang="es-ES_tradnl" sz="2400" spc="-1" strike="noStrike">
                <a:solidFill>
                  <a:srgbClr val="ffffff"/>
                </a:solidFill>
                <a:latin typeface="Constantia"/>
                <a:ea typeface="MS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4360" y="90792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44d26"/>
                </a:solidFill>
                <a:latin typeface="Constantia"/>
              </a:rPr>
              <a:t>Circuitos integ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2960" y="2214720"/>
            <a:ext cx="7816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Un circuito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integrado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o microchip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s un circuito formado por elementos interconectados. Los elementos se disponen en una pastilla de silicio y el conjunto se protege por una cápsula de plástico o cerám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Los circuitos integrados se montan en estructuras más grandes, conectándose a otros componentes electrón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9 CuadroTexto"/>
          <p:cNvSpPr/>
          <p:nvPr/>
        </p:nvSpPr>
        <p:spPr>
          <a:xfrm>
            <a:off x="324000" y="5877000"/>
            <a:ext cx="25588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El corcho es un ejemplo de polímero natural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Imagen 1. Autor: </a:t>
            </a:r>
            <a:r>
              <a:rPr b="0" lang="es-ES_tradnl" sz="900" spc="-1" strike="noStrike">
                <a:solidFill>
                  <a:srgbClr val="000000"/>
                </a:solidFill>
                <a:latin typeface="Constantia"/>
              </a:rPr>
              <a:t>David Moniaux</a:t>
            </a: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 . Licencia Creative Comm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12 CuadroTexto"/>
          <p:cNvSpPr/>
          <p:nvPr/>
        </p:nvSpPr>
        <p:spPr>
          <a:xfrm>
            <a:off x="3276720" y="3645000"/>
            <a:ext cx="20001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Nanotubos de carbono. Ejemplo de aplicación de las nanotecnologías.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Imagen 2. Autor: Mstroeck. Licencia Creative Comm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14 CuadroTexto"/>
          <p:cNvSpPr/>
          <p:nvPr/>
        </p:nvSpPr>
        <p:spPr>
          <a:xfrm>
            <a:off x="5796000" y="5950080"/>
            <a:ext cx="2928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Circuito electrónico donde puede observarse un circuito integrado o microchip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Constantia"/>
              </a:rPr>
              <a:t>Imagen 3. Autor: Yaca 2671. Licencia Creative Comm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44800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3059280" y="928800"/>
            <a:ext cx="2608200" cy="242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3"/>
          <a:stretch/>
        </p:blipFill>
        <p:spPr>
          <a:xfrm>
            <a:off x="5796000" y="3357720"/>
            <a:ext cx="293220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sis XXI</dc:creator>
  <dc:description/>
  <dc:language>en-US</dc:language>
  <cp:lastModifiedBy>pc</cp:lastModifiedBy>
  <dcterms:modified xsi:type="dcterms:W3CDTF">2010-03-08T18:19:26Z</dcterms:modified>
  <cp:revision>49</cp:revision>
  <dc:subject/>
  <dc:title>Tema 1. La actividad económica</dc:title>
</cp:coreProperties>
</file>