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CDE6D-B019-4D85-8600-E7C6493E84B9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3212-C6AC-4E5D-AF86-92530D2428F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7CCEE-7698-4CC7-9ACE-B4E6EDED037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45215-869B-46C0-8957-A0A101CBD67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873CE-AA88-4D38-896C-3116ACE6A3C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0585F-63DB-4077-87C1-7EFC1C9CBD0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D4C19-D94A-429D-80EB-E730E63B1A7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2123-1FCD-4BD2-86B0-D92008ECC7B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CFFE1-B104-4917-8FC7-D1ADDFCC37B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7C34-120F-4649-AB67-C229183501E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7BEE0-DF16-4F32-97D8-88D34D8914F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Salud y enferm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Virus" TargetMode="External"/><Relationship Id="rId2" Type="http://schemas.openxmlformats.org/officeDocument/2006/relationships/hyperlink" Target="http://www.juntadeandalucia.es/averroes/~29701428/salud/cardio3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flickr.com/photos/alextremps/3446822041/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commons.wikimedia.org/wiki/File:Vaccine-in-leg.jpg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22200"/>
            <a:ext cx="831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Vivir más y mejor: Salud y enfermeda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44d26"/>
                </a:solidFill>
                <a:latin typeface="Constantia"/>
              </a:rPr>
              <a:t>La salud ho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628640"/>
            <a:ext cx="82864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OMS define l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alud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omo el estado de completo bienestar físico, mental y social, y no solamente como la ausencia de enfermeda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Se llama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esperanza de vida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a la media de la cantidad de años que viven los individuos de una pobalción en un cierto periodo de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Se llama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esperanza de vida con buena salud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a la cantidad de años que se espera que una persona viva sin discapac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que determinan nuestra salud se clasifican en: medioambientales, biológicos, estilo de vida personal y sistema sanitario de cada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5157720"/>
            <a:ext cx="8501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760" y="2000160"/>
            <a:ext cx="7786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ecomendaciones para llevar un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estilo de vida san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Hacer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No fu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No consumir dro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ener una buena alimentación. Esto se consigue con una dieta completa y equilibrada en la que el aporte de grasas, hidratos de carbono, proteínas, vitaminas y minerales sea el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vitar el consumo de alcoh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44d26"/>
                </a:solidFill>
                <a:latin typeface="Constantia"/>
              </a:rPr>
              <a:t>Estilos de vida salud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484280"/>
            <a:ext cx="8501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8280" indent="-24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a ciencia que estudia las enfermedades es la Pat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ar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agnosticar la enfermedad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siguen una serie de pas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analizan sus sínt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estudian los signos clínicos que presenta el paciente, como temperatura corporal, pulso, presión arteria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realizan pruebas complementarias, como análisis de sangre y de or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diagnostica la enferm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Y por último, se pone el tratamiento más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692280"/>
            <a:ext cx="82296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44d26"/>
                </a:solidFill>
                <a:latin typeface="Constantia"/>
              </a:rPr>
              <a:t>La enfermedad y sus tip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5840" y="731880"/>
            <a:ext cx="8858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336699"/>
                </a:solidFill>
                <a:latin typeface="Constantia"/>
                <a:ea typeface="Arial Unicode MS"/>
              </a:rPr>
              <a:t>Clasificación de las enfermed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511280"/>
            <a:ext cx="871524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8280" indent="-24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Enfermedades infecciosas: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aquellas producidas por agentes patógenos, como virus, bacterias, hongos, protozoos y parásitos. Se pueden transmitir por contacto directo (SIDA), por inhalación, (gripe), por ingestión (salmonella), por contacto indirecto, (hepatitis), por insectos (malar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Enfermedades no infecciosa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Del aparato circulatorio, como las cardiopat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Neoplasias, tumores y cán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Del sistema inmunitario, como las alergia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Degenerativas, como el Parkin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Desequilibrios nutricionales, como la obes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8cc50"/>
              </a:buClr>
              <a:buFont typeface="Arial"/>
              <a:buChar char="•"/>
              <a:tabLst>
                <a:tab algn="l" pos="6382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621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Psicológicas, como la anorexia o la dep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44d26"/>
                </a:solidFill>
                <a:latin typeface="Constantia"/>
              </a:rPr>
              <a:t>Vacunas y medicamen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341360"/>
            <a:ext cx="85690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fensas natural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 nuestro cuerpo frente a las enfermed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Barreras inespecíficas; la piel, las mucosas y las células macrófagas que realizan el proceso de fagocit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Barreras específicas; los linfocitos, que crean anticuerpos frente a los antígenos de los microorganis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fensas artificial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Vacu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u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Antibió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Otros medicamentos como analgésicos y antipiré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249"/>
              </a:spcBef>
              <a:buClr>
                <a:srgbClr val="e7bc29"/>
              </a:buClr>
              <a:buFont typeface="Arial"/>
              <a:buChar char="•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écnicas médico-quirúrgicas, como los traspl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0200" y="638280"/>
            <a:ext cx="3576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500" spc="-1" strike="noStrike">
                <a:solidFill>
                  <a:srgbClr val="336699"/>
                </a:solidFill>
                <a:latin typeface="Constantia"/>
                <a:ea typeface="Arial Unicode MS"/>
              </a:rPr>
              <a:t>Imágen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3429000"/>
            <a:ext cx="3891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Enfermedades infecciosas producidas por un virus como el SIDA.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Sección transversal del virus del SIDA,  </a:t>
            </a: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 en Wikipedia,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800000">
            <a:off x="5000760" y="6285960"/>
            <a:ext cx="3387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Enfermedades no infecciosas como las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cardiopatías</a:t>
            </a: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. En Averroes, Junta de Andalucí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56000" y="907920"/>
            <a:ext cx="2522520" cy="246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85840" y="1500120"/>
            <a:ext cx="31338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3645000"/>
            <a:ext cx="3357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Estilos de vida que marcan nuestra salud. En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Flickr</a:t>
            </a: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, bajo licencia C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148360" y="393372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85880" y="4143240"/>
            <a:ext cx="240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308640"/>
            <a:ext cx="392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Defensas para combatir las enfermedades.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8"/>
              </a:rPr>
              <a:t>Vacuna</a:t>
            </a:r>
            <a:r>
              <a:rPr b="0" lang="es-ES" sz="1000" spc="-1" strike="noStrike">
                <a:solidFill>
                  <a:srgbClr val="000000"/>
                </a:solidFill>
                <a:latin typeface="Constantia"/>
              </a:rPr>
              <a:t>, en Wikipedia,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cp:lastPrinted>2010-10-08T10:54:31Z</cp:lastPrinted>
  <dcterms:modified xsi:type="dcterms:W3CDTF">2009-10-26T10:56:41Z</dcterms:modified>
  <cp:revision>56</cp:revision>
  <dc:subject/>
  <dc:title>Diapositiva 1</dc:title>
</cp:coreProperties>
</file>