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A esto se le llama ser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lickr.com/photos/28096801@N05/3884721254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160" y="1063440"/>
            <a:ext cx="9005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Ordenamos y mejoramos la información: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4400"/>
            </a:br>
            <a:r>
              <a:rPr b="1" lang="es-ES" sz="3900" spc="-1" strike="noStrike">
                <a:solidFill>
                  <a:srgbClr val="336699"/>
                </a:solidFill>
                <a:latin typeface="Arial"/>
              </a:rPr>
              <a:t>A esto se le llama ser eficaz</a:t>
            </a:r>
            <a:endParaRPr b="1" lang="en-US" sz="3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7600" y="5819760"/>
            <a:ext cx="51624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mos con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64120" y="2313000"/>
            <a:ext cx="2855880" cy="334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40360" y="5707080"/>
            <a:ext cx="3600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de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ieselDemo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bajo licencia Creative Comm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325080"/>
            <a:ext cx="83152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Matr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matriz es un conjunto ordenado de números en filas y co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2860560"/>
            <a:ext cx="3338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2806560"/>
            <a:ext cx="3059280" cy="133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9760" y="4406760"/>
            <a:ext cx="8489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dimensión de una matriz se expresa  mxn e indica el número de filas por colum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Suma de matr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matrices tienen que tener la misma dime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 es así, el resultado de la suma es una nueva matriz de la misma dimensión, en la que cada elemento sale de sumar los elementos que están en la misma 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3959280"/>
            <a:ext cx="56754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384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Product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un e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multiplica cada elemento de la matriz por dicho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triz por un vector o matriz colum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nº de columnas de la matriz tiene que coincidir con el nº de fi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cada fila se suma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ductos de los 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fila con el de la colum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59280" y="4213080"/>
            <a:ext cx="324972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384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Producto de dos matr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9280" y="4054320"/>
            <a:ext cx="4500720" cy="1879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nº de columnas de la primera tiene que ser igual al nº de filas de la segun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hace la operación anterior para cada fila con cada colum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· B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Arial"/>
              </a:rPr>
              <a:t>nxq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l resultado es una matriz C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Arial"/>
              </a:rPr>
              <a:t>mxq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triz identidad es el elemento neutr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384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Matriz inver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ólo existe de matrices cuadr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ara que exista no puede anularse ninguna fila completamente al aplicar el método de Gau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 matriz es la única que cumple que al multiplicarla por la original da la identidad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0" algn="ctr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·A</a:t>
            </a:r>
            <a:r>
              <a:rPr b="0" lang="es-ES" sz="2600" spc="-1" strike="noStrike" baseline="33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= I = A</a:t>
            </a:r>
            <a:r>
              <a:rPr b="0" lang="es-ES" sz="2600" spc="-1" strike="noStrike" baseline="33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·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matriz inversa se aplica para resolver ecuaciones con matrices, si hay una matriz que multiplica a la matriz incógn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Rafa</cp:lastModifiedBy>
  <dcterms:modified xsi:type="dcterms:W3CDTF">2010-06-14T10:07:22Z</dcterms:modified>
  <cp:revision>24</cp:revision>
  <dc:subject/>
  <dc:title>Diapositiva 1</dc:title>
</cp:coreProperties>
</file>