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1800" y="768240"/>
            <a:ext cx="511164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3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B1B11-17C1-4309-A176-2E2B8BD91658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CB4FB-3E2F-4532-9CFD-60E730AA5CA8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53816-F6B6-481A-BEAE-207CC1C0695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1EE4B-7643-44F8-A7E4-B3D1F73DFFEA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C0B98-BEAA-4BB3-8606-B18173EEFBAC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26A7B-11F7-4952-A79B-D775F8386924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AA00B-19A9-43C1-9941-F2CC5BD8934F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73754-A44F-4B74-BF81-AE59B1BC10E5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3896B-849F-480F-B772-23C9FFFC76E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42697-3F79-456D-AF4F-A389DAA7D8B0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86D33-8B9D-4C55-A739-E6EA3C2D91BF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68472-1C4F-4B3B-B6A2-C3C71E4A6006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83442-2D7D-4F2C-AC11-9CDCFD196C6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589ED-08D3-4A1C-BD48-9DD6D887C025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CC6D8-CC78-4827-A96E-D31FEE61B0E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0D51-FB3C-4EDB-91D1-09C801CA8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FFE7-F636-4396-BDF1-8F933F41E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D083-5F64-46AB-8FED-6F7D1E055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18B1-6594-4FFA-B8FD-1AB0AC5D3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221DD-AFC3-4660-AFBF-97330FC36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9D77E-1063-443B-B20B-FAF72C4FBC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3852B-24C7-4591-AABE-4215148237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9E53-D10B-49A6-868D-7092290063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F8A47-1041-4A87-9274-9CA386D7DE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7DBF7-CE27-4772-A2AF-3802FDC230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6526-ACBC-4FB6-AA26-5CDBAB89F3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5723-9B54-4B0D-8303-DF307B09EB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EBED8-B98B-4E17-9E9D-FADA43DC77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EDCB3-9F1A-4F77-875F-572F575C9E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31B61-4B43-4AA1-8EC4-94A2E168D1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67E90-425C-4AA9-A723-96FB550D5C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13A4D-26F5-48B3-8B15-241135A1F5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4F0B8-E94F-4B11-BEB9-1EB7F6819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F676-DB4D-4E8C-8246-CDB4E7795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2447-CDD1-47CD-8287-812219EAF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52BA-112F-4529-B332-DA224F7AF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BD7A-61B6-487F-8F00-D286A219C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1BC38-1B0A-466F-973B-C2AD81916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F081-2AF3-4613-82AD-512E93E15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46240"/>
            <a:ext cx="8226360" cy="1598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9ECFA-FEB6-4D8A-8263-74FBC999CDD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La biología molecu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46240"/>
            <a:ext cx="8226360" cy="1598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854F6B-9230-49A9-A98D-23FB2C96E915}" type="slidenum">
              <a: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Sequencing.jpg" TargetMode="External"/><Relationship Id="rId2" Type="http://schemas.openxmlformats.org/officeDocument/2006/relationships/hyperlink" Target="http://www.genome.gov//Pages/Hyperion/DIR/VIP/Glossary/Illustration/gene.cfm" TargetMode="External"/><Relationship Id="rId3" Type="http://schemas.openxmlformats.org/officeDocument/2006/relationships/hyperlink" Target="http://www.revista.unam.mx/vol.1/num3/sabias1/TuyelADN.html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2192040"/>
            <a:ext cx="83152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Vivir más y mejor: La biología molecular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11280" y="1844640"/>
            <a:ext cx="77864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as células se componen de membrana, citoplasma y núcl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n el núcleo se hallan los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gene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, responsables de la herencia, en forma de una molécula llamada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ADN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, que contiene cuatro tipos de bases (A, C, T, G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ADN tiene una estructura en doble hélice, que se enrolla sobre sí misma formando el cromoso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as personas tenemos 46 cromoso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907920"/>
            <a:ext cx="4321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Genes y her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9640" y="2133720"/>
            <a:ext cx="81439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a información genética está en la secuencia de bases del AD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sta información se transcribe en el núcleo a una molécula de ARN, muy semejante al AD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ARN transmite la información que se traduce a una proteí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Una proteína es un conjunto de aminoácidos. Todos los cometidos celulares son realizados por proteí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907920"/>
            <a:ext cx="525600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ADN-ARN-proteí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5280" y="2205000"/>
            <a:ext cx="814392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a ingeniería genética modifica secuencias genéticas, las introduce en la célula diana, que expresa ese gen híbr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rimero es necesario conocer la secuencia de bases, lo que se denomina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secuenciar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el AD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iene múltiples aplicaciones: fabricación de proteínas, diagnóstico de enfermedades, creación de transgénico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907920"/>
            <a:ext cx="48243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Ingeniería gené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28760" y="2000160"/>
            <a:ext cx="8143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44440">
              <a:lnSpc>
                <a:spcPct val="100000"/>
              </a:lnSpc>
              <a:spcBef>
                <a:spcPts val="649"/>
              </a:spcBef>
              <a:buClr>
                <a:srgbClr val="e7bc29"/>
              </a:buClr>
              <a:buFont typeface="Constantia"/>
              <a:buChar char="•"/>
              <a:tabLst>
                <a:tab algn="l" pos="63648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62028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Se corta un trozo de ADN, con enzimas de restri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649"/>
              </a:spcBef>
              <a:buClr>
                <a:srgbClr val="e7bc29"/>
              </a:buClr>
              <a:buFont typeface="Constantia"/>
              <a:buChar char="•"/>
              <a:tabLst>
                <a:tab algn="l" pos="63648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62028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Se multiplica la cantidad de ADN, mediante plásmidos y reproducción bacteriana, o mediante P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44440">
              <a:lnSpc>
                <a:spcPct val="100000"/>
              </a:lnSpc>
              <a:spcBef>
                <a:spcPts val="649"/>
              </a:spcBef>
              <a:buClr>
                <a:srgbClr val="e7bc29"/>
              </a:buClr>
              <a:buFont typeface="Constantia"/>
              <a:buChar char="•"/>
              <a:tabLst>
                <a:tab algn="l" pos="63648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62028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Se aísla el trozo deseado y se introduce en el huésp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648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6202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648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6202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 llaman también técnicas de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ADN recombinant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907920"/>
            <a:ext cx="77151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Técnicas de ingeniería gené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28760" y="2000160"/>
            <a:ext cx="814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royecto que ha logrado secuenciar el ADN hum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l ser humano tiene menos genes de los que se esperaban, y son muy semejantes a los de otras especies. La complejidad está en la versatilidad de la secuencia, su activación, la relación de unos genes con otros, etcét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ebemos comprender la forma en que cada gen es modulado por otros genes y por el entor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907920"/>
            <a:ext cx="49780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El genoma hum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57160" y="2214720"/>
            <a:ext cx="271476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1125360"/>
            <a:ext cx="5627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La biología molec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35280" y="5084640"/>
            <a:ext cx="15843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 u="sng">
                <a:solidFill>
                  <a:srgbClr val="ccccff"/>
                </a:solidFill>
                <a:uFillTx/>
                <a:latin typeface="Constantia"/>
                <a:hlinkClick r:id="rId1"/>
              </a:rPr>
              <a:t>Imagen </a:t>
            </a:r>
            <a:r>
              <a:rPr b="1" lang="es-ES" sz="1000" spc="-1" strike="noStrike">
                <a:solidFill>
                  <a:srgbClr val="000000"/>
                </a:solidFill>
                <a:latin typeface="Constantia"/>
              </a:rPr>
              <a:t>de JSchmidt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nstantia"/>
              </a:rPr>
              <a:t>bajo licencia C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6000" y="5300640"/>
            <a:ext cx="2663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 u="sng">
                <a:solidFill>
                  <a:srgbClr val="ccccff"/>
                </a:solidFill>
                <a:uFillTx/>
                <a:latin typeface="Constantia"/>
                <a:hlinkClick r:id="rId2"/>
              </a:rPr>
              <a:t>Imagen </a:t>
            </a:r>
            <a:r>
              <a:rPr b="1" lang="es-ES" sz="1000" spc="-1" strike="noStrike">
                <a:solidFill>
                  <a:srgbClr val="000000"/>
                </a:solidFill>
                <a:latin typeface="Constantia"/>
              </a:rPr>
              <a:t>de NHGRI, de dominio públ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2920" y="5643720"/>
            <a:ext cx="2786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 u="sng">
                <a:solidFill>
                  <a:srgbClr val="ccccff"/>
                </a:solidFill>
                <a:uFillTx/>
                <a:latin typeface="Constantia"/>
                <a:hlinkClick r:id="rId3"/>
              </a:rPr>
              <a:t>Imagen </a:t>
            </a:r>
            <a:r>
              <a:rPr b="1" lang="es-ES" sz="1000" spc="-1" strike="noStrike">
                <a:solidFill>
                  <a:srgbClr val="000000"/>
                </a:solidFill>
                <a:latin typeface="Constantia"/>
              </a:rPr>
              <a:t>de A. Alvarado, bajo licencia CC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50920" y="2637000"/>
            <a:ext cx="3152520" cy="2857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635280" y="1700280"/>
            <a:ext cx="1524240" cy="3162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5364000" y="2276640"/>
            <a:ext cx="3581640" cy="286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09-10-26T11:33:36Z</dcterms:modified>
  <cp:revision>27</cp:revision>
  <dc:subject/>
  <dc:title>Diapositiva 1</dc:title>
</cp:coreProperties>
</file>