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-14887440" y="-12806280"/>
            <a:ext cx="18072000" cy="135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24000" y="754200"/>
            <a:ext cx="2549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096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24000" y="754200"/>
            <a:ext cx="2549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096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124000" y="754200"/>
            <a:ext cx="2549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096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24000" y="754200"/>
            <a:ext cx="2549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096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24000" y="754200"/>
            <a:ext cx="2549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096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24000" y="754200"/>
            <a:ext cx="2549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096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24000" y="754200"/>
            <a:ext cx="2549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096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76720" y="6583320"/>
            <a:ext cx="586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 </a:t>
            </a:r>
            <a:r>
              <a:rPr b="1" lang="es-ES" sz="1800" spc="-1" strike="noStrike">
                <a:solidFill>
                  <a:srgbClr val="336699"/>
                </a:solidFill>
                <a:latin typeface="Arial"/>
              </a:rPr>
              <a:t>En Matemáticas también existen las desigual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7280" y="1062000"/>
            <a:ext cx="8825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Ordenamos y mejoramos la información:</a:t>
            </a: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En Matemáticas también existen las desigualdade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280" y="4149360"/>
            <a:ext cx="37940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ecu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10360" y="2637000"/>
            <a:ext cx="240948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6920" y="90792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ecu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 primer grado es una desigualdad donde aparece una incógni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resolverla, tendremos que encontrar los valores que cumplen la desigual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ene la for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x+b&lt;c, ax+b&gt;c, ax+b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, ax+b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3280" y="2475000"/>
            <a:ext cx="4249800" cy="3187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26920" y="3500280"/>
            <a:ext cx="367380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o debemos olvidar, que si multiplicamos ambos miembros de la desigualdad por un número negativo, el signo de la desigualdad camb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42920" y="1197000"/>
            <a:ext cx="7489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solución de una inecuación de primer grado la representamos en un intervalo y la dibujamos en la recta r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774880" y="2927520"/>
                <a:ext cx="3706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42920" y="4797360"/>
            <a:ext cx="7704360" cy="7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42920" y="1341360"/>
            <a:ext cx="74898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solución de un sistema de inecuaciones de primer grado con una incógnita la representamos en un intervalo y la dibujamos en la recta r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567240" y="2857680"/>
                <a:ext cx="201924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,8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4443480"/>
            <a:ext cx="7497720" cy="128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00000" y="792000"/>
            <a:ext cx="770436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inecuación en el plano viene dada por una desigualdad del tip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x + by ≤ c, ax + by &lt;c, ax + by ≥ c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ó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x + by &gt; 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la solución corresponde a un semipl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2205000"/>
            <a:ext cx="338472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cuerda que se llam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mipla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ada una de las dos partes en que un plano queda dividido por una rec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recta asociada a una inecuación resulta de cambiar el símbolo de desigualdad por el de igualdad,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x+by=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32320" y="2235240"/>
            <a:ext cx="396540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55640" y="1268280"/>
            <a:ext cx="77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sistema de inecuaciones con dos incógnitas se representa en el pl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9600" y="2314440"/>
            <a:ext cx="5226120" cy="3265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55640" y="2855880"/>
                <a:ext cx="2452680" cy="15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≥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435640" y="1125360"/>
            <a:ext cx="3240000" cy="40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junto solu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 un sistema de inecuaciones lineales se obtiene como intersección de las soluciones obtenidas para cada una de las inecuaciones que lo form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conjunto solución también se le llam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gión factib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4537080" cy="4246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5:37Z</dcterms:created>
  <dc:creator>pc</dc:creator>
  <dc:description/>
  <dc:language>en-US</dc:language>
  <cp:lastModifiedBy>Rafa</cp:lastModifiedBy>
  <dcterms:modified xsi:type="dcterms:W3CDTF">2010-06-14T10:11:27Z</dcterms:modified>
  <cp:revision>30</cp:revision>
  <dc:subject/>
  <dc:title>Diapositiva 1</dc:title>
</cp:coreProperties>
</file>