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Unidad 4. La población españ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C1B4-45A4-41CD-8421-356BDEF3AD6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8EF28A-095C-4A6F-831B-61E3085A1E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44F5-7091-4C23-BC5F-E32C8B42E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60C8-0C2C-4A7A-BBA6-E342F2E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747E-DF15-4A5A-A301-B805D185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A019-D29B-4E93-8E46-E1BACE29A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59CD1-3776-4D2B-AF12-2CD5DEF34D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2DB3D-E170-4AB0-AD89-FE4EEC39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5553E-C686-45B5-99DE-DED85014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B5D0-9B34-4E28-B071-7EBF67D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F0FA-753D-4BD1-80DB-8886A62E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FA66B-AC4B-41FD-A1AB-17A328F7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089B1-72AC-4160-8DF3-0BC4716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8ECE-8CC3-4970-A91F-7FFF5F4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3687-F915-4A10-B765-5D79FBBA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5EBF-2744-46DB-923D-AA73332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AA175-582F-4F1D-B73C-E7B1B5E2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80A1E-4833-463C-8D93-C9D1C0D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BF5B6-E5E4-4DE7-9CBC-563B3A224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E325-2F96-48FB-A31D-9050D0B8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796D-DFCC-4C16-928C-555A690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64B7-04C9-4119-972C-0077B806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6050-7FA1-4072-BF49-C9B2D84A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BDEB-9665-4E1C-AF75-842EDC3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3551-5E3E-462F-9EDC-04C7FBE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E8E0-0FEE-4ED6-B207-F0AABE8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083B44-4B98-45DF-9CE8-5D1F1C61BA1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0A95AE-C38A-4D47-9256-4AEEEAD74594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6524640"/>
            <a:ext cx="39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El crecimiento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14760" y="3921120"/>
            <a:ext cx="2857320" cy="189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57680" y="603252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1 . Autor: Creación prop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0360" y="747360"/>
            <a:ext cx="8315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desarrollo y la estrategia empresarial: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crecimiento de la empre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72080" y="2357280"/>
            <a:ext cx="3225960" cy="214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7120" y="1143000"/>
            <a:ext cx="62150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pecial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netración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sarrollo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sarrollo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ver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29200" y="46432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.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crecimiento intern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crecimiento extern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1440" indent="-271440" algn="ctr">
              <a:spcBef>
                <a:spcPts val="1001"/>
              </a:spcBef>
              <a:buClr>
                <a:srgbClr val="e7bc29"/>
              </a:buClr>
              <a:buSzPct val="95000"/>
              <a:buFont typeface="Wingdings" charset="2"/>
              <a:buChar char="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ción de socieda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 algn="ctr">
              <a:lnSpc>
                <a:spcPct val="100000"/>
              </a:lnSpc>
              <a:spcBef>
                <a:spcPts val="1001"/>
              </a:spcBef>
              <a:buClr>
                <a:srgbClr val="a5b592"/>
              </a:buClr>
              <a:buSzPct val="85000"/>
              <a:buFont typeface="Wingdings" charset="2"/>
              <a:buChar char="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Fu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 algn="ctr">
              <a:lnSpc>
                <a:spcPct val="100000"/>
              </a:lnSpc>
              <a:spcBef>
                <a:spcPts val="1001"/>
              </a:spcBef>
              <a:buClr>
                <a:srgbClr val="a5b592"/>
              </a:buClr>
              <a:buSzPct val="85000"/>
              <a:buFont typeface="Wingdings" charset="2"/>
              <a:buChar char="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Absor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1001"/>
              </a:spcBef>
              <a:buClr>
                <a:srgbClr val="e7bc29"/>
              </a:buClr>
              <a:buSzPct val="95000"/>
              <a:buFont typeface="Wingdings" charset="2"/>
              <a:buChar char="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ticipación de soc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1001"/>
              </a:spcBef>
              <a:buClr>
                <a:srgbClr val="e7bc29"/>
              </a:buClr>
              <a:buSzPct val="95000"/>
              <a:buFont typeface="Wingdings" charset="2"/>
              <a:buChar char="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operación y alianza de empre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57120" y="1143000"/>
            <a:ext cx="6375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91160" y="2143080"/>
            <a:ext cx="2027520" cy="1521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357960" y="3714840"/>
            <a:ext cx="244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5.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oncentración empresarial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NTRACIÓN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NT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NTRACIÓN CONGLO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NTRACIÓN CONCÉN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43760" y="2209680"/>
            <a:ext cx="2690640" cy="178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286680" y="414324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3 . Autor: Creación prop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Ventajas e inconvenientes del crecimient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792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 (ECONOMÍAS DE ESC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DU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IMINACIÓN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OR ESPE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e7bc29"/>
              </a:buClr>
              <a:buSzPct val="9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TERNALIDADES 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 </cp:lastModifiedBy>
  <dcterms:modified xsi:type="dcterms:W3CDTF">2010-10-08T16:54:51Z</dcterms:modified>
  <cp:revision>70</cp:revision>
  <dc:subject/>
  <dc:title>Tema 1. La actividad económ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tado">
    <vt:lpwstr>Subido</vt:lpwstr>
  </property>
</Properties>
</file>