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51E-7A8C-4211-8E02-F410F24F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98D-3C77-40BE-93BA-252F6C1F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71D-8759-49E7-B1B7-AC7D8DF6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76E-0604-427A-90DC-CC917642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59C-EFD5-4D70-BD8E-6E389B43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BA6-540E-4C0C-B312-DACAB9AC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37F-73E4-4B34-B560-59A282DF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EB6-2E01-4F69-92D5-50321AE8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6CD-AF24-40DD-A0EA-2BEAD79B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ACA-FA21-4A50-912A-8FDC5067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5EC-30CB-4642-94F3-F041C4A5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59F-499A-4AA1-98DE-AF915CC3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924"/>
                </a:solidFill>
                <a:latin typeface="Constantia"/>
              </a:rPr>
              <a:t>Geodinámica exte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5632-FB46-4F74-A8AF-BCB164A4112E}" type="slidenum">
              <a:rPr b="0" lang="es-ES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6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Arial"/>
              </a:rPr>
              <a:t>El sustrato de la vida: el s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8" name="Line 9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Geodinámica externa:</a:t>
            </a:r>
            <a:br>
              <a:rPr sz="4400"/>
            </a:b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l sustrato de la vida: el suelo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7 Rectángulo"/>
          <p:cNvSpPr/>
          <p:nvPr/>
        </p:nvSpPr>
        <p:spPr>
          <a:xfrm>
            <a:off x="1476360" y="4245120"/>
            <a:ext cx="635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 bajo licencia de Creative Commons (Wikimedia Commons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hesa Boyal. Bollullos Par del Condado (Huelv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139840" y="954000"/>
            <a:ext cx="5184720" cy="3276720"/>
          </a:xfrm>
          <a:prstGeom prst="rect">
            <a:avLst/>
          </a:prstGeom>
          <a:ln w="0">
            <a:noFill/>
          </a:ln>
        </p:spPr>
      </p:pic>
      <p:sp>
        <p:nvSpPr>
          <p:cNvPr id="99" name="4 Rectángulo"/>
          <p:cNvSpPr/>
          <p:nvPr/>
        </p:nvSpPr>
        <p:spPr>
          <a:xfrm>
            <a:off x="549360" y="4635360"/>
            <a:ext cx="828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uelo es un conjunto de materiales superficiales de escaso espesor, dispuesto en capas u horizontes, en el que se asienta la vida y que es el resultado de la acción de distintos procesos físicos, químicos y biológicos sobre las rocas superfi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iencia especializada en el estudio de los suelos es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dafolog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 está vinculada tanto a la geología como a la biología y la agricu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 Título"/>
          <p:cNvSpPr/>
          <p:nvPr/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Arial"/>
              </a:rPr>
              <a:t>1. Composición y caracter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Rectángulo"/>
          <p:cNvSpPr/>
          <p:nvPr/>
        </p:nvSpPr>
        <p:spPr>
          <a:xfrm>
            <a:off x="358920" y="1419120"/>
            <a:ext cx="851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 Rectángulo"/>
          <p:cNvSpPr/>
          <p:nvPr/>
        </p:nvSpPr>
        <p:spPr>
          <a:xfrm>
            <a:off x="549360" y="1244520"/>
            <a:ext cx="8132760" cy="50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todo suelo se distinguen una parte inorgánica y otra orgán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) Inorgánica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stá compuesta por tres fase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.1) Fase sólida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minerales en proceso de alter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.2) Fase líquida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stituida por agua e iones disueltos (Na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etc.) que sirven de nutrientes a las plant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.3) Fase gaseosa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formada por los gases atmosféricos y los gases desprendidos de la actividad biológica (O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). 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) Orgánic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.1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res vivos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parte vegetal que habita el suelo (raíces), microfauna y microorganismos (hongos y bacteria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.2) Restos orgánicos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mayoritariamente restos veget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.3) Compuestos húmicos.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stancias derivadas de la descomposición de los restos orgánic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los seres vivos, lo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croorganism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bacterias y hongos) son los más importantes ya que descomponen los restos vegetales transformándolos en matería inorgánica (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neraliz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restos orgánicos no se mineralizan directamente sino que van transformandose en compuestos orgánicos cada vez más sencillos (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umific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) hasta convertirse en moléculas inorgánic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2698920" y="5629320"/>
            <a:ext cx="36194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Rectángulo"/>
          <p:cNvSpPr/>
          <p:nvPr/>
        </p:nvSpPr>
        <p:spPr>
          <a:xfrm>
            <a:off x="512640" y="615960"/>
            <a:ext cx="832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uelo es una mezcla de materiales sólidos, líquidos (agua) y gaseosos (aire). La adecuada relación entre estos componentes determina la capacidad de hacer crecer las plantas y la disponibilidad de suficientes nutrientes para el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roporción de los componentes determina una serie de propiedades como son: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x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os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meabil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 Título"/>
          <p:cNvSpPr/>
          <p:nvPr/>
        </p:nvSpPr>
        <p:spPr>
          <a:xfrm>
            <a:off x="465120" y="2048040"/>
            <a:ext cx="8315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Arial"/>
              </a:rPr>
              <a:t>2. Formación del s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3 Rectángulo"/>
          <p:cNvSpPr/>
          <p:nvPr/>
        </p:nvSpPr>
        <p:spPr>
          <a:xfrm>
            <a:off x="630360" y="2495520"/>
            <a:ext cx="814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ormación del suelo se puede resumir en una serie de etapas: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- Disgregación mecánica de las ro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- Meteorización quím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los materiales fragmen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- Instalación de vegetales y anim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bre ese sustrato inorgánico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- Mezcla de todos estos productos miner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restos orgánicos y sustancias químicas entre sí, y con agua y aire interst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920960" y="4251240"/>
            <a:ext cx="55594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Título"/>
          <p:cNvSpPr/>
          <p:nvPr/>
        </p:nvSpPr>
        <p:spPr>
          <a:xfrm>
            <a:off x="492120" y="612720"/>
            <a:ext cx="83152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Arial"/>
              </a:rPr>
              <a:t>3. Perfil del s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2 Rectángulo"/>
          <p:cNvSpPr/>
          <p:nvPr/>
        </p:nvSpPr>
        <p:spPr>
          <a:xfrm>
            <a:off x="411120" y="1098720"/>
            <a:ext cx="861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erfil de un suelo es la ordenación vertical de todos sus horizontes hasta la roca madre. Los horizontes o niveles son capas que se desarrollan en el seno del suelo y que presentan características dife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incipales horizontes 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izonte 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ixiviado. Contiene pocas sales minerales, ya que son arrastradas hacia abajo por las aguas al infiltra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izonte B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precipitación.Tiene color claro por su pobreza en humus. Presenta una acumulación de sales de calcio, aluminio o hierro procedentes de los niveles superi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izonte C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ormado por fragmentos procedentes de la meteorización mecánica y/o química de la roca madre subyac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ca madre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terial original sobre el que se desarrolla 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66720" y="4437000"/>
            <a:ext cx="3529080" cy="1998720"/>
          </a:xfrm>
          <a:prstGeom prst="rect">
            <a:avLst/>
          </a:prstGeom>
          <a:ln w="0">
            <a:noFill/>
          </a:ln>
        </p:spPr>
      </p:pic>
      <p:sp>
        <p:nvSpPr>
          <p:cNvPr id="111" name="4 Rectángulo"/>
          <p:cNvSpPr/>
          <p:nvPr/>
        </p:nvSpPr>
        <p:spPr>
          <a:xfrm>
            <a:off x="128520" y="646128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ágenes bajo licencia de Creative Commons (1)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5 Rectángulo"/>
          <p:cNvSpPr/>
          <p:nvPr/>
        </p:nvSpPr>
        <p:spPr>
          <a:xfrm>
            <a:off x="4243320" y="4497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espesor e incluso la presencia de estos horizontes varía según el tipo de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demos distinguir entr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elos zon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característicos de un determinado clima)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elos azon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caracterizados por factores locales: tipo de litología, topografía, etc.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1 Título"/>
          <p:cNvSpPr/>
          <p:nvPr/>
        </p:nvSpPr>
        <p:spPr>
          <a:xfrm>
            <a:off x="492120" y="612720"/>
            <a:ext cx="83152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Arial"/>
              </a:rPr>
              <a:t>4. El suelo como re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6 Rectángulo"/>
          <p:cNvSpPr/>
          <p:nvPr/>
        </p:nvSpPr>
        <p:spPr>
          <a:xfrm>
            <a:off x="476280" y="1131840"/>
            <a:ext cx="8558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uelo es un recurso natural que tiene diferentes usos. Se utiliza para producir alimentos, extraer madera, minerales, rocas energéticas o para obtener agua de é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gradació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suelo es el proceso que disminuye la capacidad del mismo de producir, cuantitativa y/o cualitativamente bienes y servicios para el ser huma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incipales procesos de degradación 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gradación quím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érdida de fertilidad del suelo por salinización, acidificación, compuestos tóxicos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gradación física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érdida de la estructura del suelo por compactación, por ejemplo, si se utiliza maquinaria pesada en un cult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gradación biológica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e pérdida de humus por la eliminación de organismos humidificadores (microorganismo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)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rosión del sue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Tanto hídrica (lluvia, aguas salvaje, ríos, glaciares, etc.) y eólica. Puede verse incrementada por la actuación huma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rtiz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el proceso de degradación ecológica por el cual la tierra productiva pierde parte o todo su potencial de producción, que lleva a la aparición de las condiciones desért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1:00:34Z</dcterms:created>
  <dc:creator>Javier y sandra</dc:creator>
  <dc:description/>
  <dc:language>en-US</dc:language>
  <cp:lastModifiedBy> </cp:lastModifiedBy>
  <dcterms:modified xsi:type="dcterms:W3CDTF">2011-05-27T07:44:35Z</dcterms:modified>
  <cp:revision>87</cp:revision>
  <dc:subject/>
  <dc:title>La célula como unidad de organización biológica</dc:title>
</cp:coreProperties>
</file>