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9.gif" ContentType="image/gif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76A9-AA22-4E53-AC33-3524E9063202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8B5-076D-47FE-9852-82A9295CCB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5B5-A5E9-4110-BB39-F07D281EA9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B09-C354-4783-8F2A-B231756744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E9B-8810-4170-8122-2AB84A7C5D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3F52-A5A2-4B81-8C77-6E101C4C87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0BE-367E-4F20-99E3-4AA6BE68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931-AB68-4E51-A52A-25ED0C33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3B9-FEE3-4226-9031-D91B4CB6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7AD-CFC0-4B97-9F47-41B7B005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190-0746-4C84-8DFC-CC6DC050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52E-FB81-4326-9A39-0D20E90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3B5-E168-45CA-9628-EF2F84B6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918-8611-42C9-B879-41BB0063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06C-0238-4D63-8891-AE42A114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E84-FE9F-43EF-A531-4CC50D0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1EE-BDF6-432E-B8C9-0C8B4824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136-6E00-4A67-86BA-AF447D4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5C94-FC87-472C-847C-5610C2CE444F}" type="datetime">
              <a:rPr b="0" lang="es-ES" sz="1200" spc="-1" strike="noStrike">
                <a:solidFill>
                  <a:srgbClr val="404924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678-E5E9-4D96-B8E0-3B63C40422C5}" type="slidenum">
              <a:rPr b="0" lang="es-ES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29200" y="6572160"/>
            <a:ext cx="321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Trebuchet MS"/>
              </a:rPr>
              <a:t>Energía térmica y c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Convection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en.wikipedia.org/wiki/File:4-Stroke-Engine.gif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energía y su transferencia: </a:t>
            </a: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 Energía térmica y calo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1"/>
          <p:cNvSpPr/>
          <p:nvPr/>
        </p:nvSpPr>
        <p:spPr>
          <a:xfrm>
            <a:off x="500040" y="928800"/>
            <a:ext cx="796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e tema se estudia qué se entiende por sistema en termodinámica y los principios generales que rigen la evolución de los mismos. Se verá como el intercambio de energía entre sistemas termodinámicos debe realizarse bien mediante la realización de un trabajo, bien a través del intercambio de calor, lo que se conoce como primer principio de la termodinám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71680" y="2714760"/>
            <a:ext cx="492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os intercambios es básico el concept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en términos de la teoría cinética está relacionado con la energía cinética media de las partículas que forman un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nivel macroscópico, se define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o la magnitud común a dos cuerpos que se encuentran en equilibrio tér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7 Imagen" descr="equilibrio termico copia.jpg"/>
          <p:cNvPicPr/>
          <p:nvPr/>
        </p:nvPicPr>
        <p:blipFill>
          <a:blip r:embed="rId1"/>
          <a:stretch/>
        </p:blipFill>
        <p:spPr>
          <a:xfrm>
            <a:off x="5572080" y="3214800"/>
            <a:ext cx="3167280" cy="1584360"/>
          </a:xfrm>
          <a:prstGeom prst="rect">
            <a:avLst/>
          </a:prstGeom>
          <a:ln w="0">
            <a:noFill/>
          </a:ln>
        </p:spPr>
      </p:pic>
      <p:sp>
        <p:nvSpPr>
          <p:cNvPr id="101" name="8 Rectángulo"/>
          <p:cNvSpPr/>
          <p:nvPr/>
        </p:nvSpPr>
        <p:spPr>
          <a:xfrm>
            <a:off x="571680" y="23572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modinám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parte de la física que estudia los intercambios energéticos producidos entre un cuerpo y el entorno que lo ro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571680" y="557208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unidad de temperatura en el Sistema Internacional es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elvin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5183280" y="492912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Rectángulo"/>
          <p:cNvSpPr/>
          <p:nvPr/>
        </p:nvSpPr>
        <p:spPr>
          <a:xfrm>
            <a:off x="500040" y="1000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nom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stema termodinám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región del Universo separada del resto (que denominarem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o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or una superficie cerrada, real o imaginaria, a través de la que se relaciona mediante intercambios de materia o energ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 pues, el Universo está formado a efectos termodinámicos por el sistema y su ento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2571840" y="350532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7 Imagen" descr="Sistema_1.jpg"/>
          <p:cNvPicPr/>
          <p:nvPr/>
        </p:nvPicPr>
        <p:blipFill>
          <a:blip r:embed="rId1"/>
          <a:stretch/>
        </p:blipFill>
        <p:spPr>
          <a:xfrm>
            <a:off x="3000240" y="1928880"/>
            <a:ext cx="3071880" cy="1536480"/>
          </a:xfrm>
          <a:prstGeom prst="rect">
            <a:avLst/>
          </a:prstGeom>
          <a:ln w="0">
            <a:noFill/>
          </a:ln>
        </p:spPr>
      </p:pic>
      <p:sp>
        <p:nvSpPr>
          <p:cNvPr id="107" name="6 Rectángulo"/>
          <p:cNvSpPr/>
          <p:nvPr/>
        </p:nvSpPr>
        <p:spPr>
          <a:xfrm>
            <a:off x="500040" y="43578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nom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or (Q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proceso de transferencia de energía entre dos sistemas a diferente temperatura sin que se realice ningún trabaj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7 Rectángulo"/>
          <p:cNvSpPr/>
          <p:nvPr/>
        </p:nvSpPr>
        <p:spPr>
          <a:xfrm>
            <a:off x="500040" y="500076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se mide en el S.I.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ulios (J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ero también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orías (cal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caloría se define como la energía necesaria para elevar un grado la temperatura de un gramo de agua. La relación entre julio y caloría 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cal = 4.18 J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0"/>
          <p:cNvSpPr/>
          <p:nvPr/>
        </p:nvSpPr>
        <p:spPr>
          <a:xfrm>
            <a:off x="714240" y="4357800"/>
            <a:ext cx="178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imación de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ni Luk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2571840" y="2155680"/>
            <a:ext cx="628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isten  tres formas de transmisión de cal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du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 donde la energía se transporta sin que exista desplazamiento neto de materia debido a los choques entre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v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en la que la energía se propaga debido a la diferencia de densidad entre los fluidos calientes y fríos. En ella existe transporte de m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adia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consistente en la propagación de energía mediante ondas electromagnéticas. En ella se transporta energía sin transporte de ma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8760" y="51656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provoca diferentes efectos en los cuerpos, entre los que desta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mbios de estado, caracterizados por su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latación térmica, que viene dada p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28760" y="884160"/>
            <a:ext cx="83581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alor que es necesario suministrar a un cuerpo de masa m para que su temperatura pase de una inicial (T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a otra final (T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viene dada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c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el calor específico de la sustancia en cuest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://127.0.0.1:51235/fq1_u3_t2_contenidos/resources/eXe_LaTeX_math_2.1.gif"/>
          <p:cNvPicPr/>
          <p:nvPr/>
        </p:nvPicPr>
        <p:blipFill>
          <a:blip r:embed="rId2"/>
          <a:stretch/>
        </p:blipFill>
        <p:spPr>
          <a:xfrm>
            <a:off x="3714840" y="1571760"/>
            <a:ext cx="2171520" cy="285480"/>
          </a:xfrm>
          <a:prstGeom prst="rect">
            <a:avLst/>
          </a:prstGeom>
          <a:ln w="0">
            <a:noFill/>
          </a:ln>
        </p:spPr>
      </p:pic>
      <p:pic>
        <p:nvPicPr>
          <p:cNvPr id="114" name="9 Imagen" descr="Conveccion.gif"/>
          <p:cNvPicPr/>
          <p:nvPr/>
        </p:nvPicPr>
        <p:blipFill>
          <a:blip r:embed="rId3"/>
          <a:stretch/>
        </p:blipFill>
        <p:spPr>
          <a:xfrm>
            <a:off x="457200" y="251460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115" name="10 Imagen" descr="eXe_LaTeX_math_2.gif"/>
          <p:cNvPicPr/>
          <p:nvPr/>
        </p:nvPicPr>
        <p:blipFill>
          <a:blip r:embed="rId4"/>
          <a:stretch/>
        </p:blipFill>
        <p:spPr>
          <a:xfrm>
            <a:off x="7086600" y="5791320"/>
            <a:ext cx="1143000" cy="253800"/>
          </a:xfrm>
          <a:prstGeom prst="rect">
            <a:avLst/>
          </a:prstGeom>
          <a:ln w="0">
            <a:noFill/>
          </a:ln>
        </p:spPr>
      </p:pic>
      <p:pic>
        <p:nvPicPr>
          <p:cNvPr id="116" name="12 Imagen" descr="eXe_LaTeX_math_3.gif"/>
          <p:cNvPicPr/>
          <p:nvPr/>
        </p:nvPicPr>
        <p:blipFill>
          <a:blip r:embed="rId5"/>
          <a:stretch/>
        </p:blipFill>
        <p:spPr>
          <a:xfrm>
            <a:off x="5334120" y="6095880"/>
            <a:ext cx="198108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9 Rectángulo"/>
          <p:cNvSpPr/>
          <p:nvPr/>
        </p:nvSpPr>
        <p:spPr>
          <a:xfrm>
            <a:off x="571680" y="9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ntercambio de energía entre sistemas puede realizarse de dos for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forma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b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cuando alguna fuerza provoca un despla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forma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l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cuando existe diferencia de temperaturas o se produce un cambio de es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0 Rectángulo"/>
          <p:cNvSpPr/>
          <p:nvPr/>
        </p:nvSpPr>
        <p:spPr>
          <a:xfrm>
            <a:off x="500040" y="22147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nom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ergía interna  (U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un sistema a la suma de las energías cinética y potencial de todas las partículas que lo compo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00040" y="2862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ariación de la energía interna de un sistema es igual a la suma de la energía suministrada en forma de trabajo (W) más la aportada en forma de calor (Q). Esto se conoce como primer principio de la termodinámi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http://127.0.0.1:51235/fq1_u3_t2_contenidos/resources/eXe_LaTeX_math_2.2.gif"/>
          <p:cNvPicPr/>
          <p:nvPr/>
        </p:nvPicPr>
        <p:blipFill>
          <a:blip r:embed="rId1"/>
          <a:stretch/>
        </p:blipFill>
        <p:spPr>
          <a:xfrm>
            <a:off x="3357720" y="3786120"/>
            <a:ext cx="1311120" cy="214560"/>
          </a:xfrm>
          <a:prstGeom prst="rect">
            <a:avLst/>
          </a:prstGeom>
          <a:ln w="0">
            <a:noFill/>
          </a:ln>
        </p:spPr>
      </p:pic>
      <p:sp>
        <p:nvSpPr>
          <p:cNvPr id="121" name="13 Rectángulo"/>
          <p:cNvSpPr/>
          <p:nvPr/>
        </p:nvSpPr>
        <p:spPr>
          <a:xfrm>
            <a:off x="500040" y="41432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istemas termodinámicos no se caracterizan por tener trabajo ni calor, sino que tienen energía interna. Trabajo y calor simplemente son las manifestaciones de la variación de su energía in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14 Imagen" descr="Convenio Signos.jpg"/>
          <p:cNvPicPr/>
          <p:nvPr/>
        </p:nvPicPr>
        <p:blipFill>
          <a:blip r:embed="rId2"/>
          <a:stretch/>
        </p:blipFill>
        <p:spPr>
          <a:xfrm>
            <a:off x="5000760" y="385776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0"/>
          <p:cNvSpPr/>
          <p:nvPr/>
        </p:nvSpPr>
        <p:spPr>
          <a:xfrm>
            <a:off x="4929120" y="585792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728640" y="1459800"/>
            <a:ext cx="4300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ambios producidos en un sistema termodinámico se denomina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formaciones termodinám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entre ellas desta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ción isóbara (P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ción isócora (V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ción isotérmica (T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ción adiabática (Q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0 Imagen" descr="4-Stroke-Engine.gif"/>
          <p:cNvPicPr/>
          <p:nvPr/>
        </p:nvPicPr>
        <p:blipFill>
          <a:blip r:embed="rId1"/>
          <a:stretch/>
        </p:blipFill>
        <p:spPr>
          <a:xfrm>
            <a:off x="6269040" y="1523880"/>
            <a:ext cx="1827360" cy="3962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324480" y="5500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imación de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tzonBike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Creative commo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 </cp:lastModifiedBy>
  <dcterms:modified xsi:type="dcterms:W3CDTF">2011-03-25T09:29:47Z</dcterms:modified>
  <cp:revision>80</cp:revision>
  <dc:subject/>
  <dc:title>Tema 1. La actividad económica</dc:title>
</cp:coreProperties>
</file>