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3457440" y="6413400"/>
            <a:ext cx="74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Magia: Los primeros pasos del arte. La pre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4800" y="742680"/>
            <a:ext cx="8310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Magia: Los primeros pasos del Arte. La prehistoria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05960" y="5370480"/>
            <a:ext cx="516276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orígenes de las a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4827600" y="2595600"/>
            <a:ext cx="3782880" cy="2584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1344600" y="1795320"/>
            <a:ext cx="36036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1. Nuestros antepasado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5662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ehistoria es el periodo más largo de la historia en el que la escritura aún no había aparecido. Se divide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leolítico: el hombre era nómada, vivía en cuevas en clanes y tallaba la piedra para elaborar úti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olítico: el hombre se volvió sedentario con la aparición de la agricultura. Para ello fue necesario mejorar el trabajo de la piedra con la fabricación de útiles pulimen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dad de los Metales:   la aparición de los metales produjo un cambio en la sociedad que se jerarquiz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6041880" y="1947960"/>
            <a:ext cx="29275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2. El arte del paleolític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452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ntura rupestre: en las paredes de las cuevas para propiciar la caza. Aparecen animales, real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am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ca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us : figurillas femeninas de pechos y caderas abultados como símbolo de fecundi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932360" y="1878120"/>
            <a:ext cx="40114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3. El arte del Neolític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00200"/>
            <a:ext cx="44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ntura rupestre: escenas de animales esquemáticas y figuras humanas esti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g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rámica: decorada con motivos geométricos. Existen varios t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d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pani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4968720" y="1600200"/>
            <a:ext cx="3571920" cy="234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6570720" y="3903840"/>
            <a:ext cx="23796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4. El arte de la Edad de los Metal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37069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construcciones megalí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nhir: piedra clavada en el duelo en forma de alineamiento o cróml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lmen: dos losas clavadas y otra horizontal a modo de cubierta. Si es mayor con una cámara al fondo se llama dolmen de corre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505400" y="2598840"/>
            <a:ext cx="42876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ieda1</cp:lastModifiedBy>
  <dcterms:modified xsi:type="dcterms:W3CDTF">2011-12-01T18:06:13Z</dcterms:modified>
  <cp:revision>32</cp:revision>
  <dc:subject/>
  <dc:title>Diapositiva 1</dc:title>
</cp:coreProperties>
</file>