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3381480" y="6431040"/>
            <a:ext cx="684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Magia: Los primeros pasos del arte. ¿Qué es el a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742680"/>
            <a:ext cx="781848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Magia. Los primeros pasos del Arte. ¿Qué es el arte?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05960" y="5370480"/>
            <a:ext cx="516276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introducción a una asign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273720" y="2035080"/>
            <a:ext cx="2505240" cy="333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3305160" y="2138400"/>
            <a:ext cx="29019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1. Definiciones de art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5662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arte es una expresión ligada al ser humano desde su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Historia del arte siempre ha buscado una definición para el 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que más se aproxima a lo que buscamos es la de Tatarkiewic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arte es una actividad humana consciente capaz de reproducir cosas, construir formas, o expresar una experiencia, si el producto de esta reproducción, construcción, o expresión puede deleitar, emocionar o producir un choqu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215040" y="1835280"/>
            <a:ext cx="27590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2. ¿Para qué sirve el Arte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452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un lado tiene un carácter funcional. Esta función puede ser religiosa, política, propagandístic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 sirve también como forma de expresar y de contar c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437080" y="1539720"/>
            <a:ext cx="31114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3. Tipos y elementos del art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de arte: A lo largo del curso hablaremos sobre todo de t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quitectura: arte de proyectar y construir edi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ultura: Arte de los volúmenes y de la capacidad de moldear fig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ntura: Creación de imágenes a través de la aplicación del color sobre un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emás hay muchas otras como fotografía, dibujo, grabado, cine, músic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173640" y="2054160"/>
            <a:ext cx="27860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3. Tipos y elementos del arte (cont.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600200"/>
            <a:ext cx="37069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artista, como creador de la o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bra de arte, como objeto artístico en s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úblico, como imprescindible receptor de la obra de 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museos y exposiciones, como continentes, difusores y expositores de las piezas art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675400" y="14526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640480" y="3700440"/>
            <a:ext cx="29415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ieda1</cp:lastModifiedBy>
  <dcterms:modified xsi:type="dcterms:W3CDTF">2011-12-01T18:04:36Z</dcterms:modified>
  <cp:revision>26</cp:revision>
  <dc:subject/>
  <dc:title>Diapositiva 1</dc:title>
</cp:coreProperties>
</file>