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gif" ContentType="image/gif"/>
  <Override PartName="/ppt/media/image8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0" y="0"/>
            <a:ext cx="7099200" cy="10234440"/>
          </a:xfrm>
          <a:custGeom>
            <a:avLst/>
            <a:gdLst>
              <a:gd name="textAreaLeft" fmla="*/ 360 w 7099200"/>
              <a:gd name="textAreaRight" fmla="*/ 7098840 w 7099200"/>
              <a:gd name="textAreaTop" fmla="*/ 360 h 10234440"/>
              <a:gd name="textAreaBottom" fmla="*/ 10234080 h 10234440"/>
            </a:gdLst>
            <a:ahLst/>
            <a:rect l="textAreaLeft" t="textAreaTop" r="textAreaRight" b="textAreaBottom"/>
            <a:pathLst>
              <a:path w="21600" h="31139">
                <a:moveTo>
                  <a:pt x="4" y="0"/>
                </a:moveTo>
                <a:arcTo wR="4" hR="4" stAng="16200000" swAng="-5400000"/>
                <a:lnTo>
                  <a:pt x="0" y="31135"/>
                </a:lnTo>
                <a:arcTo wR="4" hR="4" stAng="10800000" swAng="-5400000"/>
                <a:lnTo>
                  <a:pt x="21596" y="3113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0" y="0"/>
            <a:ext cx="7099200" cy="10234440"/>
          </a:xfrm>
          <a:custGeom>
            <a:avLst/>
            <a:gdLst>
              <a:gd name="textAreaLeft" fmla="*/ 360 w 7099200"/>
              <a:gd name="textAreaRight" fmla="*/ 7098840 w 7099200"/>
              <a:gd name="textAreaTop" fmla="*/ 360 h 10234440"/>
              <a:gd name="textAreaBottom" fmla="*/ 10234080 h 10234440"/>
            </a:gdLst>
            <a:ahLst/>
            <a:rect l="textAreaLeft" t="textAreaTop" r="textAreaRight" b="textAreaBottom"/>
            <a:pathLst>
              <a:path w="21600" h="31139">
                <a:moveTo>
                  <a:pt x="5" y="0"/>
                </a:moveTo>
                <a:arcTo wR="5" hR="5" stAng="16200000" swAng="-5400000"/>
                <a:lnTo>
                  <a:pt x="0" y="31134"/>
                </a:lnTo>
                <a:arcTo wR="5" hR="5" stAng="10800000" swAng="-5400000"/>
                <a:lnTo>
                  <a:pt x="21595" y="31139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307656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021200" y="0"/>
            <a:ext cx="30747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991800" y="768240"/>
            <a:ext cx="5111640" cy="3834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336699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09200" y="4860720"/>
            <a:ext cx="5676840" cy="460188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50760" bIns="507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0" y="9718560"/>
            <a:ext cx="307656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Num" idx="2"/>
          </p:nvPr>
        </p:nvSpPr>
        <p:spPr>
          <a:xfrm>
            <a:off x="4020840" y="9721440"/>
            <a:ext cx="3073320" cy="5079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50760" bIns="5076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3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D07FC0-CCC1-47A7-BBB3-B2467E708871}" type="slidenum">
              <a:rPr b="0" lang="en-GB" sz="13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4021200" y="9721800"/>
            <a:ext cx="30747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50760" bIns="507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A23BB8-31EE-443C-9047-DB41DB0B8ACA}" type="slidenum">
              <a:rPr b="0" lang="en-GB" sz="13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182600" y="768240"/>
            <a:ext cx="473400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7864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50760" bIns="507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5DA3FF-6695-466D-9608-FDA1263553BD}" type="slidenum">
              <a:rPr b="0" lang="en-GB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4021200" y="9721800"/>
            <a:ext cx="30747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50760" bIns="507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C9F326-331B-494F-9FB7-5FA81426C355}" type="slidenum">
              <a:rPr b="0" lang="en-GB" sz="13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182600" y="768240"/>
            <a:ext cx="473400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7864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50760" bIns="507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72BE9A-08F4-47B5-B15F-0BFEFBCD6158}" type="slidenum">
              <a:rPr b="0" lang="en-GB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4021200" y="9721800"/>
            <a:ext cx="30747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50760" bIns="507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716147-D40F-4CF6-8C74-44117A4E360E}" type="slidenum">
              <a:rPr b="0" lang="en-GB" sz="13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182600" y="768240"/>
            <a:ext cx="473400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7864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50760" bIns="507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A8C906-04F3-4F47-A906-C5B05B0E0812}" type="slidenum">
              <a:rPr b="0" lang="en-GB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4021200" y="9721800"/>
            <a:ext cx="30747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50760" bIns="507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604629-331E-4014-97BC-0653F8473600}" type="slidenum">
              <a:rPr b="0" lang="en-GB" sz="13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182600" y="768240"/>
            <a:ext cx="473400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7864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50760" bIns="507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2DCED8-EE13-4B66-B041-D98D30D5F456}" type="slidenum">
              <a:rPr b="0" lang="en-GB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4021200" y="9721800"/>
            <a:ext cx="30747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50760" bIns="507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72CEC4-DD02-46FC-A53F-4B41EB40C255}" type="slidenum">
              <a:rPr b="0" lang="en-GB" sz="13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182600" y="768240"/>
            <a:ext cx="473400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7864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50760" bIns="507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A558F2-4483-47C3-906C-55BD00A03633}" type="slidenum">
              <a:rPr b="0" lang="en-GB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4021200" y="9721800"/>
            <a:ext cx="30747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50760" bIns="507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FF9FA5-40F4-43D8-96AE-2458288B4CB2}" type="slidenum">
              <a:rPr b="0" lang="en-GB" sz="13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182600" y="768240"/>
            <a:ext cx="473400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7864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50760" bIns="507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5E9C88-2D40-432D-BD5E-69779E40C810}" type="slidenum">
              <a:rPr b="0" lang="en-GB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4021200" y="9721800"/>
            <a:ext cx="30747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50760" bIns="507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2C23F8-1272-4DDE-A172-133115EA95BA}" type="slidenum">
              <a:rPr b="0" lang="en-GB" sz="13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182600" y="768240"/>
            <a:ext cx="473400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7864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50760" bIns="507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C13AC2-2E7F-4F43-849B-3311CD04E88E}" type="slidenum">
              <a:rPr b="0" lang="en-GB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CB7C7A-1637-4B4E-A3AD-594FFD473A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19040" y="371520"/>
            <a:ext cx="8313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120EB7-28D0-437A-AA18-F03268D6FB8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19040" y="371520"/>
            <a:ext cx="8313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30B920-7D54-483B-B778-31501B3D196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19040" y="371520"/>
            <a:ext cx="8313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3AF4E6-F824-4C5E-B890-5DFDFCCBB1B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19040" y="371520"/>
            <a:ext cx="8313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19040" y="371520"/>
            <a:ext cx="8313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19040" y="371520"/>
            <a:ext cx="8313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19040" y="371520"/>
            <a:ext cx="8313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19040" y="371520"/>
            <a:ext cx="831384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371520"/>
            <a:ext cx="8313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371520"/>
            <a:ext cx="8313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D695A5-3E3D-452E-BFF5-9830D6DE2FD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371520"/>
            <a:ext cx="8313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19040" y="371520"/>
            <a:ext cx="8313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371520"/>
            <a:ext cx="8313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19040" y="371520"/>
            <a:ext cx="8313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19040" y="371520"/>
            <a:ext cx="8313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371520"/>
            <a:ext cx="8313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87855A-6B5E-4B62-89F5-A7F2DC3AFB0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19040" y="371520"/>
            <a:ext cx="8313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0A83A6-51D9-4169-99A3-ACF9CCF5B3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371520"/>
            <a:ext cx="8313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96AEA7-B135-47B9-8B4E-6FDA0A2C4F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19040" y="371520"/>
            <a:ext cx="831384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F8572B-A7F2-41F3-8F7B-F5E1531E18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19040" y="371520"/>
            <a:ext cx="8313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8654D1-7A1E-41FE-97AD-782347E61AD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19040" y="371520"/>
            <a:ext cx="8313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A379A4-4A18-47B1-B1E7-C2B75A0E43C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19040" y="371520"/>
            <a:ext cx="8313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A3B67F-9D7B-47D9-90E9-2D7AA664BC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flipV="1" rot="420000">
            <a:off x="3164040" y="1107000"/>
            <a:ext cx="5257800" cy="4114800"/>
          </a:xfrm>
          <a:prstGeom prst="pie">
            <a:avLst/>
          </a:prstGeom>
          <a:solidFill>
            <a:srgbClr val="ffffff"/>
          </a:solidFill>
          <a:ln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 flipV="1" rot="420000">
            <a:off x="800064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 flipV="1">
            <a:off x="-9000" y="5814000"/>
            <a:ext cx="9162720" cy="1041480"/>
          </a:xfrm>
          <a:prstGeom prst="pie">
            <a:avLst/>
          </a:prstGeom>
          <a:gradFill rotWithShape="0">
            <a:gsLst>
              <a:gs pos="0">
                <a:srgbClr val="ffc400"/>
              </a:gs>
              <a:gs pos="100000">
                <a:srgbClr val="bf782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 flipV="1">
            <a:off x="4381560" y="6217560"/>
            <a:ext cx="4762440" cy="638280"/>
          </a:xfrm>
          <a:prstGeom prst="pie">
            <a:avLst/>
          </a:prstGeom>
          <a:gradFill rotWithShape="0">
            <a:gsLst>
              <a:gs pos="0">
                <a:srgbClr val="f4921f"/>
              </a:gs>
              <a:gs pos="100000">
                <a:srgbClr val="bf950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246240"/>
            <a:ext cx="8226360" cy="1598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444d26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6840" y="1934640"/>
            <a:ext cx="8226360" cy="438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2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343080" indent="-343080">
              <a:lnSpc>
                <a:spcPct val="102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343080" indent="-343080">
              <a:lnSpc>
                <a:spcPct val="102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343080" indent="-343080">
              <a:lnSpc>
                <a:spcPct val="102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343080" indent="-343080">
              <a:lnSpc>
                <a:spcPct val="102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343080" indent="-343080">
              <a:lnSpc>
                <a:spcPct val="102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343080" indent="-343080">
              <a:lnSpc>
                <a:spcPct val="102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356520"/>
            <a:ext cx="2131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2666880" y="6354720"/>
            <a:ext cx="3353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sldNum" idx="1"/>
          </p:nvPr>
        </p:nvSpPr>
        <p:spPr>
          <a:xfrm>
            <a:off x="8077320" y="6356160"/>
            <a:ext cx="606240" cy="3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2BC3CF-19CE-416D-A5C8-4BD71A89CF6F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19040" y="371520"/>
            <a:ext cx="8313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336699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rcRect l="33342" t="16329" r="27525" b="-7422"/>
          <a:stretch/>
        </p:blipFill>
        <p:spPr>
          <a:xfrm>
            <a:off x="4381560" y="6456240"/>
            <a:ext cx="4762440" cy="1605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4181400" y="43862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346640" y="6583320"/>
            <a:ext cx="4797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800" spc="-1" strike="noStrike">
                <a:solidFill>
                  <a:srgbClr val="336699"/>
                </a:solidFill>
                <a:latin typeface="Trebuchet MS"/>
              </a:rPr>
              <a:t>Medicina ho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0" y="0"/>
            <a:ext cx="371520" cy="6858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353880" y="0"/>
            <a:ext cx="2076480" cy="6494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419040" y="596880"/>
            <a:ext cx="8612280" cy="1440"/>
          </a:xfrm>
          <a:prstGeom prst="line">
            <a:avLst/>
          </a:prstGeom>
          <a:ln w="1908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5"/>
          <a:stretch/>
        </p:blipFill>
        <p:spPr>
          <a:xfrm>
            <a:off x="8058240" y="0"/>
            <a:ext cx="950760" cy="566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es.wikipedia.org/wiki/Archivo:Beating_Heart_axial.gif" TargetMode="External"/><Relationship Id="rId2" Type="http://schemas.openxmlformats.org/officeDocument/2006/relationships/hyperlink" Target="http://en.wikipedia.org/wiki/File:PET-MIPS-anim.gif" TargetMode="External"/><Relationship Id="rId3" Type="http://schemas.openxmlformats.org/officeDocument/2006/relationships/hyperlink" Target="http://www.reproduccionasistida.org/wp-content/inseminacion-intrauterina.jpg" TargetMode="External"/><Relationship Id="rId4" Type="http://schemas.openxmlformats.org/officeDocument/2006/relationships/hyperlink" Target="http://www.reproduccionasistida.org/wp-content/inseminacion-intrauterina.jpg" TargetMode="External"/><Relationship Id="rId5" Type="http://schemas.openxmlformats.org/officeDocument/2006/relationships/image" Target="../media/image6.png"/><Relationship Id="rId6" Type="http://schemas.openxmlformats.org/officeDocument/2006/relationships/image" Target="../media/image7.gif"/><Relationship Id="rId7" Type="http://schemas.openxmlformats.org/officeDocument/2006/relationships/image" Target="../media/image8.gif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1700280"/>
            <a:ext cx="831528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4000" spc="-1" strike="noStrike">
                <a:solidFill>
                  <a:srgbClr val="336699"/>
                </a:solidFill>
                <a:latin typeface="Arial"/>
              </a:rPr>
              <a:t>Vivir más y mejor: Medicina hoy</a:t>
            </a: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395280" y="1916280"/>
            <a:ext cx="842472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1440" indent="-2700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1440"/>
                <a:tab algn="l" pos="719280"/>
                <a:tab algn="l" pos="1168560"/>
                <a:tab algn="l" pos="1617840"/>
                <a:tab algn="l" pos="2066760"/>
                <a:tab algn="l" pos="2516040"/>
                <a:tab algn="l" pos="2965320"/>
                <a:tab algn="l" pos="3414600"/>
                <a:tab algn="l" pos="3863880"/>
                <a:tab algn="l" pos="4313160"/>
                <a:tab algn="l" pos="4762440"/>
                <a:tab algn="l" pos="5211720"/>
                <a:tab algn="l" pos="5661000"/>
                <a:tab algn="l" pos="6110280"/>
                <a:tab algn="l" pos="6559560"/>
                <a:tab algn="l" pos="7008840"/>
                <a:tab algn="l" pos="7458120"/>
                <a:tab algn="l" pos="7907400"/>
                <a:tab algn="l" pos="8356680"/>
                <a:tab algn="l" pos="8805960"/>
                <a:tab algn="l" pos="925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Pretende  romper la situación de esterilidad y conseguir el embarazo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1440" indent="-2700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1440"/>
                <a:tab algn="l" pos="719280"/>
                <a:tab algn="l" pos="1168560"/>
                <a:tab algn="l" pos="1617840"/>
                <a:tab algn="l" pos="2066760"/>
                <a:tab algn="l" pos="2516040"/>
                <a:tab algn="l" pos="2965320"/>
                <a:tab algn="l" pos="3414600"/>
                <a:tab algn="l" pos="3863880"/>
                <a:tab algn="l" pos="4313160"/>
                <a:tab algn="l" pos="4762440"/>
                <a:tab algn="l" pos="5211720"/>
                <a:tab algn="l" pos="5661000"/>
                <a:tab algn="l" pos="6110280"/>
                <a:tab algn="l" pos="6559560"/>
                <a:tab algn="l" pos="7008840"/>
                <a:tab algn="l" pos="7458120"/>
                <a:tab algn="l" pos="7907400"/>
                <a:tab algn="l" pos="8356680"/>
                <a:tab algn="l" pos="8805960"/>
                <a:tab algn="l" pos="925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1440" indent="-2700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1440"/>
                <a:tab algn="l" pos="719280"/>
                <a:tab algn="l" pos="1168560"/>
                <a:tab algn="l" pos="1617840"/>
                <a:tab algn="l" pos="2066760"/>
                <a:tab algn="l" pos="2516040"/>
                <a:tab algn="l" pos="2965320"/>
                <a:tab algn="l" pos="3414600"/>
                <a:tab algn="l" pos="3863880"/>
                <a:tab algn="l" pos="4313160"/>
                <a:tab algn="l" pos="4762440"/>
                <a:tab algn="l" pos="5211720"/>
                <a:tab algn="l" pos="5661000"/>
                <a:tab algn="l" pos="6110280"/>
                <a:tab algn="l" pos="6559560"/>
                <a:tab algn="l" pos="7008840"/>
                <a:tab algn="l" pos="7458120"/>
                <a:tab algn="l" pos="7907400"/>
                <a:tab algn="l" pos="8356680"/>
                <a:tab algn="l" pos="8805960"/>
                <a:tab algn="l" pos="925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Puede hacerse co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1440" indent="-2700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1440"/>
                <a:tab algn="l" pos="719280"/>
                <a:tab algn="l" pos="1168560"/>
                <a:tab algn="l" pos="1617840"/>
                <a:tab algn="l" pos="2066760"/>
                <a:tab algn="l" pos="2516040"/>
                <a:tab algn="l" pos="2965320"/>
                <a:tab algn="l" pos="3414600"/>
                <a:tab algn="l" pos="3863880"/>
                <a:tab algn="l" pos="4313160"/>
                <a:tab algn="l" pos="4762440"/>
                <a:tab algn="l" pos="5211720"/>
                <a:tab algn="l" pos="5661000"/>
                <a:tab algn="l" pos="6110280"/>
                <a:tab algn="l" pos="6559560"/>
                <a:tab algn="l" pos="7008840"/>
                <a:tab algn="l" pos="7458120"/>
                <a:tab algn="l" pos="7907400"/>
                <a:tab algn="l" pos="8356680"/>
                <a:tab algn="l" pos="8805960"/>
                <a:tab algn="l" pos="925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 algn="just">
              <a:lnSpc>
                <a:spcPct val="100000"/>
              </a:lnSpc>
              <a:spcBef>
                <a:spcPts val="601"/>
              </a:spcBef>
              <a:buClr>
                <a:srgbClr val="e7bc29"/>
              </a:buClr>
              <a:buFont typeface="Arial"/>
              <a:buChar char="•"/>
              <a:tabLst>
                <a:tab algn="l" pos="271440"/>
                <a:tab algn="l" pos="719280"/>
                <a:tab algn="l" pos="1168560"/>
                <a:tab algn="l" pos="1617840"/>
                <a:tab algn="l" pos="2066760"/>
                <a:tab algn="l" pos="2516040"/>
                <a:tab algn="l" pos="2965320"/>
                <a:tab algn="l" pos="3414600"/>
                <a:tab algn="l" pos="3863880"/>
                <a:tab algn="l" pos="4313160"/>
                <a:tab algn="l" pos="4762440"/>
                <a:tab algn="l" pos="5211720"/>
                <a:tab algn="l" pos="5661000"/>
                <a:tab algn="l" pos="6110280"/>
                <a:tab algn="l" pos="6559560"/>
                <a:tab algn="l" pos="7008840"/>
                <a:tab algn="l" pos="7458120"/>
                <a:tab algn="l" pos="7907400"/>
                <a:tab algn="l" pos="8356680"/>
                <a:tab algn="l" pos="8805960"/>
                <a:tab algn="l" pos="925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nstantia"/>
                <a:ea typeface="MS Gothic"/>
              </a:rPr>
              <a:t>Inseminación artificial: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  <a:ea typeface="MS Gothic"/>
              </a:rPr>
              <a:t> consiste en la introducción de los espermatozoides directamente en el úter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 algn="just">
              <a:lnSpc>
                <a:spcPct val="100000"/>
              </a:lnSpc>
              <a:spcBef>
                <a:spcPts val="601"/>
              </a:spcBef>
              <a:buClr>
                <a:srgbClr val="e7bc29"/>
              </a:buClr>
              <a:buFont typeface="Arial"/>
              <a:buChar char="•"/>
              <a:tabLst>
                <a:tab algn="l" pos="271440"/>
                <a:tab algn="l" pos="719280"/>
                <a:tab algn="l" pos="1168560"/>
                <a:tab algn="l" pos="1617840"/>
                <a:tab algn="l" pos="2066760"/>
                <a:tab algn="l" pos="2516040"/>
                <a:tab algn="l" pos="2965320"/>
                <a:tab algn="l" pos="3414600"/>
                <a:tab algn="l" pos="3863880"/>
                <a:tab algn="l" pos="4313160"/>
                <a:tab algn="l" pos="4762440"/>
                <a:tab algn="l" pos="5211720"/>
                <a:tab algn="l" pos="5661000"/>
                <a:tab algn="l" pos="6110280"/>
                <a:tab algn="l" pos="6559560"/>
                <a:tab algn="l" pos="7008840"/>
                <a:tab algn="l" pos="7458120"/>
                <a:tab algn="l" pos="7907400"/>
                <a:tab algn="l" pos="8356680"/>
                <a:tab algn="l" pos="8805960"/>
                <a:tab algn="l" pos="925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nstantia"/>
                <a:ea typeface="MS Gothic"/>
              </a:rPr>
              <a:t>Fecundación in vitro: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  <a:ea typeface="MS Gothic"/>
              </a:rPr>
              <a:t> consiste en la obtención de los espermatozoides y los óvulos, la formación de los embriones en el laboratorio, y su implantación en el úter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11280" y="692280"/>
            <a:ext cx="576108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336699"/>
                </a:solidFill>
                <a:latin typeface="Arial"/>
              </a:rPr>
              <a:t>Reproducción asistid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428760" y="2000160"/>
            <a:ext cx="814392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1440" indent="-2700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271440"/>
                <a:tab algn="l" pos="719280"/>
                <a:tab algn="l" pos="1168560"/>
                <a:tab algn="l" pos="1617840"/>
                <a:tab algn="l" pos="2066760"/>
                <a:tab algn="l" pos="2516040"/>
                <a:tab algn="l" pos="2965320"/>
                <a:tab algn="l" pos="3414600"/>
                <a:tab algn="l" pos="3863880"/>
                <a:tab algn="l" pos="4313160"/>
                <a:tab algn="l" pos="4762440"/>
                <a:tab algn="l" pos="5211720"/>
                <a:tab algn="l" pos="5661000"/>
                <a:tab algn="l" pos="6110280"/>
                <a:tab algn="l" pos="6559560"/>
                <a:tab algn="l" pos="7008840"/>
                <a:tab algn="l" pos="7458120"/>
                <a:tab algn="l" pos="7907400"/>
                <a:tab algn="l" pos="8356680"/>
                <a:tab algn="l" pos="8805960"/>
                <a:tab algn="l" pos="925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La mejora en la medicina se debe en gran parte a los análisis bioquímicos y a los métodos diagnósticos por imagen, entre los que está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1440" indent="-2700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271440"/>
                <a:tab algn="l" pos="719280"/>
                <a:tab algn="l" pos="1168560"/>
                <a:tab algn="l" pos="1617840"/>
                <a:tab algn="l" pos="2066760"/>
                <a:tab algn="l" pos="2516040"/>
                <a:tab algn="l" pos="2965320"/>
                <a:tab algn="l" pos="3414600"/>
                <a:tab algn="l" pos="3863880"/>
                <a:tab algn="l" pos="4313160"/>
                <a:tab algn="l" pos="4762440"/>
                <a:tab algn="l" pos="5211720"/>
                <a:tab algn="l" pos="5661000"/>
                <a:tab algn="l" pos="6110280"/>
                <a:tab algn="l" pos="6559560"/>
                <a:tab algn="l" pos="7008840"/>
                <a:tab algn="l" pos="7458120"/>
                <a:tab algn="l" pos="7907400"/>
                <a:tab algn="l" pos="8356680"/>
                <a:tab algn="l" pos="8805960"/>
                <a:tab algn="l" pos="925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6480" indent="-244440" algn="just">
              <a:lnSpc>
                <a:spcPct val="100000"/>
              </a:lnSpc>
              <a:spcBef>
                <a:spcPts val="499"/>
              </a:spcBef>
              <a:buClr>
                <a:srgbClr val="f8d450"/>
              </a:buClr>
              <a:buFont typeface="Arial"/>
              <a:buChar char="•"/>
              <a:tabLst>
                <a:tab algn="l" pos="271440"/>
                <a:tab algn="l" pos="719280"/>
                <a:tab algn="l" pos="1168560"/>
                <a:tab algn="l" pos="1617840"/>
                <a:tab algn="l" pos="2066760"/>
                <a:tab algn="l" pos="2516040"/>
                <a:tab algn="l" pos="2965320"/>
                <a:tab algn="l" pos="3414600"/>
                <a:tab algn="l" pos="3863880"/>
                <a:tab algn="l" pos="4313160"/>
                <a:tab algn="l" pos="4762440"/>
                <a:tab algn="l" pos="5211720"/>
                <a:tab algn="l" pos="5661000"/>
                <a:tab algn="l" pos="6110280"/>
                <a:tab algn="l" pos="6559560"/>
                <a:tab algn="l" pos="7008840"/>
                <a:tab algn="l" pos="7458120"/>
                <a:tab algn="l" pos="7907400"/>
                <a:tab algn="l" pos="8356680"/>
                <a:tab algn="l" pos="8805960"/>
                <a:tab algn="l" pos="925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  <a:ea typeface="MS Gothic"/>
              </a:rPr>
              <a:t>Radiografí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6480" indent="-244440" algn="just">
              <a:lnSpc>
                <a:spcPct val="100000"/>
              </a:lnSpc>
              <a:spcBef>
                <a:spcPts val="499"/>
              </a:spcBef>
              <a:buClr>
                <a:srgbClr val="f8d450"/>
              </a:buClr>
              <a:buFont typeface="Arial"/>
              <a:buChar char="•"/>
              <a:tabLst>
                <a:tab algn="l" pos="271440"/>
                <a:tab algn="l" pos="719280"/>
                <a:tab algn="l" pos="1168560"/>
                <a:tab algn="l" pos="1617840"/>
                <a:tab algn="l" pos="2066760"/>
                <a:tab algn="l" pos="2516040"/>
                <a:tab algn="l" pos="2965320"/>
                <a:tab algn="l" pos="3414600"/>
                <a:tab algn="l" pos="3863880"/>
                <a:tab algn="l" pos="4313160"/>
                <a:tab algn="l" pos="4762440"/>
                <a:tab algn="l" pos="5211720"/>
                <a:tab algn="l" pos="5661000"/>
                <a:tab algn="l" pos="6110280"/>
                <a:tab algn="l" pos="6559560"/>
                <a:tab algn="l" pos="7008840"/>
                <a:tab algn="l" pos="7458120"/>
                <a:tab algn="l" pos="7907400"/>
                <a:tab algn="l" pos="8356680"/>
                <a:tab algn="l" pos="8805960"/>
                <a:tab algn="l" pos="925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  <a:ea typeface="MS Gothic"/>
              </a:rPr>
              <a:t>Ecografí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6480" indent="-244440" algn="just">
              <a:lnSpc>
                <a:spcPct val="100000"/>
              </a:lnSpc>
              <a:spcBef>
                <a:spcPts val="499"/>
              </a:spcBef>
              <a:buClr>
                <a:srgbClr val="f8d450"/>
              </a:buClr>
              <a:buFont typeface="Arial"/>
              <a:buChar char="•"/>
              <a:tabLst>
                <a:tab algn="l" pos="271440"/>
                <a:tab algn="l" pos="719280"/>
                <a:tab algn="l" pos="1168560"/>
                <a:tab algn="l" pos="1617840"/>
                <a:tab algn="l" pos="2066760"/>
                <a:tab algn="l" pos="2516040"/>
                <a:tab algn="l" pos="2965320"/>
                <a:tab algn="l" pos="3414600"/>
                <a:tab algn="l" pos="3863880"/>
                <a:tab algn="l" pos="4313160"/>
                <a:tab algn="l" pos="4762440"/>
                <a:tab algn="l" pos="5211720"/>
                <a:tab algn="l" pos="5661000"/>
                <a:tab algn="l" pos="6110280"/>
                <a:tab algn="l" pos="6559560"/>
                <a:tab algn="l" pos="7008840"/>
                <a:tab algn="l" pos="7458120"/>
                <a:tab algn="l" pos="7907400"/>
                <a:tab algn="l" pos="8356680"/>
                <a:tab algn="l" pos="8805960"/>
                <a:tab algn="l" pos="925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  <a:ea typeface="MS Gothic"/>
              </a:rPr>
              <a:t>Resonancia magnética nuclea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6480" indent="-244440" algn="just">
              <a:lnSpc>
                <a:spcPct val="100000"/>
              </a:lnSpc>
              <a:spcBef>
                <a:spcPts val="499"/>
              </a:spcBef>
              <a:buClr>
                <a:srgbClr val="f8d450"/>
              </a:buClr>
              <a:buFont typeface="Arial"/>
              <a:buChar char="•"/>
              <a:tabLst>
                <a:tab algn="l" pos="271440"/>
                <a:tab algn="l" pos="719280"/>
                <a:tab algn="l" pos="1168560"/>
                <a:tab algn="l" pos="1617840"/>
                <a:tab algn="l" pos="2066760"/>
                <a:tab algn="l" pos="2516040"/>
                <a:tab algn="l" pos="2965320"/>
                <a:tab algn="l" pos="3414600"/>
                <a:tab algn="l" pos="3863880"/>
                <a:tab algn="l" pos="4313160"/>
                <a:tab algn="l" pos="4762440"/>
                <a:tab algn="l" pos="5211720"/>
                <a:tab algn="l" pos="5661000"/>
                <a:tab algn="l" pos="6110280"/>
                <a:tab algn="l" pos="6559560"/>
                <a:tab algn="l" pos="7008840"/>
                <a:tab algn="l" pos="7458120"/>
                <a:tab algn="l" pos="7907400"/>
                <a:tab algn="l" pos="8356680"/>
                <a:tab algn="l" pos="8805960"/>
                <a:tab algn="l" pos="925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  <a:ea typeface="MS Gothic"/>
              </a:rPr>
              <a:t>Tomografía axial computerizada (TAC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6480" indent="-244440" algn="just">
              <a:lnSpc>
                <a:spcPct val="100000"/>
              </a:lnSpc>
              <a:spcBef>
                <a:spcPts val="499"/>
              </a:spcBef>
              <a:buClr>
                <a:srgbClr val="f8d450"/>
              </a:buClr>
              <a:buFont typeface="Arial"/>
              <a:buChar char="•"/>
              <a:tabLst>
                <a:tab algn="l" pos="271440"/>
                <a:tab algn="l" pos="719280"/>
                <a:tab algn="l" pos="1168560"/>
                <a:tab algn="l" pos="1617840"/>
                <a:tab algn="l" pos="2066760"/>
                <a:tab algn="l" pos="2516040"/>
                <a:tab algn="l" pos="2965320"/>
                <a:tab algn="l" pos="3414600"/>
                <a:tab algn="l" pos="3863880"/>
                <a:tab algn="l" pos="4313160"/>
                <a:tab algn="l" pos="4762440"/>
                <a:tab algn="l" pos="5211720"/>
                <a:tab algn="l" pos="5661000"/>
                <a:tab algn="l" pos="6110280"/>
                <a:tab algn="l" pos="6559560"/>
                <a:tab algn="l" pos="7008840"/>
                <a:tab algn="l" pos="7458120"/>
                <a:tab algn="l" pos="7907400"/>
                <a:tab algn="l" pos="8356680"/>
                <a:tab algn="l" pos="8805960"/>
                <a:tab algn="l" pos="925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  <a:ea typeface="MS Gothic"/>
              </a:rPr>
              <a:t>Tomografía por emisión de positrones (PET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6480" indent="-24444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1440"/>
                <a:tab algn="l" pos="719280"/>
                <a:tab algn="l" pos="1168560"/>
                <a:tab algn="l" pos="1617840"/>
                <a:tab algn="l" pos="2066760"/>
                <a:tab algn="l" pos="2516040"/>
                <a:tab algn="l" pos="2965320"/>
                <a:tab algn="l" pos="3414600"/>
                <a:tab algn="l" pos="3863880"/>
                <a:tab algn="l" pos="4313160"/>
                <a:tab algn="l" pos="4762440"/>
                <a:tab algn="l" pos="5211720"/>
                <a:tab algn="l" pos="5661000"/>
                <a:tab algn="l" pos="6110280"/>
                <a:tab algn="l" pos="6559560"/>
                <a:tab algn="l" pos="7008840"/>
                <a:tab algn="l" pos="7458120"/>
                <a:tab algn="l" pos="7907400"/>
                <a:tab algn="l" pos="8356680"/>
                <a:tab algn="l" pos="8805960"/>
                <a:tab algn="l" pos="925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" y="1052640"/>
            <a:ext cx="8229600" cy="79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336699"/>
                </a:solidFill>
                <a:latin typeface="Arial"/>
              </a:rPr>
              <a:t>Técnicas de diagnóstico</a:t>
            </a:r>
            <a:r>
              <a:rPr b="0" lang="en-GB" sz="5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428760" y="2000160"/>
            <a:ext cx="814392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1440" indent="-2700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271440"/>
                <a:tab algn="l" pos="719280"/>
                <a:tab algn="l" pos="1168560"/>
                <a:tab algn="l" pos="1617840"/>
                <a:tab algn="l" pos="2066760"/>
                <a:tab algn="l" pos="2516040"/>
                <a:tab algn="l" pos="2965320"/>
                <a:tab algn="l" pos="3414600"/>
                <a:tab algn="l" pos="3863880"/>
                <a:tab algn="l" pos="4313160"/>
                <a:tab algn="l" pos="4762440"/>
                <a:tab algn="l" pos="5211720"/>
                <a:tab algn="l" pos="5661000"/>
                <a:tab algn="l" pos="6110280"/>
                <a:tab algn="l" pos="6559560"/>
                <a:tab algn="l" pos="7008840"/>
                <a:tab algn="l" pos="7458120"/>
                <a:tab algn="l" pos="7907400"/>
                <a:tab algn="l" pos="8356680"/>
                <a:tab algn="l" pos="8805960"/>
                <a:tab algn="l" pos="925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Pueden ser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1440" indent="-2700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271440"/>
                <a:tab algn="l" pos="719280"/>
                <a:tab algn="l" pos="1168560"/>
                <a:tab algn="l" pos="1617840"/>
                <a:tab algn="l" pos="2066760"/>
                <a:tab algn="l" pos="2516040"/>
                <a:tab algn="l" pos="2965320"/>
                <a:tab algn="l" pos="3414600"/>
                <a:tab algn="l" pos="3863880"/>
                <a:tab algn="l" pos="4313160"/>
                <a:tab algn="l" pos="4762440"/>
                <a:tab algn="l" pos="5211720"/>
                <a:tab algn="l" pos="5661000"/>
                <a:tab algn="l" pos="6110280"/>
                <a:tab algn="l" pos="6559560"/>
                <a:tab algn="l" pos="7008840"/>
                <a:tab algn="l" pos="7458120"/>
                <a:tab algn="l" pos="7907400"/>
                <a:tab algn="l" pos="8356680"/>
                <a:tab algn="l" pos="8805960"/>
                <a:tab algn="l" pos="925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6480" indent="-244440" algn="just">
              <a:lnSpc>
                <a:spcPct val="100000"/>
              </a:lnSpc>
              <a:spcBef>
                <a:spcPts val="499"/>
              </a:spcBef>
              <a:buClr>
                <a:srgbClr val="f8d450"/>
              </a:buClr>
              <a:buFont typeface="Arial"/>
              <a:buChar char="•"/>
              <a:tabLst>
                <a:tab algn="l" pos="271440"/>
                <a:tab algn="l" pos="719280"/>
                <a:tab algn="l" pos="1168560"/>
                <a:tab algn="l" pos="1617840"/>
                <a:tab algn="l" pos="2066760"/>
                <a:tab algn="l" pos="2516040"/>
                <a:tab algn="l" pos="2965320"/>
                <a:tab algn="l" pos="3414600"/>
                <a:tab algn="l" pos="3863880"/>
                <a:tab algn="l" pos="4313160"/>
                <a:tab algn="l" pos="4762440"/>
                <a:tab algn="l" pos="5211720"/>
                <a:tab algn="l" pos="5661000"/>
                <a:tab algn="l" pos="6110280"/>
                <a:tab algn="l" pos="6559560"/>
                <a:tab algn="l" pos="7008840"/>
                <a:tab algn="l" pos="7458120"/>
                <a:tab algn="l" pos="7907400"/>
                <a:tab algn="l" pos="8356680"/>
                <a:tab algn="l" pos="8805960"/>
                <a:tab algn="l" pos="925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nstantia"/>
                <a:ea typeface="MS Gothic"/>
              </a:rPr>
              <a:t>Trastornos en los cromosomas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  <a:ea typeface="MS Gothic"/>
              </a:rPr>
              <a:t>; trisomías (Down), monosomí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6480" indent="-244440" algn="just">
              <a:lnSpc>
                <a:spcPct val="100000"/>
              </a:lnSpc>
              <a:spcBef>
                <a:spcPts val="499"/>
              </a:spcBef>
              <a:buClr>
                <a:srgbClr val="f8d450"/>
              </a:buClr>
              <a:buFont typeface="Arial"/>
              <a:buChar char="•"/>
              <a:tabLst>
                <a:tab algn="l" pos="271440"/>
                <a:tab algn="l" pos="719280"/>
                <a:tab algn="l" pos="1168560"/>
                <a:tab algn="l" pos="1617840"/>
                <a:tab algn="l" pos="2066760"/>
                <a:tab algn="l" pos="2516040"/>
                <a:tab algn="l" pos="2965320"/>
                <a:tab algn="l" pos="3414600"/>
                <a:tab algn="l" pos="3863880"/>
                <a:tab algn="l" pos="4313160"/>
                <a:tab algn="l" pos="4762440"/>
                <a:tab algn="l" pos="5211720"/>
                <a:tab algn="l" pos="5661000"/>
                <a:tab algn="l" pos="6110280"/>
                <a:tab algn="l" pos="6559560"/>
                <a:tab algn="l" pos="7008840"/>
                <a:tab algn="l" pos="7458120"/>
                <a:tab algn="l" pos="7907400"/>
                <a:tab algn="l" pos="8356680"/>
                <a:tab algn="l" pos="8805960"/>
                <a:tab algn="l" pos="925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nstantia"/>
                <a:ea typeface="MS Gothic"/>
              </a:rPr>
              <a:t>Fallos genéticos en un punto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  <a:ea typeface="MS Gothic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93680" indent="-244440" algn="just">
              <a:lnSpc>
                <a:spcPct val="100000"/>
              </a:lnSpc>
              <a:spcBef>
                <a:spcPts val="499"/>
              </a:spcBef>
              <a:buClr>
                <a:srgbClr val="f8d450"/>
              </a:buClr>
              <a:buFont typeface="Arial"/>
              <a:buChar char="•"/>
              <a:tabLst>
                <a:tab algn="l" pos="271440"/>
                <a:tab algn="l" pos="719280"/>
                <a:tab algn="l" pos="1168560"/>
                <a:tab algn="l" pos="1617840"/>
                <a:tab algn="l" pos="2066760"/>
                <a:tab algn="l" pos="2516040"/>
                <a:tab algn="l" pos="2965320"/>
                <a:tab algn="l" pos="3414600"/>
                <a:tab algn="l" pos="3863880"/>
                <a:tab algn="l" pos="4313160"/>
                <a:tab algn="l" pos="4762440"/>
                <a:tab algn="l" pos="5211720"/>
                <a:tab algn="l" pos="5661000"/>
                <a:tab algn="l" pos="6110280"/>
                <a:tab algn="l" pos="6559560"/>
                <a:tab algn="l" pos="7008840"/>
                <a:tab algn="l" pos="7458120"/>
                <a:tab algn="l" pos="7907400"/>
                <a:tab algn="l" pos="8356680"/>
                <a:tab algn="l" pos="8805960"/>
                <a:tab algn="l" pos="925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  <a:ea typeface="MS Gothic"/>
              </a:rPr>
              <a:t>Gen dominant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93680" indent="-244440" algn="just">
              <a:lnSpc>
                <a:spcPct val="100000"/>
              </a:lnSpc>
              <a:spcBef>
                <a:spcPts val="499"/>
              </a:spcBef>
              <a:buClr>
                <a:srgbClr val="f8d450"/>
              </a:buClr>
              <a:buFont typeface="Arial"/>
              <a:buChar char="•"/>
              <a:tabLst>
                <a:tab algn="l" pos="271440"/>
                <a:tab algn="l" pos="719280"/>
                <a:tab algn="l" pos="1168560"/>
                <a:tab algn="l" pos="1617840"/>
                <a:tab algn="l" pos="2066760"/>
                <a:tab algn="l" pos="2516040"/>
                <a:tab algn="l" pos="2965320"/>
                <a:tab algn="l" pos="3414600"/>
                <a:tab algn="l" pos="3863880"/>
                <a:tab algn="l" pos="4313160"/>
                <a:tab algn="l" pos="4762440"/>
                <a:tab algn="l" pos="5211720"/>
                <a:tab algn="l" pos="5661000"/>
                <a:tab algn="l" pos="6110280"/>
                <a:tab algn="l" pos="6559560"/>
                <a:tab algn="l" pos="7008840"/>
                <a:tab algn="l" pos="7458120"/>
                <a:tab algn="l" pos="7907400"/>
                <a:tab algn="l" pos="8356680"/>
                <a:tab algn="l" pos="8805960"/>
                <a:tab algn="l" pos="925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  <a:ea typeface="MS Gothic"/>
              </a:rPr>
              <a:t>Gen recesiv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6480" indent="-244440" algn="just">
              <a:lnSpc>
                <a:spcPct val="100000"/>
              </a:lnSpc>
              <a:spcBef>
                <a:spcPts val="499"/>
              </a:spcBef>
              <a:buClr>
                <a:srgbClr val="f8d450"/>
              </a:buClr>
              <a:buFont typeface="Arial"/>
              <a:buChar char="•"/>
              <a:tabLst>
                <a:tab algn="l" pos="271440"/>
                <a:tab algn="l" pos="719280"/>
                <a:tab algn="l" pos="1168560"/>
                <a:tab algn="l" pos="1617840"/>
                <a:tab algn="l" pos="2066760"/>
                <a:tab algn="l" pos="2516040"/>
                <a:tab algn="l" pos="2965320"/>
                <a:tab algn="l" pos="3414600"/>
                <a:tab algn="l" pos="3863880"/>
                <a:tab algn="l" pos="4313160"/>
                <a:tab algn="l" pos="4762440"/>
                <a:tab algn="l" pos="5211720"/>
                <a:tab algn="l" pos="5661000"/>
                <a:tab algn="l" pos="6110280"/>
                <a:tab algn="l" pos="6559560"/>
                <a:tab algn="l" pos="7008840"/>
                <a:tab algn="l" pos="7458120"/>
                <a:tab algn="l" pos="7907400"/>
                <a:tab algn="l" pos="8356680"/>
                <a:tab algn="l" pos="8805960"/>
                <a:tab algn="l" pos="925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nstantia"/>
                <a:ea typeface="MS Gothic"/>
              </a:rPr>
              <a:t>Trastornos multifactoriales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  <a:ea typeface="MS Gothic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84360" y="907920"/>
            <a:ext cx="6202080" cy="8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3200" spc="-1" strike="noStrike">
                <a:solidFill>
                  <a:srgbClr val="336699"/>
                </a:solidFill>
                <a:latin typeface="Arial"/>
              </a:rPr>
              <a:t>Enfermedades genétic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428760" y="2000160"/>
            <a:ext cx="814392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1440" indent="-2700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271440"/>
                <a:tab algn="l" pos="719280"/>
                <a:tab algn="l" pos="1168560"/>
                <a:tab algn="l" pos="1617840"/>
                <a:tab algn="l" pos="2066760"/>
                <a:tab algn="l" pos="2516040"/>
                <a:tab algn="l" pos="2965320"/>
                <a:tab algn="l" pos="3414600"/>
                <a:tab algn="l" pos="3863880"/>
                <a:tab algn="l" pos="4313160"/>
                <a:tab algn="l" pos="4762440"/>
                <a:tab algn="l" pos="5211720"/>
                <a:tab algn="l" pos="5661000"/>
                <a:tab algn="l" pos="6110280"/>
                <a:tab algn="l" pos="6559560"/>
                <a:tab algn="l" pos="7008840"/>
                <a:tab algn="l" pos="7458120"/>
                <a:tab algn="l" pos="7907400"/>
                <a:tab algn="l" pos="8356680"/>
                <a:tab algn="l" pos="8805960"/>
                <a:tab algn="l" pos="925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Es la utilización de la </a:t>
            </a:r>
            <a:r>
              <a:rPr b="1" lang="es-ES" sz="2400" spc="-1" strike="noStrike">
                <a:solidFill>
                  <a:srgbClr val="000000"/>
                </a:solidFill>
                <a:latin typeface="Constantia"/>
              </a:rPr>
              <a:t>ingeniería genética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 para introducir genes externos en el contenido génico de células enferm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1440" indent="-2700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271440"/>
                <a:tab algn="l" pos="719280"/>
                <a:tab algn="l" pos="1168560"/>
                <a:tab algn="l" pos="1617840"/>
                <a:tab algn="l" pos="2066760"/>
                <a:tab algn="l" pos="2516040"/>
                <a:tab algn="l" pos="2965320"/>
                <a:tab algn="l" pos="3414600"/>
                <a:tab algn="l" pos="3863880"/>
                <a:tab algn="l" pos="4313160"/>
                <a:tab algn="l" pos="4762440"/>
                <a:tab algn="l" pos="5211720"/>
                <a:tab algn="l" pos="5661000"/>
                <a:tab algn="l" pos="6110280"/>
                <a:tab algn="l" pos="6559560"/>
                <a:tab algn="l" pos="7008840"/>
                <a:tab algn="l" pos="7458120"/>
                <a:tab algn="l" pos="7907400"/>
                <a:tab algn="l" pos="8356680"/>
                <a:tab algn="l" pos="8805960"/>
                <a:tab algn="l" pos="925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1440" indent="-2700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271440"/>
                <a:tab algn="l" pos="719280"/>
                <a:tab algn="l" pos="1168560"/>
                <a:tab algn="l" pos="1617840"/>
                <a:tab algn="l" pos="2066760"/>
                <a:tab algn="l" pos="2516040"/>
                <a:tab algn="l" pos="2965320"/>
                <a:tab algn="l" pos="3414600"/>
                <a:tab algn="l" pos="3863880"/>
                <a:tab algn="l" pos="4313160"/>
                <a:tab algn="l" pos="4762440"/>
                <a:tab algn="l" pos="5211720"/>
                <a:tab algn="l" pos="5661000"/>
                <a:tab algn="l" pos="6110280"/>
                <a:tab algn="l" pos="6559560"/>
                <a:tab algn="l" pos="7008840"/>
                <a:tab algn="l" pos="7458120"/>
                <a:tab algn="l" pos="7907400"/>
                <a:tab algn="l" pos="8356680"/>
                <a:tab algn="l" pos="8805960"/>
                <a:tab algn="l" pos="925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El gen correcto realizará la función del gen que estaba mal, o que simplemente no estaba en las células enferm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1440" indent="-2700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271440"/>
                <a:tab algn="l" pos="719280"/>
                <a:tab algn="l" pos="1168560"/>
                <a:tab algn="l" pos="1617840"/>
                <a:tab algn="l" pos="2066760"/>
                <a:tab algn="l" pos="2516040"/>
                <a:tab algn="l" pos="2965320"/>
                <a:tab algn="l" pos="3414600"/>
                <a:tab algn="l" pos="3863880"/>
                <a:tab algn="l" pos="4313160"/>
                <a:tab algn="l" pos="4762440"/>
                <a:tab algn="l" pos="5211720"/>
                <a:tab algn="l" pos="5661000"/>
                <a:tab algn="l" pos="6110280"/>
                <a:tab algn="l" pos="6559560"/>
                <a:tab algn="l" pos="7008840"/>
                <a:tab algn="l" pos="7458120"/>
                <a:tab algn="l" pos="7907400"/>
                <a:tab algn="l" pos="8356680"/>
                <a:tab algn="l" pos="8805960"/>
                <a:tab algn="l" pos="925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1440" indent="-2700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271440"/>
                <a:tab algn="l" pos="719280"/>
                <a:tab algn="l" pos="1168560"/>
                <a:tab algn="l" pos="1617840"/>
                <a:tab algn="l" pos="2066760"/>
                <a:tab algn="l" pos="2516040"/>
                <a:tab algn="l" pos="2965320"/>
                <a:tab algn="l" pos="3414600"/>
                <a:tab algn="l" pos="3863880"/>
                <a:tab algn="l" pos="4313160"/>
                <a:tab algn="l" pos="4762440"/>
                <a:tab algn="l" pos="5211720"/>
                <a:tab algn="l" pos="5661000"/>
                <a:tab algn="l" pos="6110280"/>
                <a:tab algn="l" pos="6559560"/>
                <a:tab algn="l" pos="7008840"/>
                <a:tab algn="l" pos="7458120"/>
                <a:tab algn="l" pos="7907400"/>
                <a:tab algn="l" pos="8356680"/>
                <a:tab algn="l" pos="8805960"/>
                <a:tab algn="l" pos="925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Tiene el objetivo de mejorar o erradicar por completo una enfermedad genétic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826920" y="692280"/>
            <a:ext cx="5986800" cy="79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3200" spc="-1" strike="noStrike">
                <a:solidFill>
                  <a:srgbClr val="336699"/>
                </a:solidFill>
                <a:latin typeface="Arial"/>
              </a:rPr>
              <a:t>Terapia génic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395280" y="1700280"/>
            <a:ext cx="8424720" cy="504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1440" indent="-2700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271440"/>
                <a:tab algn="l" pos="719280"/>
                <a:tab algn="l" pos="1168560"/>
                <a:tab algn="l" pos="1617840"/>
                <a:tab algn="l" pos="2066760"/>
                <a:tab algn="l" pos="2516040"/>
                <a:tab algn="l" pos="2965320"/>
                <a:tab algn="l" pos="3414600"/>
                <a:tab algn="l" pos="3863880"/>
                <a:tab algn="l" pos="4313160"/>
                <a:tab algn="l" pos="4762440"/>
                <a:tab algn="l" pos="5211720"/>
                <a:tab algn="l" pos="5661000"/>
                <a:tab algn="l" pos="6110280"/>
                <a:tab algn="l" pos="6559560"/>
                <a:tab algn="l" pos="7008840"/>
                <a:tab algn="l" pos="7458120"/>
                <a:tab algn="l" pos="7907400"/>
                <a:tab algn="l" pos="8356680"/>
                <a:tab algn="l" pos="8805960"/>
                <a:tab algn="l" pos="925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Las células madre son células que pueden dar lugar a cualquier tipo de célula; a partir de ellas se pueden obtener todas las demás células, al menos teóricamente, y volver a hacer funcional un tejido dañado o enferm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1440" indent="-2700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271440"/>
                <a:tab algn="l" pos="719280"/>
                <a:tab algn="l" pos="1168560"/>
                <a:tab algn="l" pos="1617840"/>
                <a:tab algn="l" pos="2066760"/>
                <a:tab algn="l" pos="2516040"/>
                <a:tab algn="l" pos="2965320"/>
                <a:tab algn="l" pos="3414600"/>
                <a:tab algn="l" pos="3863880"/>
                <a:tab algn="l" pos="4313160"/>
                <a:tab algn="l" pos="4762440"/>
                <a:tab algn="l" pos="5211720"/>
                <a:tab algn="l" pos="5661000"/>
                <a:tab algn="l" pos="6110280"/>
                <a:tab algn="l" pos="6559560"/>
                <a:tab algn="l" pos="7008840"/>
                <a:tab algn="l" pos="7458120"/>
                <a:tab algn="l" pos="7907400"/>
                <a:tab algn="l" pos="8356680"/>
                <a:tab algn="l" pos="8805960"/>
                <a:tab algn="l" pos="925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1440" indent="-2700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271440"/>
                <a:tab algn="l" pos="719280"/>
                <a:tab algn="l" pos="1168560"/>
                <a:tab algn="l" pos="1617840"/>
                <a:tab algn="l" pos="2066760"/>
                <a:tab algn="l" pos="2516040"/>
                <a:tab algn="l" pos="2965320"/>
                <a:tab algn="l" pos="3414600"/>
                <a:tab algn="l" pos="3863880"/>
                <a:tab algn="l" pos="4313160"/>
                <a:tab algn="l" pos="4762440"/>
                <a:tab algn="l" pos="5211720"/>
                <a:tab algn="l" pos="5661000"/>
                <a:tab algn="l" pos="6110280"/>
                <a:tab algn="l" pos="6559560"/>
                <a:tab algn="l" pos="7008840"/>
                <a:tab algn="l" pos="7458120"/>
                <a:tab algn="l" pos="7907400"/>
                <a:tab algn="l" pos="8356680"/>
                <a:tab algn="l" pos="8805960"/>
                <a:tab algn="l" pos="925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El ideal es el embrión. Además, pueden obtenerse d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1440" indent="-2700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271440"/>
                <a:tab algn="l" pos="719280"/>
                <a:tab algn="l" pos="1168560"/>
                <a:tab algn="l" pos="1617840"/>
                <a:tab algn="l" pos="2066760"/>
                <a:tab algn="l" pos="2516040"/>
                <a:tab algn="l" pos="2965320"/>
                <a:tab algn="l" pos="3414600"/>
                <a:tab algn="l" pos="3863880"/>
                <a:tab algn="l" pos="4313160"/>
                <a:tab algn="l" pos="4762440"/>
                <a:tab algn="l" pos="5211720"/>
                <a:tab algn="l" pos="5661000"/>
                <a:tab algn="l" pos="6110280"/>
                <a:tab algn="l" pos="6559560"/>
                <a:tab algn="l" pos="7008840"/>
                <a:tab algn="l" pos="7458120"/>
                <a:tab algn="l" pos="7907400"/>
                <a:tab algn="l" pos="8356680"/>
                <a:tab algn="l" pos="8805960"/>
                <a:tab algn="l" pos="925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6480" indent="-244440">
              <a:lnSpc>
                <a:spcPct val="100000"/>
              </a:lnSpc>
              <a:spcBef>
                <a:spcPts val="649"/>
              </a:spcBef>
              <a:buClr>
                <a:srgbClr val="e7bc29"/>
              </a:buClr>
              <a:buFont typeface="Constantia"/>
              <a:buChar char="•"/>
              <a:tabLst>
                <a:tab algn="l" pos="271440"/>
                <a:tab algn="l" pos="719280"/>
                <a:tab algn="l" pos="1168560"/>
                <a:tab algn="l" pos="1617840"/>
                <a:tab algn="l" pos="2066760"/>
                <a:tab algn="l" pos="2516040"/>
                <a:tab algn="l" pos="2965320"/>
                <a:tab algn="l" pos="3414600"/>
                <a:tab algn="l" pos="3863880"/>
                <a:tab algn="l" pos="4313160"/>
                <a:tab algn="l" pos="4762440"/>
                <a:tab algn="l" pos="5211720"/>
                <a:tab algn="l" pos="5661000"/>
                <a:tab algn="l" pos="6110280"/>
                <a:tab algn="l" pos="6559560"/>
                <a:tab algn="l" pos="7008840"/>
                <a:tab algn="l" pos="7458120"/>
                <a:tab algn="l" pos="7907400"/>
                <a:tab algn="l" pos="8356680"/>
                <a:tab algn="l" pos="8805960"/>
                <a:tab algn="l" pos="925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  <a:ea typeface="MS Gothic"/>
              </a:rPr>
              <a:t>Líquido amniótico y cordón umbilic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6480" indent="-244440">
              <a:lnSpc>
                <a:spcPct val="100000"/>
              </a:lnSpc>
              <a:spcBef>
                <a:spcPts val="649"/>
              </a:spcBef>
              <a:buClr>
                <a:srgbClr val="e7bc29"/>
              </a:buClr>
              <a:buFont typeface="Constantia"/>
              <a:buChar char="•"/>
              <a:tabLst>
                <a:tab algn="l" pos="271440"/>
                <a:tab algn="l" pos="719280"/>
                <a:tab algn="l" pos="1168560"/>
                <a:tab algn="l" pos="1617840"/>
                <a:tab algn="l" pos="2066760"/>
                <a:tab algn="l" pos="2516040"/>
                <a:tab algn="l" pos="2965320"/>
                <a:tab algn="l" pos="3414600"/>
                <a:tab algn="l" pos="3863880"/>
                <a:tab algn="l" pos="4313160"/>
                <a:tab algn="l" pos="4762440"/>
                <a:tab algn="l" pos="5211720"/>
                <a:tab algn="l" pos="5661000"/>
                <a:tab algn="l" pos="6110280"/>
                <a:tab algn="l" pos="6559560"/>
                <a:tab algn="l" pos="7008840"/>
                <a:tab algn="l" pos="7458120"/>
                <a:tab algn="l" pos="7907400"/>
                <a:tab algn="l" pos="8356680"/>
                <a:tab algn="l" pos="8805960"/>
                <a:tab algn="l" pos="925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  <a:ea typeface="MS Gothic"/>
              </a:rPr>
              <a:t>Tejidos adult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1440" indent="-2700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271440"/>
                <a:tab algn="l" pos="719280"/>
                <a:tab algn="l" pos="1168560"/>
                <a:tab algn="l" pos="1617840"/>
                <a:tab algn="l" pos="2066760"/>
                <a:tab algn="l" pos="2516040"/>
                <a:tab algn="l" pos="2965320"/>
                <a:tab algn="l" pos="3414600"/>
                <a:tab algn="l" pos="3863880"/>
                <a:tab algn="l" pos="4313160"/>
                <a:tab algn="l" pos="4762440"/>
                <a:tab algn="l" pos="5211720"/>
                <a:tab algn="l" pos="5661000"/>
                <a:tab algn="l" pos="6110280"/>
                <a:tab algn="l" pos="6559560"/>
                <a:tab algn="l" pos="7008840"/>
                <a:tab algn="l" pos="7458120"/>
                <a:tab algn="l" pos="7907400"/>
                <a:tab algn="l" pos="8356680"/>
                <a:tab algn="l" pos="8805960"/>
                <a:tab algn="l" pos="925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1440" indent="-2700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271440"/>
                <a:tab algn="l" pos="719280"/>
                <a:tab algn="l" pos="1168560"/>
                <a:tab algn="l" pos="1617840"/>
                <a:tab algn="l" pos="2066760"/>
                <a:tab algn="l" pos="2516040"/>
                <a:tab algn="l" pos="2965320"/>
                <a:tab algn="l" pos="3414600"/>
                <a:tab algn="l" pos="3863880"/>
                <a:tab algn="l" pos="4313160"/>
                <a:tab algn="l" pos="4762440"/>
                <a:tab algn="l" pos="5211720"/>
                <a:tab algn="l" pos="5661000"/>
                <a:tab algn="l" pos="6110280"/>
                <a:tab algn="l" pos="6559560"/>
                <a:tab algn="l" pos="7008840"/>
                <a:tab algn="l" pos="7458120"/>
                <a:tab algn="l" pos="7907400"/>
                <a:tab algn="l" pos="8356680"/>
                <a:tab algn="l" pos="8805960"/>
                <a:tab algn="l" pos="925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Quizá pueda “convertirse” en célula madre cualquier célula tras la infección por un viru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84360" y="692280"/>
            <a:ext cx="6994440" cy="79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3200" spc="-1" strike="noStrike">
                <a:solidFill>
                  <a:srgbClr val="336699"/>
                </a:solidFill>
                <a:latin typeface="Arial"/>
              </a:rPr>
              <a:t>Clonación y células mad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857160" y="2214720"/>
            <a:ext cx="2714760" cy="17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1440" indent="-2700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271440"/>
                <a:tab algn="l" pos="719280"/>
                <a:tab algn="l" pos="1168560"/>
                <a:tab algn="l" pos="1617840"/>
                <a:tab algn="l" pos="2066760"/>
                <a:tab algn="l" pos="2516040"/>
                <a:tab algn="l" pos="2965320"/>
                <a:tab algn="l" pos="3414600"/>
                <a:tab algn="l" pos="3863880"/>
                <a:tab algn="l" pos="4313160"/>
                <a:tab algn="l" pos="4762440"/>
                <a:tab algn="l" pos="5211720"/>
                <a:tab algn="l" pos="5661000"/>
                <a:tab algn="l" pos="6110280"/>
                <a:tab algn="l" pos="6559560"/>
                <a:tab algn="l" pos="7008840"/>
                <a:tab algn="l" pos="7458120"/>
                <a:tab algn="l" pos="7907400"/>
                <a:tab algn="l" pos="8356680"/>
                <a:tab algn="l" pos="8805960"/>
                <a:tab algn="l" pos="925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38280" indent="-244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1440"/>
                <a:tab algn="l" pos="719280"/>
                <a:tab algn="l" pos="1168560"/>
                <a:tab algn="l" pos="1617840"/>
                <a:tab algn="l" pos="2066760"/>
                <a:tab algn="l" pos="2516040"/>
                <a:tab algn="l" pos="2965320"/>
                <a:tab algn="l" pos="3414600"/>
                <a:tab algn="l" pos="3863880"/>
                <a:tab algn="l" pos="4313160"/>
                <a:tab algn="l" pos="4762440"/>
                <a:tab algn="l" pos="5211720"/>
                <a:tab algn="l" pos="5661000"/>
                <a:tab algn="l" pos="6110280"/>
                <a:tab algn="l" pos="6559560"/>
                <a:tab algn="l" pos="7008840"/>
                <a:tab algn="l" pos="7458120"/>
                <a:tab algn="l" pos="7907400"/>
                <a:tab algn="l" pos="8356680"/>
                <a:tab algn="l" pos="8805960"/>
                <a:tab algn="l" pos="925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39640" y="907920"/>
            <a:ext cx="388800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336699"/>
                </a:solidFill>
                <a:latin typeface="Arial"/>
              </a:rPr>
              <a:t>Medicina ho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35280" y="5373720"/>
            <a:ext cx="27860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1440" indent="-270000">
              <a:lnSpc>
                <a:spcPct val="93000"/>
              </a:lnSpc>
              <a:tabLst>
                <a:tab algn="l" pos="0"/>
                <a:tab algn="l" pos="271440"/>
                <a:tab algn="l" pos="719280"/>
                <a:tab algn="l" pos="1168560"/>
                <a:tab algn="l" pos="1617840"/>
                <a:tab algn="l" pos="2066760"/>
                <a:tab algn="l" pos="2516040"/>
                <a:tab algn="l" pos="2965320"/>
                <a:tab algn="l" pos="3414600"/>
                <a:tab algn="l" pos="3863880"/>
                <a:tab algn="l" pos="4313160"/>
                <a:tab algn="l" pos="4762440"/>
                <a:tab algn="l" pos="5211720"/>
                <a:tab algn="l" pos="5661000"/>
                <a:tab algn="l" pos="6110280"/>
                <a:tab algn="l" pos="6559560"/>
                <a:tab algn="l" pos="7008840"/>
                <a:tab algn="l" pos="7458120"/>
                <a:tab algn="l" pos="7907400"/>
                <a:tab algn="l" pos="8356680"/>
                <a:tab algn="l" pos="8805960"/>
                <a:tab algn="l" pos="925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000" spc="-1" strike="noStrike" u="sng">
                <a:solidFill>
                  <a:srgbClr val="ccccff"/>
                </a:solidFill>
                <a:uFillTx/>
                <a:latin typeface="Constantia"/>
                <a:hlinkClick r:id="rId1"/>
              </a:rPr>
              <a:t>RMN</a:t>
            </a:r>
            <a:r>
              <a:rPr b="1" lang="es-ES" sz="1000" spc="-1" strike="noStrike">
                <a:solidFill>
                  <a:srgbClr val="000000"/>
                </a:solidFill>
                <a:latin typeface="Constantia"/>
              </a:rPr>
              <a:t>, de GD Clarke, en Wikipedia, de dominio público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020000" y="5013360"/>
            <a:ext cx="187164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1440" indent="-27000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271440"/>
                <a:tab algn="l" pos="719280"/>
                <a:tab algn="l" pos="1168560"/>
                <a:tab algn="l" pos="1617840"/>
                <a:tab algn="l" pos="2066760"/>
                <a:tab algn="l" pos="2516040"/>
                <a:tab algn="l" pos="2965320"/>
                <a:tab algn="l" pos="3414600"/>
                <a:tab algn="l" pos="3863880"/>
                <a:tab algn="l" pos="4313160"/>
                <a:tab algn="l" pos="4762440"/>
                <a:tab algn="l" pos="5211720"/>
                <a:tab algn="l" pos="5661000"/>
                <a:tab algn="l" pos="6110280"/>
                <a:tab algn="l" pos="6559560"/>
                <a:tab algn="l" pos="7008840"/>
                <a:tab algn="l" pos="7458120"/>
                <a:tab algn="l" pos="7907400"/>
                <a:tab algn="l" pos="8356680"/>
                <a:tab algn="l" pos="8805960"/>
                <a:tab algn="l" pos="925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000" spc="-1" strike="noStrike" u="sng">
                <a:solidFill>
                  <a:srgbClr val="ccccff"/>
                </a:solidFill>
                <a:uFillTx/>
                <a:latin typeface="Constantia"/>
                <a:hlinkClick r:id="rId2"/>
              </a:rPr>
              <a:t>PET</a:t>
            </a:r>
            <a:r>
              <a:rPr b="1" lang="es-ES" sz="1000" spc="-1" strike="noStrike">
                <a:solidFill>
                  <a:srgbClr val="000000"/>
                </a:solidFill>
                <a:latin typeface="Constantia"/>
              </a:rPr>
              <a:t>, de J Langner, en Wikipedia, de dominio público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50920" y="5013360"/>
            <a:ext cx="27860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1440" indent="-27000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271440"/>
                <a:tab algn="l" pos="719280"/>
                <a:tab algn="l" pos="1168560"/>
                <a:tab algn="l" pos="1617840"/>
                <a:tab algn="l" pos="2066760"/>
                <a:tab algn="l" pos="2516040"/>
                <a:tab algn="l" pos="2965320"/>
                <a:tab algn="l" pos="3414600"/>
                <a:tab algn="l" pos="3863880"/>
                <a:tab algn="l" pos="4313160"/>
                <a:tab algn="l" pos="4762440"/>
                <a:tab algn="l" pos="5211720"/>
                <a:tab algn="l" pos="5661000"/>
                <a:tab algn="l" pos="6110280"/>
                <a:tab algn="l" pos="6559560"/>
                <a:tab algn="l" pos="7008840"/>
                <a:tab algn="l" pos="7458120"/>
                <a:tab algn="l" pos="7907400"/>
                <a:tab algn="l" pos="8356680"/>
                <a:tab algn="l" pos="8805960"/>
                <a:tab algn="l" pos="925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000" spc="-1" strike="noStrike" u="sng">
                <a:solidFill>
                  <a:srgbClr val="ccccff"/>
                </a:solidFill>
                <a:uFillTx/>
                <a:latin typeface="Constantia"/>
                <a:hlinkClick r:id="rId3"/>
              </a:rPr>
              <a:t>Inseminación artificial</a:t>
            </a:r>
            <a:r>
              <a:rPr b="0" lang="es-ES" sz="1000" spc="-1" strike="noStrike" u="sng">
                <a:solidFill>
                  <a:srgbClr val="ccccff"/>
                </a:solidFill>
                <a:uFillTx/>
                <a:latin typeface="Constantia"/>
                <a:hlinkClick r:id="rId4"/>
              </a:rPr>
              <a:t>, </a:t>
            </a:r>
            <a:r>
              <a:rPr b="1" lang="es-ES" sz="1000" spc="-1" strike="noStrike">
                <a:solidFill>
                  <a:srgbClr val="000000"/>
                </a:solidFill>
                <a:latin typeface="Constantia"/>
              </a:rPr>
              <a:t> de autor desconocido,  de uso libr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5"/>
          <a:stretch/>
        </p:blipFill>
        <p:spPr>
          <a:xfrm>
            <a:off x="684360" y="1773360"/>
            <a:ext cx="3305160" cy="25938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6"/>
          <a:stretch/>
        </p:blipFill>
        <p:spPr>
          <a:xfrm>
            <a:off x="3708360" y="2565360"/>
            <a:ext cx="3218040" cy="27147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7"/>
          <a:stretch/>
        </p:blipFill>
        <p:spPr>
          <a:xfrm>
            <a:off x="7020000" y="1989000"/>
            <a:ext cx="1904760" cy="28767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c</cp:lastModifiedBy>
  <dcterms:modified xsi:type="dcterms:W3CDTF">2009-10-26T11:47:44Z</dcterms:modified>
  <cp:revision>39</cp:revision>
  <dc:subject/>
  <dc:title>Diapositiva 1</dc:title>
</cp:coreProperties>
</file>