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2CD-7BF1-4906-8E46-3E28C311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20B-63BD-4DDA-8321-471A0E99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01A-7741-4133-B0C4-F4446868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B6C-74B9-4A94-83F8-57D3CE0A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9BE-C603-4945-988F-FC21CBC7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466-0399-4B18-8F84-7A5AF760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E47-0E19-4D1A-8F4E-C0C96AC6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736-D2D9-4444-998C-A8F5DBAD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A8C-58D7-4E13-9D41-8C06D545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E47-44B4-4F84-B347-64B2862F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F6B-4BFE-4C8C-BD3E-62F74265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B58-1E61-4DB7-A6A0-117611A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Lucida Sans Unicode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924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924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92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04CD-134E-41DC-A813-A266E67EB671}" type="slidenum">
              <a:rPr b="0" lang="en-US" sz="1200" spc="-1" strike="noStrike">
                <a:solidFill>
                  <a:srgbClr val="404924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Desarrollo sostenible y med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esequilibrios económicos actuales: Desarrollo sostenible y medio ambient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3 CuadroTexto"/>
          <p:cNvSpPr/>
          <p:nvPr/>
        </p:nvSpPr>
        <p:spPr>
          <a:xfrm>
            <a:off x="357120" y="1643040"/>
            <a:ext cx="8358120" cy="3994920"/>
          </a:xfrm>
          <a:prstGeom prst="rect">
            <a:avLst/>
          </a:prstGeom>
          <a:solidFill>
            <a:srgbClr val="f8c891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fine com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desarrollo que satisface las necesidades de la generación presente sin comprometer la capacidad de generaciones futuras para satisfacer sus propias necesidades. Incluye cuatro dimen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Desarrollo sostenible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3 Diagrama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083360" cy="5048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6699"/>
                </a:solidFill>
                <a:latin typeface="Calibri"/>
              </a:rPr>
              <a:t>Principales problemas medioambientales</a:t>
            </a:r>
            <a:endParaRPr b="1" lang="en-US" sz="3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6699"/>
                </a:solidFill>
                <a:latin typeface="Calibri"/>
              </a:rPr>
              <a:t>Causas de los problemas medioambientales</a:t>
            </a:r>
            <a:endParaRPr b="1" lang="en-US" sz="35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6" name="4 Marcador de contenido" descr=""/>
          <p:cNvPicPr/>
          <p:nvPr/>
        </p:nvPicPr>
        <p:blipFill>
          <a:blip r:embed="rId1"/>
          <a:stretch/>
        </p:blipFill>
        <p:spPr>
          <a:xfrm>
            <a:off x="1452600" y="2139840"/>
            <a:ext cx="63594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6699"/>
                </a:solidFill>
                <a:latin typeface="Calibri"/>
              </a:rPr>
              <a:t>Soluciones para los problemas medioambientales</a:t>
            </a:r>
            <a:endParaRPr b="1" lang="en-US" sz="35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4 Diagrama" descr=""/>
          <p:cNvPicPr/>
          <p:nvPr/>
        </p:nvPicPr>
        <p:blipFill>
          <a:blip r:embed="rId1"/>
          <a:stretch/>
        </p:blipFill>
        <p:spPr>
          <a:xfrm>
            <a:off x="407880" y="2054160"/>
            <a:ext cx="6132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Genesis XXI</dc:creator>
  <dc:description/>
  <dc:language>en-US</dc:language>
  <cp:lastModifiedBy>r</cp:lastModifiedBy>
  <dcterms:modified xsi:type="dcterms:W3CDTF">2010-05-17T18:31:28Z</dcterms:modified>
  <cp:revision>51</cp:revision>
  <dc:subject/>
  <dc:title>Tema 1. La actividad económica</dc:title>
</cp:coreProperties>
</file>