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s-E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B0A424A-023B-402D-A8F2-1C9B075364D1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DB51ABC-3CE4-431F-A01D-8A1F61F89C5A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A06D2D4-71A2-483D-8BB5-1C0321680585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B53BE06-C8C9-4880-A576-1BA18910B3F2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D6B9E56-59EE-42F9-BB16-6685AA212B35}" type="slidenum">
              <a:rPr b="0" lang="es-E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580000" y="6597720"/>
            <a:ext cx="3095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rebuchet MS"/>
              </a:rPr>
              <a:t>G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La teoría atómico-molecular: </a:t>
            </a:r>
            <a:br>
              <a:rPr sz="4000"/>
            </a:b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Gases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1"/>
          <p:cNvSpPr/>
          <p:nvPr/>
        </p:nvSpPr>
        <p:spPr>
          <a:xfrm>
            <a:off x="3352680" y="696960"/>
            <a:ext cx="518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El estado gase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el más sencillo de estudiar, porque todos los gases tienen propiedades físicas parecidas:  son sustancias que ocupan totalmente el recipiente que los contiene, que se mezclan fácilmente, se pueden expandir y comprimir con facilidad, generan una presión que depende de la cantidad de gas que hay en el recipiente (además de su volumen y de la temperatura a la que se encuentren) y son muy poco den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9"/>
          <p:cNvSpPr/>
          <p:nvPr/>
        </p:nvSpPr>
        <p:spPr>
          <a:xfrm>
            <a:off x="457200" y="6248520"/>
            <a:ext cx="792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0"/>
          <p:cNvSpPr/>
          <p:nvPr/>
        </p:nvSpPr>
        <p:spPr>
          <a:xfrm>
            <a:off x="609480" y="371808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n 1 de CNICE, uso educat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4191120"/>
            <a:ext cx="838224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definir el estado de un gas, es necesario conocer una serie de magnitudes, llamada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riables de estad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lumen del recipiente en el que se encuentra el gas (litros, 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emperatura a la que está el gas (Kelvin, K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sión generada por el gas (atmósferas, at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ntidad de gas (gramos, 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2086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14"/>
          <p:cNvSpPr/>
          <p:nvPr/>
        </p:nvSpPr>
        <p:spPr>
          <a:xfrm>
            <a:off x="762120" y="77616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Leyes de los g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0"/>
          <p:cNvSpPr/>
          <p:nvPr/>
        </p:nvSpPr>
        <p:spPr>
          <a:xfrm>
            <a:off x="5867280" y="32004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n 2 de elaboración prop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371600"/>
            <a:ext cx="53341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oyle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V=cte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T y m consta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les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/T=c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P y  m consta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ay-Lussac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/T=c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V y  m consta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alton: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=</a:t>
            </a: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en una mezcla de gas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867280" y="990720"/>
            <a:ext cx="2792520" cy="20937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5638680" y="5181480"/>
            <a:ext cx="2514600" cy="893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952880" y="3975120"/>
            <a:ext cx="4038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ey general de los g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V/T=ct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f(cantidad de g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219320" y="3429000"/>
            <a:ext cx="2819160" cy="25671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0"/>
          <p:cNvSpPr/>
          <p:nvPr/>
        </p:nvSpPr>
        <p:spPr>
          <a:xfrm>
            <a:off x="1219320" y="6095880"/>
            <a:ext cx="304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n 3 de elaboración prop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4"/>
          <p:cNvSpPr/>
          <p:nvPr/>
        </p:nvSpPr>
        <p:spPr>
          <a:xfrm>
            <a:off x="762120" y="685800"/>
            <a:ext cx="533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Interpretación de las leyes de los g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197000"/>
            <a:ext cx="61722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desprecian las interacciones entre las partículas de gas, y su volumen se considera despreciable frente al del recipiente. En esas condiciones se trata de u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s ide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resión de los gases viene originada por los choques de las partículas con las paredes del recipiente que las contiene, y depende de la fuerza de choque y de la superficie interior del recipiente (P = F/S). En consecuencia, cuanto mayor sea la intensidad de los choques y menor el volumen del recipiente, mayor será la presió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781680" y="1219320"/>
            <a:ext cx="1968480" cy="2355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80880" y="4267080"/>
            <a:ext cx="85345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 calentar el gas, aumentando su temperatura, las partículas se mueven progresivamente más deprisa, chocando con más intensidad y separándose más entre ellas. Por tanto, las partículas se encuentran muy lejos y se mueven a gran velocidad en el estado gaseos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anto mayor sea la cantidad de gas contenida en un recipiente, mayor es la presión generada, ya que hay más partícul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0"/>
          <p:cNvSpPr/>
          <p:nvPr/>
        </p:nvSpPr>
        <p:spPr>
          <a:xfrm>
            <a:off x="6553080" y="37180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n 4 de elaboración propi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91440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Hipótesis de Avogad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0"/>
          <p:cNvSpPr/>
          <p:nvPr/>
        </p:nvSpPr>
        <p:spPr>
          <a:xfrm>
            <a:off x="762120" y="6324480"/>
            <a:ext cx="289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magen 5 de Salvá, dominio públ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447920"/>
            <a:ext cx="83059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y d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Gay-Lussa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los volúmenes que reaccionan de dos gases que están a las mismas condiciones de presión y temperatura lo hacen en una relación de números enteros sencill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explicar este hecho,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vogadr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upuso que volúmenes iguales de gases distintos, en las mismas condiciones de presión y temperatura, contienen el mismo número de partícula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presión no depende del tipo de gas: gases diferentes en el mismo volumen y a la misma temperatura generan la misma presión si la cantidad de partículas de cada uno es la misma (las partículas grandes se mueven despacio y las pequeñas depris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5800" y="4573440"/>
            <a:ext cx="3048120" cy="1656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267080" y="457200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ogadro también introdujo el concepto d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lécul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o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upo de átom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a explicar los valores de las relaciones de combinación entre g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4:05:25Z</dcterms:created>
  <dc:creator>Genesis XXI</dc:creator>
  <dc:description/>
  <dc:language>en-US</dc:language>
  <cp:lastModifiedBy>domus</cp:lastModifiedBy>
  <dcterms:modified xsi:type="dcterms:W3CDTF">2010-06-07T06:52:22Z</dcterms:modified>
  <cp:revision>96</cp:revision>
  <dc:subject/>
  <dc:title>Tema 1. La actividad económica</dc:title>
</cp:coreProperties>
</file>