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4B5-BED1-4686-84E5-585FC0A6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8634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588560"/>
            <a:ext cx="8634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F9E-3C2F-4E95-AAA9-3EEA21C1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520" y="220032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58856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520" y="458856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055-1314-4C82-B29D-0FF3152F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2779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360" y="2200320"/>
            <a:ext cx="2779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0600" y="2200320"/>
            <a:ext cx="2779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588560"/>
            <a:ext cx="2779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360" y="4588560"/>
            <a:ext cx="2779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0600" y="4588560"/>
            <a:ext cx="2779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377-CA7C-489C-A04A-75D7C5F9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200320"/>
            <a:ext cx="8634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47F-289D-4A08-8DAE-7C051F86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8634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52E-500B-49D6-8888-D51E704C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520" y="2200320"/>
            <a:ext cx="42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E2F-D977-4C3E-AB50-1FD7038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26B-79A4-46BF-97A3-1A5BE1DA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95440"/>
            <a:ext cx="8634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F45-ECEE-4346-98AF-62BDE14E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520" y="2200320"/>
            <a:ext cx="42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58856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87B-6D62-4FAC-B17F-303AF29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13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520" y="220032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520" y="458856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316-97C9-406B-ABD0-D1D3D75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520" y="2200320"/>
            <a:ext cx="4213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588560"/>
            <a:ext cx="8634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983-6B92-4135-A003-E31B1D15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4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200320"/>
            <a:ext cx="8634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6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400" y="6941880"/>
            <a:ext cx="3217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78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CDAD97-50C0-4129-B547-CC4D46E43D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://www.flickr.com/photos/86048025@N00/3635127630" TargetMode="External"/><Relationship Id="rId4" Type="http://schemas.openxmlformats.org/officeDocument/2006/relationships/hyperlink" Target="http://www.flickr.com/photos/86048025@N00/3635127630" TargetMode="External"/><Relationship Id="rId5" Type="http://schemas.openxmlformats.org/officeDocument/2006/relationships/hyperlink" Target="http://www.flickr.com/photos/86048025@N00/3635127630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flickr.com/photos/oneras/2348807769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3760" y="711000"/>
            <a:ext cx="9318600" cy="76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400" spc="-1" strike="noStrike">
                <a:solidFill>
                  <a:srgbClr val="336699"/>
                </a:solidFill>
                <a:latin typeface="Arial"/>
              </a:rPr>
              <a:t>Trans VELO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7160" y="6197400"/>
            <a:ext cx="8129520" cy="6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 1: Ordenamos y mejoramos la in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27280" y="1463760"/>
            <a:ext cx="6447960" cy="4506480"/>
            <a:chOff x="1727280" y="1463760"/>
            <a:chExt cx="6447960" cy="4506480"/>
          </a:xfrm>
        </p:grpSpPr>
        <p:sp>
          <p:nvSpPr>
            <p:cNvPr id="44" name=""/>
            <p:cNvSpPr/>
            <p:nvPr/>
          </p:nvSpPr>
          <p:spPr>
            <a:xfrm>
              <a:off x="1727280" y="1463760"/>
              <a:ext cx="6446520" cy="45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hgjj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27280" y="1463760"/>
              <a:ext cx="6446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27280" y="5969160"/>
              <a:ext cx="64465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1463760"/>
              <a:ext cx="1080" cy="450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73800" y="1463760"/>
              <a:ext cx="1440" cy="450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27280" y="1463760"/>
              <a:ext cx="6446520" cy="1080"/>
            </a:xfrm>
            <a:custGeom>
              <a:avLst/>
              <a:gdLst/>
              <a:ahLst/>
              <a:rect l="l" t="t" r="r" b="b"/>
              <a:pathLst>
                <a:path w="18627" h="1">
                  <a:moveTo>
                    <a:pt x="0" y="0"/>
                  </a:moveTo>
                  <a:lnTo>
                    <a:pt x="18626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27280" y="1463760"/>
              <a:ext cx="6446520" cy="1080"/>
            </a:xfrm>
            <a:custGeom>
              <a:avLst/>
              <a:gdLst/>
              <a:ahLst/>
              <a:rect l="l" t="t" r="r" b="b"/>
              <a:pathLst>
                <a:path w="18627" h="1">
                  <a:moveTo>
                    <a:pt x="0" y="0"/>
                  </a:moveTo>
                  <a:lnTo>
                    <a:pt x="18626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27280" y="1463760"/>
              <a:ext cx="1080" cy="4505400"/>
            </a:xfrm>
            <a:custGeom>
              <a:avLst/>
              <a:gdLst/>
              <a:ahLst/>
              <a:rect l="l" t="t" r="r" b="b"/>
              <a:pathLst>
                <a:path w="1" h="12701">
                  <a:moveTo>
                    <a:pt x="0" y="0"/>
                  </a:moveTo>
                  <a:lnTo>
                    <a:pt x="0" y="1270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27280" y="1463760"/>
              <a:ext cx="1080" cy="4505400"/>
            </a:xfrm>
            <a:custGeom>
              <a:avLst/>
              <a:gdLst/>
              <a:ahLst/>
              <a:rect l="l" t="t" r="r" b="b"/>
              <a:pathLst>
                <a:path w="1" h="12701">
                  <a:moveTo>
                    <a:pt x="0" y="0"/>
                  </a:moveTo>
                  <a:lnTo>
                    <a:pt x="0" y="1270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73800" y="1463760"/>
              <a:ext cx="1440" cy="4505400"/>
            </a:xfrm>
            <a:custGeom>
              <a:avLst/>
              <a:gdLst/>
              <a:ahLst/>
              <a:rect l="l" t="t" r="r" b="b"/>
              <a:pathLst>
                <a:path w="1" h="12701">
                  <a:moveTo>
                    <a:pt x="0" y="0"/>
                  </a:moveTo>
                  <a:lnTo>
                    <a:pt x="0" y="1270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173800" y="1463760"/>
              <a:ext cx="1440" cy="4505400"/>
            </a:xfrm>
            <a:custGeom>
              <a:avLst/>
              <a:gdLst/>
              <a:ahLst/>
              <a:rect l="l" t="t" r="r" b="b"/>
              <a:pathLst>
                <a:path w="1" h="12701">
                  <a:moveTo>
                    <a:pt x="0" y="0"/>
                  </a:moveTo>
                  <a:lnTo>
                    <a:pt x="0" y="1270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27280" y="5969160"/>
              <a:ext cx="6446520" cy="1080"/>
            </a:xfrm>
            <a:custGeom>
              <a:avLst/>
              <a:gdLst/>
              <a:ahLst/>
              <a:rect l="l" t="t" r="r" b="b"/>
              <a:pathLst>
                <a:path w="18627" h="1">
                  <a:moveTo>
                    <a:pt x="0" y="0"/>
                  </a:moveTo>
                  <a:lnTo>
                    <a:pt x="18626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27280" y="5969160"/>
              <a:ext cx="6446520" cy="1080"/>
            </a:xfrm>
            <a:custGeom>
              <a:avLst/>
              <a:gdLst/>
              <a:ahLst/>
              <a:rect l="l" t="t" r="r" b="b"/>
              <a:pathLst>
                <a:path w="18627" h="1">
                  <a:moveTo>
                    <a:pt x="0" y="0"/>
                  </a:moveTo>
                  <a:lnTo>
                    <a:pt x="18626" y="0"/>
                  </a:lnTo>
                  <a:lnTo>
                    <a:pt x="0" y="0"/>
                  </a:lnTo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43240" y="1506600"/>
            <a:ext cx="5492520" cy="4120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22880" y="5610240"/>
            <a:ext cx="309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Imagen de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tonio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Fiol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jo licencia Creative Comm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2960" y="5087880"/>
            <a:ext cx="9313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mpresa Trans Velox están alegres por un lado y tristes por otro. Juan el gerente de la empresa se jubi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a una vida trabajando para la empresa. Quedaría la plaza libre, iba a ser difícil sustituir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556080" y="709560"/>
            <a:ext cx="2946240" cy="44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4520" y="5322960"/>
            <a:ext cx="9313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reunión de los viernes Luisa, la Directora General, y Pedro, el Director de Personal, deciden realizar una prueba de selección para ocupar esta pla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alizan la situación y se preguntan que es lo que necesitan. Para ello hacen un recorrido por el trabajo de Ju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073240" y="782640"/>
            <a:ext cx="6013440" cy="397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11600" y="481968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Imagen de </a:t>
            </a:r>
            <a:r>
              <a:rPr b="0" lang="es-E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Oneras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bajo licencia Creative Comm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42960" y="5087880"/>
            <a:ext cx="9313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departamento de planificación Juan realizaba las rutas con ayuda de los grafos optimizando los itinerarios y logrando así que el reparto fuera lo más rápido posible, ahorrando gastos de trans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33720" y="812880"/>
            <a:ext cx="5911560" cy="39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42960" y="5087880"/>
            <a:ext cx="93139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denaba la información y realizaba diversos cálculos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stes totales de nóm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oste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Beneficios de la empres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07960" y="1725480"/>
            <a:ext cx="9144000" cy="24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42960" y="5087880"/>
            <a:ext cx="931392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departamento de repartos distribuía los paquetes según su tamaño. Estudiaba la forma de realizar la carga optimizando el espacio y los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67200" y="914400"/>
            <a:ext cx="402588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54120" y="5181480"/>
            <a:ext cx="93139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uan realizaba este eficiente trabajo aplicando los conocimientos matemáticos que aprendió en su época de estudiante: grafos, matrices, programación, inecuacion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55880" y="860400"/>
            <a:ext cx="268308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0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4120" y="4519440"/>
            <a:ext cx="93009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 que, Luisa y Pedro deciden que harán cuatro pruebas e irán seleccionando al personal según sus conocimientos sobre estos ámb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 de las cuatro pruebas, elegirán al que ocupe el puesto de Ju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¿Serás tú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41680" y="812880"/>
            <a:ext cx="4913280" cy="3262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dur="indefinite" fill="hold">
                      <p:stCondLst>
                        <p:cond delay="0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WINXP</cp:lastModifiedBy>
  <dcterms:modified xsi:type="dcterms:W3CDTF">2010-06-04T17:30:00Z</dcterms:modified>
  <cp:revision>3</cp:revision>
  <dc:subject/>
  <dc:title>PowerPoint Presentation</dc:title>
</cp:coreProperties>
</file>