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3317760" y="6583320"/>
            <a:ext cx="5826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Tema 2: I have got two sisters / Tengo dos her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8480" y="742680"/>
            <a:ext cx="75769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Comic Sans MS"/>
              </a:rPr>
              <a:t>Tema 2: I have got two sisters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Comic Sans MS"/>
              </a:rPr>
              <a:t>/ Tengo dos herman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692600" y="5281560"/>
            <a:ext cx="26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hemarnas 2"/>
          <p:cNvPicPr/>
          <p:nvPr/>
        </p:nvPicPr>
        <p:blipFill>
          <a:blip r:embed="rId1"/>
          <a:stretch/>
        </p:blipFill>
        <p:spPr>
          <a:xfrm>
            <a:off x="3524400" y="1803240"/>
            <a:ext cx="4546440" cy="328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1066680" y="1003320"/>
            <a:ext cx="62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1.- Have you got sisters? / ¿Tienes herman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7480" y="1544760"/>
          <a:ext cx="6740280" cy="4383000"/>
        </p:xfrm>
        <a:graphic>
          <a:graphicData uri="http://schemas.openxmlformats.org/drawingml/2006/table">
            <a:tbl>
              <a:tblPr/>
              <a:tblGrid>
                <a:gridCol w="2016000"/>
                <a:gridCol w="2477880"/>
                <a:gridCol w="224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ffirm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eg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nterrog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 have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yo tengo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 haven´t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Yo no ten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ve I got?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: ¿tengo y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You have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tu tie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You haven´t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tu no tien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ve you got?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¿tienes tu?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e has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él tiene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e hasn´t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él no ti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s he got?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¿Tiene él?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he has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la ti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he hasn´t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la no ti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s she got?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¿tiene ell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 has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so tiene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 hasn´t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so no ti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s it got?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¿tiene es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We have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nosotros tenemo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We haven´t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nosotros no tenemo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ve we got?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¿tenemos nosostros?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You have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vosotros tene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You haven´t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vosotros no tene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ve you got?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¿Teneis vosotro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hey have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los tienen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hey haven´t g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los no tien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ve they got?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¿tienen ello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215"/>
          <p:cNvSpPr/>
          <p:nvPr/>
        </p:nvSpPr>
        <p:spPr>
          <a:xfrm>
            <a:off x="1257480" y="6081840"/>
            <a:ext cx="675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Comic Sans MS"/>
              </a:rPr>
              <a:t>Short answers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1200" spc="-1" strike="noStrike">
                <a:solidFill>
                  <a:srgbClr val="0000cc"/>
                </a:solidFill>
                <a:latin typeface="Comic Sans MS"/>
              </a:rPr>
              <a:t>Yes, I have; yes, we have; No, he hasn´t; No, they haven´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32"/>
          <p:cNvSpPr/>
          <p:nvPr/>
        </p:nvSpPr>
        <p:spPr>
          <a:xfrm>
            <a:off x="1028880" y="939960"/>
            <a:ext cx="6375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2.- He is tall / Él es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99"/>
                </a:solidFill>
                <a:latin typeface="Comic Sans MS"/>
              </a:rPr>
              <a:t>2.1.Handsome &amp; ugly / Guapo y f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93760" y="1676520"/>
          <a:ext cx="5778720" cy="2743200"/>
        </p:xfrm>
        <a:graphic>
          <a:graphicData uri="http://schemas.openxmlformats.org/drawingml/2006/table">
            <a:tbl>
              <a:tblPr/>
              <a:tblGrid>
                <a:gridCol w="2889360"/>
                <a:gridCol w="288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Fat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rd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hin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lgad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ig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mall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queñ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all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hort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j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eautiful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a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gly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Pretty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ua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ndsome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a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trong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e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Weak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éb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Old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ej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Young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ó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ong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hort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t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urly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z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traight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londe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bia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lack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gro/mor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277"/>
          <p:cNvSpPr/>
          <p:nvPr/>
        </p:nvSpPr>
        <p:spPr>
          <a:xfrm>
            <a:off x="942840" y="4481640"/>
            <a:ext cx="763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s-ES" sz="1600" spc="-1" strike="noStrike">
                <a:solidFill>
                  <a:srgbClr val="ff3399"/>
                </a:solidFill>
                <a:latin typeface="Comic Sans MS"/>
              </a:rPr>
              <a:t>2.2.Friendly &amp; unfriendly / simpático y antip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231920" y="4902120"/>
          <a:ext cx="6769080" cy="1063800"/>
        </p:xfrm>
        <a:graphic>
          <a:graphicData uri="http://schemas.openxmlformats.org/drawingml/2006/table">
            <a:tbl>
              <a:tblPr/>
              <a:tblGrid>
                <a:gridCol w="2254320"/>
                <a:gridCol w="2260440"/>
                <a:gridCol w="22543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appy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Friendly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Simpátic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ad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Tri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ngry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fadad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friendly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Antipátic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Funny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ertid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ored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rrid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ired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sada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cared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ustad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urprised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rprendid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erious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ria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352" descr=""/>
          <p:cNvPicPr/>
          <p:nvPr/>
        </p:nvPicPr>
        <p:blipFill>
          <a:blip r:embed="rId1"/>
          <a:stretch/>
        </p:blipFill>
        <p:spPr>
          <a:xfrm>
            <a:off x="7327800" y="1714680"/>
            <a:ext cx="1390680" cy="1917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53"/>
          <p:cNvSpPr/>
          <p:nvPr/>
        </p:nvSpPr>
        <p:spPr>
          <a:xfrm>
            <a:off x="7302600" y="378288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Wikipedia, imagen bajo licencia Creative Comm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66"/>
                </a:solidFill>
                <a:latin typeface="Comic Sans MS"/>
              </a:rPr>
              <a:t>           </a:t>
            </a:r>
            <a:r>
              <a:rPr b="0" lang="es-ES" sz="1600" spc="-1" strike="noStrike">
                <a:solidFill>
                  <a:srgbClr val="ff0066"/>
                </a:solidFill>
                <a:latin typeface="Comic Sans MS"/>
              </a:rPr>
              <a:t>2.3. </a:t>
            </a:r>
            <a:r>
              <a:rPr b="0" lang="es-ES" sz="1600" spc="-1" strike="noStrike">
                <a:solidFill>
                  <a:srgbClr val="ff3399"/>
                </a:solidFill>
                <a:latin typeface="Comic Sans MS"/>
              </a:rPr>
              <a:t>Balck or white / negro o blanco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25480" y="1333440"/>
          <a:ext cx="7873920" cy="566640"/>
        </p:xfrm>
        <a:graphic>
          <a:graphicData uri="http://schemas.openxmlformats.org/drawingml/2006/table">
            <a:tbl>
              <a:tblPr/>
              <a:tblGrid>
                <a:gridCol w="1147680"/>
                <a:gridCol w="1411560"/>
                <a:gridCol w="1265040"/>
                <a:gridCol w="1425600"/>
                <a:gridCol w="1405080"/>
                <a:gridCol w="1218960"/>
              </a:tblGrid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Ro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lu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Az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Gre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Ver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O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Nar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Gray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G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ite: Bl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ack: neg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Brow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Marr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Pink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R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Purpl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Mo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Yellow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Amari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56"/>
          <p:cNvSpPr/>
          <p:nvPr/>
        </p:nvSpPr>
        <p:spPr>
          <a:xfrm>
            <a:off x="1168560" y="2298600"/>
            <a:ext cx="55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3.- My sisters / Mis her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2755800"/>
          <a:ext cx="3505320" cy="2194200"/>
        </p:xfrm>
        <a:graphic>
          <a:graphicData uri="http://schemas.openxmlformats.org/drawingml/2006/table">
            <a:tbl>
              <a:tblPr/>
              <a:tblGrid>
                <a:gridCol w="1523880"/>
                <a:gridCol w="1981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/m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Y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/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/sus de é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/sus de el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/sus de e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stro/a, nuestros /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Y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uestroa Vuestros/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he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/sus de el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294" descr=""/>
          <p:cNvPicPr/>
          <p:nvPr/>
        </p:nvPicPr>
        <p:blipFill>
          <a:blip r:embed="rId1"/>
          <a:stretch/>
        </p:blipFill>
        <p:spPr>
          <a:xfrm>
            <a:off x="6122880" y="2827440"/>
            <a:ext cx="1849680" cy="1387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95"/>
          <p:cNvSpPr/>
          <p:nvPr/>
        </p:nvSpPr>
        <p:spPr>
          <a:xfrm>
            <a:off x="6159600" y="4292640"/>
            <a:ext cx="19303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Fuente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99ff"/>
                </a:solidFill>
                <a:latin typeface="Times New Roman"/>
              </a:rPr>
              <a:t>Her bike</a:t>
            </a:r>
            <a:r>
              <a:rPr b="0" lang="es-ES" sz="1200" spc="-1" strike="noStrike">
                <a:solidFill>
                  <a:srgbClr val="808080"/>
                </a:solidFill>
                <a:latin typeface="Times New Roman"/>
              </a:rPr>
              <a:t>: Su (de ella) b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6"/>
          <p:cNvSpPr/>
          <p:nvPr/>
        </p:nvSpPr>
        <p:spPr>
          <a:xfrm>
            <a:off x="736560" y="5016600"/>
            <a:ext cx="69087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4.- Anne´s sister / La hermana de Anne</a:t>
            </a: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s-ES_tradnl" sz="1200" spc="-1" strike="noStrike">
                <a:solidFill>
                  <a:srgbClr val="0000cc"/>
                </a:solidFill>
                <a:latin typeface="Comic Sans MS"/>
              </a:rPr>
              <a:t>Juan 's house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 = la casa de Juan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s-ES" sz="1200" spc="-1" strike="noStrike">
                <a:solidFill>
                  <a:srgbClr val="0000cc"/>
                </a:solidFill>
                <a:latin typeface="Comic Sans MS"/>
              </a:rPr>
              <a:t>Ana´s car </a:t>
            </a: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= El coche de Ana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" sz="1200" spc="-1" strike="noStrike">
                <a:solidFill>
                  <a:srgbClr val="0000cc"/>
                </a:solidFill>
                <a:latin typeface="Comic Sans MS"/>
              </a:rPr>
              <a:t> Maria´s mother</a:t>
            </a: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 = La madre de Marí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s-ES" sz="1200" spc="-1" strike="noStrike">
                <a:solidFill>
                  <a:srgbClr val="0000cc"/>
                </a:solidFill>
                <a:latin typeface="Comic Sans MS"/>
              </a:rPr>
              <a:t>Paul´s father</a:t>
            </a: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 = El padre de P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89"/>
          <p:cNvSpPr/>
          <p:nvPr/>
        </p:nvSpPr>
        <p:spPr>
          <a:xfrm>
            <a:off x="1155600" y="977760"/>
            <a:ext cx="66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5.- My family / Mi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88840" y="1473120"/>
          <a:ext cx="5829480" cy="1981440"/>
        </p:xfrm>
        <a:graphic>
          <a:graphicData uri="http://schemas.openxmlformats.org/drawingml/2006/table">
            <a:tbl>
              <a:tblPr/>
              <a:tblGrid>
                <a:gridCol w="1557360"/>
                <a:gridCol w="2032200"/>
                <a:gridCol w="223992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Father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Mother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Parents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d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ndmother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ndfather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ndparents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ue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ndson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nd-daughter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e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Grandchildren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Nie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n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i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Daughter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hildren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j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Brother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ister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Uncle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unt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Cousin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rimo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iece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b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ephew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br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usband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ar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Wife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j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362" descr=""/>
          <p:cNvPicPr/>
          <p:nvPr/>
        </p:nvPicPr>
        <p:blipFill>
          <a:blip r:embed="rId1"/>
          <a:stretch/>
        </p:blipFill>
        <p:spPr>
          <a:xfrm>
            <a:off x="6821640" y="1663560"/>
            <a:ext cx="1987560" cy="1486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63"/>
          <p:cNvSpPr/>
          <p:nvPr/>
        </p:nvSpPr>
        <p:spPr>
          <a:xfrm>
            <a:off x="6832440" y="3225960"/>
            <a:ext cx="193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4"/>
          <p:cNvSpPr/>
          <p:nvPr/>
        </p:nvSpPr>
        <p:spPr>
          <a:xfrm>
            <a:off x="965160" y="383544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6.- Marina is twenty-two / Marina tiene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74640" y="4216320"/>
          <a:ext cx="2870280" cy="2193840"/>
        </p:xfrm>
        <a:graphic>
          <a:graphicData uri="http://schemas.openxmlformats.org/drawingml/2006/table">
            <a:tbl>
              <a:tblPr/>
              <a:tblGrid>
                <a:gridCol w="1435320"/>
                <a:gridCol w="14349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20: Twen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21: Twenty-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30: Thi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32: Thirty-t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40: Fo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43: Forty-thr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50: Fi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54: Fifty-f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60: Six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65: Sixty-f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70: Seven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76: Seventy-s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80: E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87: Eihthy-se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90: Nin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98: Ninety-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100: One hund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200: Two hund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500" descr=""/>
          <p:cNvPicPr/>
          <p:nvPr/>
        </p:nvPicPr>
        <p:blipFill>
          <a:blip r:embed="rId2"/>
          <a:stretch/>
        </p:blipFill>
        <p:spPr>
          <a:xfrm>
            <a:off x="5075280" y="4317840"/>
            <a:ext cx="2151000" cy="1613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01"/>
          <p:cNvSpPr/>
          <p:nvPr/>
        </p:nvSpPr>
        <p:spPr>
          <a:xfrm>
            <a:off x="5118120" y="5979960"/>
            <a:ext cx="207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Ismael Fernández Fuertes</cp:lastModifiedBy>
  <dcterms:modified xsi:type="dcterms:W3CDTF">2010-10-18T12:36:15Z</dcterms:modified>
  <cp:revision>50</cp:revision>
  <dc:subject/>
  <dc:title>Diapositiva 1</dc:title>
</cp:coreProperties>
</file>