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38AD91-FB53-4D32-B90E-BB230E99A75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371520"/>
            <a:ext cx="8313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774151-657A-447E-91F0-A95C0FD8D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19040" y="371520"/>
            <a:ext cx="8313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E14758-FD97-4342-9971-B21B9463B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19040" y="371520"/>
            <a:ext cx="8313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5A26A5-3840-4E56-A505-3B9C2920F04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AE0E29-E5A9-40C7-A5A3-B0656554842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19040" y="371520"/>
            <a:ext cx="8313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6DCD63-766F-41BC-910F-52FDB199F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19040" y="371520"/>
            <a:ext cx="8313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A70DDF-A30C-4049-9A01-67BDD9001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19040" y="371520"/>
            <a:ext cx="8313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012FF0-4287-4975-B843-1CE45D753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371520"/>
            <a:ext cx="8313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EAF6FE-7025-454A-8E98-058300C76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19040" y="371520"/>
            <a:ext cx="831384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502B28-5106-4F35-B9E5-0E9D9092D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19040" y="371520"/>
            <a:ext cx="8313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587B1E-864E-4A1B-8801-FF27C0971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19040" y="371520"/>
            <a:ext cx="8313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4C9C92-B4C5-4516-A014-775C6F5DD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19040" y="371520"/>
            <a:ext cx="8313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98510B-5D39-4632-91F3-97C2781D4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19040" y="371520"/>
            <a:ext cx="8313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DC9687-9679-4EAF-81F9-EE892ABCF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19040" y="371520"/>
            <a:ext cx="8313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93B234-002B-4E81-B4DA-E43A14357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19040" y="371520"/>
            <a:ext cx="8313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813F45-299A-4D37-9324-D3AEF5787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19040" y="371520"/>
            <a:ext cx="8313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5A6F74-A6D4-44B2-B714-BE04E63B05A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19040" y="371520"/>
            <a:ext cx="8313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19040" y="371520"/>
            <a:ext cx="8313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19040" y="371520"/>
            <a:ext cx="8313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19040" y="371520"/>
            <a:ext cx="8313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19040" y="371520"/>
            <a:ext cx="8313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82678C-ADA0-47B0-8CA1-B7255C394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19040" y="371520"/>
            <a:ext cx="831384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19040" y="371520"/>
            <a:ext cx="8313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19040" y="371520"/>
            <a:ext cx="8313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19040" y="371520"/>
            <a:ext cx="8313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19040" y="371520"/>
            <a:ext cx="8313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19040" y="371520"/>
            <a:ext cx="8313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19040" y="371520"/>
            <a:ext cx="8313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19040" y="371520"/>
            <a:ext cx="8313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4627F1-B6AB-45B4-B2EF-EE524B9AF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19040" y="371520"/>
            <a:ext cx="8313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69A32A-B26F-424D-A531-8D60C7C78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19040" y="371520"/>
            <a:ext cx="831384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5F3E57-ABF0-4FEF-BEAD-A093D75EF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371520"/>
            <a:ext cx="8313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378CA2-0F5B-47B7-8C1F-8EFA67FE9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371520"/>
            <a:ext cx="8313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27183D-4437-4BBA-9EDA-0AC49487A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19040" y="371520"/>
            <a:ext cx="8313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78CB4D-CD57-44B3-B5C9-C06CEE244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ffc400"/>
              </a:gs>
              <a:gs pos="100000">
                <a:srgbClr val="bf782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f4921f"/>
              </a:gs>
              <a:gs pos="100000">
                <a:srgbClr val="bf9506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444d2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924320" y="6356160"/>
            <a:ext cx="76068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6CF865B-9181-4AFD-A363-EDCF54716167}" type="slidenum">
              <a:rPr b="0" lang="es-E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-19080" y="203040"/>
            <a:ext cx="9180720" cy="648000"/>
            <a:chOff x="-19080" y="203040"/>
            <a:chExt cx="9180720" cy="648000"/>
          </a:xfrm>
        </p:grpSpPr>
        <p:grpSp>
          <p:nvGrpSpPr>
            <p:cNvPr id="8" name=""/>
            <p:cNvGrpSpPr/>
            <p:nvPr/>
          </p:nvGrpSpPr>
          <p:grpSpPr>
            <a:xfrm>
              <a:off x="-19080" y="203040"/>
              <a:ext cx="9161640" cy="648000"/>
              <a:chOff x="-19080" y="203040"/>
              <a:chExt cx="9161640" cy="648000"/>
            </a:xfrm>
          </p:grpSpPr>
          <p:pic>
            <p:nvPicPr>
              <p:cNvPr id="9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3240" y="203040"/>
                <a:ext cx="913932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20000">
                <a:off x="-18720" y="479160"/>
                <a:ext cx="144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"/>
            <p:cNvGrpSpPr/>
            <p:nvPr/>
          </p:nvGrpSpPr>
          <p:grpSpPr>
            <a:xfrm>
              <a:off x="-19080" y="247680"/>
              <a:ext cx="9180720" cy="561960"/>
              <a:chOff x="-19080" y="247680"/>
              <a:chExt cx="9180720" cy="561960"/>
            </a:xfrm>
          </p:grpSpPr>
          <p:pic>
            <p:nvPicPr>
              <p:cNvPr id="1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7680"/>
                <a:ext cx="9164880" cy="561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20000">
                <a:off x="-18720" y="523440"/>
                <a:ext cx="1440" cy="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" name=""/>
          <p:cNvSpPr/>
          <p:nvPr/>
        </p:nvSpPr>
        <p:spPr>
          <a:xfrm>
            <a:off x="279360" y="6492960"/>
            <a:ext cx="861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444d26"/>
                </a:solidFill>
                <a:latin typeface="Arial"/>
                <a:ea typeface="Arial"/>
              </a:rPr>
              <a:t>TEMA 1. Estructura interna y propiedade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 flipV="1" rot="420000">
            <a:off x="3164040" y="1107000"/>
            <a:ext cx="5257800" cy="4114800"/>
          </a:xfrm>
          <a:prstGeom prst="pie">
            <a:avLst/>
          </a:prstGeom>
          <a:solidFill>
            <a:srgbClr val="ffffff"/>
          </a:solidFill>
          <a:ln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 rot="420000">
            <a:off x="8002080" y="5358960"/>
            <a:ext cx="15588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-9000" y="5814000"/>
            <a:ext cx="9162720" cy="1041480"/>
          </a:xfrm>
          <a:prstGeom prst="pie">
            <a:avLst/>
          </a:prstGeom>
          <a:gradFill rotWithShape="0">
            <a:gsLst>
              <a:gs pos="0">
                <a:srgbClr val="ffc400"/>
              </a:gs>
              <a:gs pos="100000">
                <a:srgbClr val="bf782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4381560" y="6217560"/>
            <a:ext cx="4762440" cy="638280"/>
          </a:xfrm>
          <a:prstGeom prst="pie">
            <a:avLst/>
          </a:prstGeom>
          <a:gradFill rotWithShape="0">
            <a:gsLst>
              <a:gs pos="0">
                <a:srgbClr val="f4921f"/>
              </a:gs>
              <a:gs pos="100000">
                <a:srgbClr val="bf9506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8160" cy="15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444d2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3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s-ES" sz="1200" spc="-1" strike="noStrike">
                <a:solidFill>
                  <a:srgbClr val="404924"/>
                </a:solidFill>
                <a:latin typeface="Constantia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s-ES" sz="1200" spc="-1" strike="noStrike">
                <a:solidFill>
                  <a:srgbClr val="404924"/>
                </a:solidFill>
                <a:latin typeface="Constantia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4"/>
          </p:nvPr>
        </p:nvSpPr>
        <p:spPr>
          <a:xfrm>
            <a:off x="8076960" y="6356160"/>
            <a:ext cx="60804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ES" sz="1200" spc="-1" strike="noStrike">
                <a:solidFill>
                  <a:srgbClr val="404924"/>
                </a:solidFill>
                <a:latin typeface="Constanti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593AFD6-600C-410C-84FA-FB6D7D02B06B}" type="slidenum">
              <a:rPr b="0" lang="es-ES" sz="1200" spc="-1" strike="noStrike">
                <a:solidFill>
                  <a:srgbClr val="404924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19040" y="371520"/>
            <a:ext cx="8313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3366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rcRect l="33342" t="16329" r="27525" b="-7422"/>
          <a:stretch/>
        </p:blipFill>
        <p:spPr>
          <a:xfrm>
            <a:off x="4381560" y="6456240"/>
            <a:ext cx="4762440" cy="1605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4181400" y="43862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319640" y="6473880"/>
            <a:ext cx="4797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336699"/>
                </a:solidFill>
                <a:latin typeface="Trebuchet MS"/>
                <a:ea typeface="MS Gothic"/>
              </a:rPr>
              <a:t>Diagramas de Equilib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371520" cy="68580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4"/>
          <a:stretch/>
        </p:blipFill>
        <p:spPr>
          <a:xfrm>
            <a:off x="353880" y="0"/>
            <a:ext cx="2076480" cy="64944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419040" y="596880"/>
            <a:ext cx="8612280" cy="1440"/>
          </a:xfrm>
          <a:prstGeom prst="line">
            <a:avLst/>
          </a:prstGeom>
          <a:ln w="1908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5"/>
          <a:stretch/>
        </p:blipFill>
        <p:spPr>
          <a:xfrm>
            <a:off x="8058240" y="0"/>
            <a:ext cx="950760" cy="566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5.png"/><Relationship Id="rId8" Type="http://schemas.openxmlformats.org/officeDocument/2006/relationships/hyperlink" Target="http://commons.wikimedia.org/wiki/File:Formation_phases_acier_refroidissement_lent.svg" TargetMode="External"/><Relationship Id="rId9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4000" spc="-1" strike="noStrike">
                <a:solidFill>
                  <a:srgbClr val="336699"/>
                </a:solidFill>
                <a:latin typeface="Arial"/>
              </a:rPr>
              <a:t>Materiales:</a:t>
            </a:r>
            <a:br>
              <a:rPr sz="4000"/>
            </a:br>
            <a:r>
              <a:rPr b="1" lang="es-ES" sz="4000" spc="-1" strike="noStrike">
                <a:solidFill>
                  <a:srgbClr val="336699"/>
                </a:solidFill>
                <a:latin typeface="Arial"/>
              </a:rPr>
              <a:t>Diagramas de Equilibrio</a:t>
            </a: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395280" y="1341360"/>
            <a:ext cx="4176720" cy="1371600"/>
          </a:xfrm>
          <a:prstGeom prst="rect">
            <a:avLst/>
          </a:prstGeom>
          <a:solidFill>
            <a:srgbClr val="cdca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1640"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1.Diagramas de Equilibri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2. Regla de las Fases - Gibb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3. Regla de la Palanc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4. Tipos diagrama de equilibri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5. Diagrama Fe-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1640">
              <a:lnSpc>
                <a:spcPct val="100000"/>
              </a:lnSpc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5.1. Constituyentes de los acero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6. Problemas resuelto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003640" y="1341360"/>
            <a:ext cx="36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Observamos la evolución de las posibles fase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58840">
              <a:lnSpc>
                <a:spcPct val="100000"/>
              </a:lnSpc>
              <a:buSzPct val="102950"/>
              <a:buBlip>
                <a:blip r:embed="rId1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líqui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58840">
              <a:lnSpc>
                <a:spcPct val="100000"/>
              </a:lnSpc>
              <a:buSzPct val="102950"/>
              <a:buBlip>
                <a:blip r:embed="rId2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Sóli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58840">
              <a:lnSpc>
                <a:spcPct val="100000"/>
              </a:lnSpc>
              <a:buSzPct val="102950"/>
              <a:buBlip>
                <a:blip r:embed="rId3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Liquido + sóli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5483160" y="2700360"/>
            <a:ext cx="2535480" cy="2793240"/>
            <a:chOff x="5483160" y="2700360"/>
            <a:chExt cx="2535480" cy="2793240"/>
          </a:xfrm>
        </p:grpSpPr>
        <p:grpSp>
          <p:nvGrpSpPr>
            <p:cNvPr id="145" name=""/>
            <p:cNvGrpSpPr/>
            <p:nvPr/>
          </p:nvGrpSpPr>
          <p:grpSpPr>
            <a:xfrm>
              <a:off x="5483160" y="5262480"/>
              <a:ext cx="2535480" cy="231120"/>
              <a:chOff x="5483160" y="5262480"/>
              <a:chExt cx="2535480" cy="231120"/>
            </a:xfrm>
          </p:grpSpPr>
          <p:sp>
            <p:nvSpPr>
              <p:cNvPr id="146" name=""/>
              <p:cNvSpPr/>
              <p:nvPr/>
            </p:nvSpPr>
            <p:spPr>
              <a:xfrm>
                <a:off x="5483160" y="5262480"/>
                <a:ext cx="253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0" lang="es-ES" sz="9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Imagen 1. Imagen propia  Creative Commons.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7" name=""/>
            <p:cNvSpPr/>
            <p:nvPr/>
          </p:nvSpPr>
          <p:spPr>
            <a:xfrm>
              <a:off x="5875560" y="2700360"/>
              <a:ext cx="1648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CUARZO, sólido cristalin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468360" y="4724280"/>
            <a:ext cx="41767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625320" indent="-258480">
              <a:lnSpc>
                <a:spcPct val="100000"/>
              </a:lnSpc>
              <a:tabLst>
                <a:tab algn="l" pos="0"/>
                <a:tab algn="l" pos="625320"/>
                <a:tab algn="l" pos="1539720"/>
                <a:tab algn="l" pos="2454120"/>
                <a:tab algn="l" pos="3368520"/>
                <a:tab algn="l" pos="4282920"/>
                <a:tab algn="l" pos="5197320"/>
                <a:tab algn="l" pos="6111720"/>
                <a:tab algn="l" pos="7026120"/>
                <a:tab algn="l" pos="7940520"/>
                <a:tab algn="l" pos="8854920"/>
                <a:tab algn="l" pos="9769320"/>
                <a:tab algn="l" pos="1068372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Diagramas de equilibrio, diagrama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58480">
              <a:lnSpc>
                <a:spcPct val="100000"/>
              </a:lnSpc>
              <a:tabLst>
                <a:tab algn="l" pos="0"/>
                <a:tab algn="l" pos="625320"/>
                <a:tab algn="l" pos="1539720"/>
                <a:tab algn="l" pos="2454120"/>
                <a:tab algn="l" pos="3368520"/>
                <a:tab algn="l" pos="4282920"/>
                <a:tab algn="l" pos="5197320"/>
                <a:tab algn="l" pos="6111720"/>
                <a:tab algn="l" pos="7026120"/>
                <a:tab algn="l" pos="7940520"/>
                <a:tab algn="l" pos="8854920"/>
                <a:tab algn="l" pos="9769320"/>
                <a:tab algn="l" pos="1068372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Son la representación gráfica del estado de una alea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58480">
              <a:lnSpc>
                <a:spcPct val="100000"/>
              </a:lnSpc>
              <a:tabLst>
                <a:tab algn="l" pos="0"/>
                <a:tab algn="l" pos="625320"/>
                <a:tab algn="l" pos="1539720"/>
                <a:tab algn="l" pos="2454120"/>
                <a:tab algn="l" pos="3368520"/>
                <a:tab algn="l" pos="4282920"/>
                <a:tab algn="l" pos="5197320"/>
                <a:tab algn="l" pos="6111720"/>
                <a:tab algn="l" pos="7026120"/>
                <a:tab algn="l" pos="7940520"/>
                <a:tab algn="l" pos="8854920"/>
                <a:tab algn="l" pos="9769320"/>
                <a:tab algn="l" pos="1068372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SzPct val="102950"/>
              <a:buBlip>
                <a:blip r:embed="rId4"/>
              </a:buBlip>
              <a:tabLst>
                <a:tab algn="l" pos="625320"/>
                <a:tab algn="l" pos="1539720"/>
                <a:tab algn="l" pos="2454120"/>
                <a:tab algn="l" pos="3368520"/>
                <a:tab algn="l" pos="4282920"/>
                <a:tab algn="l" pos="5197320"/>
                <a:tab algn="l" pos="6111720"/>
                <a:tab algn="l" pos="7026120"/>
                <a:tab algn="l" pos="7940520"/>
                <a:tab algn="l" pos="8854920"/>
                <a:tab algn="l" pos="9769320"/>
                <a:tab algn="l" pos="1068372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Temperatur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SzPct val="102950"/>
              <a:buBlip>
                <a:blip r:embed="rId5"/>
              </a:buBlip>
              <a:tabLst>
                <a:tab algn="l" pos="625320"/>
                <a:tab algn="l" pos="1539720"/>
                <a:tab algn="l" pos="2454120"/>
                <a:tab algn="l" pos="3368520"/>
                <a:tab algn="l" pos="4282920"/>
                <a:tab algn="l" pos="5197320"/>
                <a:tab algn="l" pos="6111720"/>
                <a:tab algn="l" pos="7026120"/>
                <a:tab algn="l" pos="7940520"/>
                <a:tab algn="l" pos="8854920"/>
                <a:tab algn="l" pos="9769320"/>
                <a:tab algn="l" pos="1068372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Porcentaje componen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5219640" y="2647800"/>
            <a:ext cx="2962440" cy="2571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 fill="hold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dur="indefinite" fill="hold">
                      <p:stCondLst>
                        <p:cond delay="indefinite"/>
                      </p:stCondLst>
                      <p:childTnLst>
                        <p:par>
                          <p:cTn id="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 fill="hold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dur="indefinite" fill="hold">
                      <p:stCondLst>
                        <p:cond delay="indefinite"/>
                      </p:stCondLst>
                      <p:childTnLst>
                        <p:par>
                          <p:cTn id="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dur="indefinite" fill="hold">
                      <p:stCondLst>
                        <p:cond delay="indefinite"/>
                      </p:stCondLst>
                      <p:childTnLst>
                        <p:par>
                          <p:cTn id="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" dur="500" fill="hold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395280" y="981000"/>
            <a:ext cx="49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Regla de las Fases - Gib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20720" y="1619280"/>
            <a:ext cx="792000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El número de variables (temperatura, presión, concentración, ...) , que en un sistema material podemos modificar libremente se llama GRADOS DE LIBERTA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La regla de las fases de Gibbs define la siguiente ecuación, que permite calcular las fases, grados libertad o componentes de un sistema, para que coexista equilibrio en nuestro sistema material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3240000" y="4002120"/>
          <a:ext cx="2698920" cy="508680"/>
        </p:xfrm>
        <a:graphic>
          <a:graphicData uri="http://schemas.openxmlformats.org/drawingml/2006/table">
            <a:tbl>
              <a:tblPr/>
              <a:tblGrid>
                <a:gridCol w="2698920"/>
              </a:tblGrid>
              <a:tr h="515520">
                <a:tc>
                  <a:txBody>
                    <a:bodyPr lIns="90000" rIns="90000" tIns="716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+P = C + 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d320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dur="indefinite" fill="hold">
                      <p:stCondLst>
                        <p:cond delay="indefinite"/>
                      </p:stCondLst>
                      <p:childTnLst>
                        <p:par>
                          <p:cTn id="2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" dur="1000" fill="hold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dur="indefinite" fill="hold">
                      <p:stCondLst>
                        <p:cond delay="indefinite"/>
                      </p:stCondLst>
                      <p:childTnLst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500" fill="hold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dur="indefinite" fill="hold">
                      <p:stCondLst>
                        <p:cond delay="indefinite"/>
                      </p:stCondLst>
                      <p:childTnLst>
                        <p:par>
                          <p:cTn id="3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395280" y="981000"/>
            <a:ext cx="49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2. Regla de la Palan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1280" y="1413000"/>
            <a:ext cx="7993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Es el método empleado para conocer el porcentaje de fase sólida y líquida presentes en una aleación de una cierta concentració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2700360" y="1979640"/>
            <a:ext cx="4482720" cy="2670120"/>
            <a:chOff x="2700360" y="1979640"/>
            <a:chExt cx="4482720" cy="2670120"/>
          </a:xfrm>
        </p:grpSpPr>
        <p:sp>
          <p:nvSpPr>
            <p:cNvPr id="156" name=""/>
            <p:cNvSpPr/>
            <p:nvPr/>
          </p:nvSpPr>
          <p:spPr>
            <a:xfrm>
              <a:off x="5467680" y="4417920"/>
              <a:ext cx="17154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Imagen 2. Elaboración propia.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7" name="" descr=""/>
            <p:cNvPicPr/>
            <p:nvPr/>
          </p:nvPicPr>
          <p:blipFill>
            <a:blip r:embed="rId1"/>
            <a:stretch/>
          </p:blipFill>
          <p:spPr>
            <a:xfrm>
              <a:off x="2700360" y="1979640"/>
              <a:ext cx="3294000" cy="26701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3530520" y="4807080"/>
            <a:ext cx="2409840" cy="11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dur="indefinite" fill="hold">
                      <p:stCondLst>
                        <p:cond delay="indefinite"/>
                      </p:stCondLst>
                      <p:childTnLst>
                        <p:par>
                          <p:cTn id="4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" dur="1000" fill="hold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dur="indefinite" fill="hold">
                      <p:stCondLst>
                        <p:cond delay="indefinite"/>
                      </p:stCondLst>
                      <p:childTnLst>
                        <p:par>
                          <p:cTn id="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 fill="hold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dur="indefinite" fill="hold">
                      <p:stCondLst>
                        <p:cond delay="indefinite"/>
                      </p:stCondLst>
                      <p:childTnLst>
                        <p:par>
                          <p:cTn id="5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395280" y="981000"/>
            <a:ext cx="49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3. Tipos de d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iagramas de equilibr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11280" y="1413000"/>
            <a:ext cx="7993080" cy="18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Las aleaciones presentan diagramas de equilibrio con distintos aspectos, dependiendo de la solubilidad en estado líquido y sólido de sus componentes. Desde este punto de vista vamos a conocer tres tipos de diagrama de equilibri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360360">
              <a:buClr>
                <a:srgbClr val="000000"/>
              </a:buClr>
              <a:buSzPct val="45000"/>
              <a:buFont typeface="Wingdings" charset="2"/>
              <a:buChar char="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s-ES" sz="11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i="1" lang="es-ES" sz="1100" spc="-1" strike="noStrike">
                <a:solidFill>
                  <a:srgbClr val="000000"/>
                </a:solidFill>
                <a:latin typeface="Arial"/>
                <a:ea typeface="Arial"/>
              </a:rPr>
              <a:t>TIPO 1: Componentes totalmente solubles en los estados líquido y  sólid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360360">
              <a:buClr>
                <a:srgbClr val="000000"/>
              </a:buClr>
              <a:buSzPct val="45000"/>
              <a:buFont typeface="Wingdings" charset="2"/>
              <a:buChar char="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s-ES" sz="11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i="1" lang="es-ES" sz="1100" spc="-1" strike="noStrike">
                <a:solidFill>
                  <a:srgbClr val="000000"/>
                </a:solidFill>
                <a:latin typeface="Arial"/>
                <a:ea typeface="Arial"/>
              </a:rPr>
              <a:t>TIPO 2: Componentes totalmante soluble en estado líquido e insoluble en estado sólid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360360">
              <a:buClr>
                <a:srgbClr val="000000"/>
              </a:buClr>
              <a:buSzPct val="45000"/>
              <a:buFont typeface="Wingdings" charset="2"/>
              <a:buChar char="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s-ES" sz="11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i="1" lang="es-ES" sz="1100" spc="-1" strike="noStrike">
                <a:solidFill>
                  <a:srgbClr val="000000"/>
                </a:solidFill>
                <a:latin typeface="Arial"/>
                <a:ea typeface="Arial"/>
              </a:rPr>
              <a:t>TIPO 3: Componentes totalmente solubles en estado líquido y parcialmente soluble en estado sólid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720720" y="3657600"/>
            <a:ext cx="2592360" cy="2463120"/>
            <a:chOff x="720720" y="3657600"/>
            <a:chExt cx="2592360" cy="2463120"/>
          </a:xfrm>
        </p:grpSpPr>
        <p:sp>
          <p:nvSpPr>
            <p:cNvPr id="162" name=""/>
            <p:cNvSpPr/>
            <p:nvPr/>
          </p:nvSpPr>
          <p:spPr>
            <a:xfrm>
              <a:off x="1240200" y="5889600"/>
              <a:ext cx="17154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Imagen 3. Elaboración propia.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3" name="" descr=""/>
            <p:cNvPicPr/>
            <p:nvPr/>
          </p:nvPicPr>
          <p:blipFill>
            <a:blip r:embed="rId1"/>
            <a:stretch/>
          </p:blipFill>
          <p:spPr>
            <a:xfrm>
              <a:off x="720720" y="3657600"/>
              <a:ext cx="2592360" cy="2251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3419640" y="3959280"/>
            <a:ext cx="2339640" cy="18000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5973840" y="3887640"/>
            <a:ext cx="2846160" cy="187164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3895560" y="5892840"/>
            <a:ext cx="1684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Imagen 4. Elaboración propi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659640" y="5759280"/>
            <a:ext cx="1684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  <a:ea typeface="Arial"/>
              </a:rPr>
              <a:t>Imagen 5. Elaboración propi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dur="indefinite" fill="hold">
                      <p:stCondLst>
                        <p:cond delay="indefinite"/>
                      </p:stCondLst>
                      <p:childTnLst>
                        <p:par>
                          <p:cTn id="6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" dur="1000" fill="hold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dur="indefinite" fill="hold">
                      <p:stCondLst>
                        <p:cond delay="indefinite"/>
                      </p:stCondLst>
                      <p:childTnLst>
                        <p:par>
                          <p:cTn id="6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500" fill="hold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dur="indefinite" fill="hold">
                      <p:stCondLst>
                        <p:cond delay="indefinite"/>
                      </p:stCondLst>
                      <p:childTnLst>
                        <p:par>
                          <p:cTn id="7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250920" y="3022560"/>
            <a:ext cx="3097080" cy="28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El diagrama Fe-C nos indica cuáles son los constituyentes de esta aleación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06400" indent="-274680">
              <a:lnSpc>
                <a:spcPct val="100000"/>
              </a:lnSpc>
              <a:buSzPct val="102950"/>
              <a:buBlip>
                <a:blip r:embed="rId1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Austeni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06400" indent="-274680">
              <a:lnSpc>
                <a:spcPct val="100000"/>
              </a:lnSpc>
              <a:buSzPct val="102950"/>
              <a:buBlip>
                <a:blip r:embed="rId2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Martensit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06400" indent="-274680">
              <a:lnSpc>
                <a:spcPct val="100000"/>
              </a:lnSpc>
              <a:buSzPct val="102950"/>
              <a:buBlip>
                <a:blip r:embed="rId3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Ferrit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06400" indent="-274680">
              <a:lnSpc>
                <a:spcPct val="100000"/>
              </a:lnSpc>
              <a:buSzPct val="102950"/>
              <a:buBlip>
                <a:blip r:embed="rId4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Cementi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06400" indent="-274680">
              <a:lnSpc>
                <a:spcPct val="100000"/>
              </a:lnSpc>
              <a:buSzPct val="102950"/>
              <a:buBlip>
                <a:blip r:embed="rId5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Perli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que tendrán diferentes aplicaciones dependiendo de sus propiedad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50920" y="901800"/>
            <a:ext cx="38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1800" spc="-1" strike="noStrike">
                <a:solidFill>
                  <a:srgbClr val="605454"/>
                </a:solidFill>
                <a:latin typeface="Arial"/>
                <a:ea typeface="Arial"/>
              </a:rPr>
              <a:t>5.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Diagrama Fe-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50920" y="1700280"/>
            <a:ext cx="3025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La aleación hierro – carbono es la más empleada en la industria actua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3564000" y="981000"/>
            <a:ext cx="5246640" cy="5200200"/>
            <a:chOff x="3564000" y="981000"/>
            <a:chExt cx="5246640" cy="5200200"/>
          </a:xfrm>
        </p:grpSpPr>
        <p:graphicFrame>
          <p:nvGraphicFramePr>
            <p:cNvPr id="172" name=""/>
            <p:cNvGraphicFramePr/>
            <p:nvPr/>
          </p:nvGraphicFramePr>
          <p:xfrm>
            <a:off x="3564000" y="981000"/>
            <a:ext cx="5246640" cy="489600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3564000" y="981000"/>
                      <a:ext cx="5246640" cy="4896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74" name=""/>
            <p:cNvSpPr/>
            <p:nvPr/>
          </p:nvSpPr>
          <p:spPr>
            <a:xfrm>
              <a:off x="5145480" y="5950080"/>
              <a:ext cx="23310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Imagen 9. </a:t>
              </a:r>
              <a:r>
                <a:rPr b="0" lang="es-ES" sz="900" spc="-1" strike="noStrike" u="sng">
                  <a:solidFill>
                    <a:srgbClr val="ccccff"/>
                  </a:solidFill>
                  <a:uFillTx/>
                  <a:latin typeface="Arial"/>
                  <a:ea typeface="Arial"/>
                  <a:hlinkClick r:id="rId8"/>
                </a:rPr>
                <a:t>Wikimedia</a:t>
              </a:r>
              <a:r>
                <a:rPr b="0" lang="es-E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. Creative Commons.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dur="indefinite" fill="hold">
                      <p:stCondLst>
                        <p:cond delay="indefinite"/>
                      </p:stCondLst>
                      <p:childTnLst>
                        <p:par>
                          <p:cTn id="8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4" dur="1000" fill="hold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dur="indefinite" fill="hold">
                      <p:stCondLst>
                        <p:cond delay="indefinite"/>
                      </p:stCondLst>
                      <p:childTnLst>
                        <p:par>
                          <p:cTn id="8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dur="indefinite" fill="hold">
                      <p:stCondLst>
                        <p:cond delay="indefinite"/>
                      </p:stCondLst>
                      <p:childTnLst>
                        <p:par>
                          <p:cTn id="9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500" fill="hold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dur="indefinite" fill="hold">
                      <p:stCondLst>
                        <p:cond delay="indefinite"/>
                      </p:stCondLst>
                      <p:childTnLst>
                        <p:par>
                          <p:cTn id="9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22:11:28Z</dcterms:created>
  <dc:creator>Isabel</dc:creator>
  <dc:description/>
  <dc:language>en-US</dc:language>
  <cp:lastModifiedBy>domus</cp:lastModifiedBy>
  <dcterms:modified xsi:type="dcterms:W3CDTF">2010-07-26T06:24:01Z</dcterms:modified>
  <cp:revision>148</cp:revision>
  <dc:subject/>
  <dc:title>Diapositiva 1</dc:title>
</cp:coreProperties>
</file>