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5F70B-3A7C-42F7-897A-B2BC37AE01D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E34E2-61E1-453F-AB64-FFAE6721B21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8F7B9-57C9-4F21-9A1D-A7AB34A7B85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6107-0BEB-4158-A114-B843BA42D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0DFC-B779-40B0-B594-E92A7F987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5278-ADC5-4B37-A7DB-02D4D5151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A251-11D5-4298-8810-70D149548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6FBB-DDD5-4B40-98D1-6BDA3C73C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9D7B-6668-42B3-948F-6C435D12F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BBD8-C496-4CF9-A1BC-09A1839E0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E41F-F247-4F51-8AD8-42FC5F8AB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0ACC-A4D7-442A-B972-707825FDB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9626-E677-4C6D-9358-A04972F20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0EB7-7B9E-42FF-BE1B-BB9675549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458D-F8F8-4233-B24A-F40699F8B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55DE0-8D20-4B40-9111-9F7EFF4C69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Nos comunicamos con las pala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809640"/>
            <a:ext cx="8315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Comunicación y lenguaje (I):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Nos comunicamos con las palab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981000"/>
            <a:ext cx="81136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Palabr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Unidad mínima libre de comun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Permi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Expresar enunciados complej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Diferenciar la comunicación humana de la que usan los animales y máqui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reconocen por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Van separadas por espacios en blanco en la lengua escr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establece una pausa al pronunciarlas en la lengua habl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125360"/>
            <a:ext cx="75726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Constituyentes de la palabra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2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2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onema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: unidades con significad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) Lexem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b) Morfem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Pref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Suf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Interf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Fonema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: unidades sin significad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197000"/>
            <a:ext cx="81439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Procedimientos para formar palabras en españ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) Composición: unión de dos o más lexem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Abrela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Sacacor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b) Derivación: lexema + morfemas derivativos (prefijos o sufij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Desconcert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Infeli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) Parasíntesis: composición + derivació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Radiotelegrafis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Sietemesi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981000"/>
            <a:ext cx="814392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tros procedimientos de ampliación del léxi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- Sigla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ESO (Enseñanza Secundaria Obligatori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RAE (Real Academia Español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- Acrónimo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Banesto (Banco Español de Crédit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RENFE (Red Nacional de Ferrocarriles Español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- Acortamiento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B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Prof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- Préstamo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Boutiq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Pu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714760" y="4357800"/>
          <a:ext cx="6095880" cy="2232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71108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c54d"/>
                    </a:solidFill>
                  </a:tcPr>
                </a:tc>
              </a:tr>
              <a:tr h="5209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ción propia. Cedido los derechos a la Consejería de Educación de la Junta de Extremad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5c54d"/>
                    </a:solidFill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57720" y="4500720"/>
            <a:ext cx="4643280" cy="150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sis XXI</dc:creator>
  <dc:description/>
  <dc:language>en-US</dc:language>
  <cp:lastModifiedBy>USUARIO</cp:lastModifiedBy>
  <dcterms:modified xsi:type="dcterms:W3CDTF">2010-09-22T10:54:27Z</dcterms:modified>
  <cp:revision>16</cp:revision>
  <dc:subject/>
  <dc:title>Tema 1. La actividad económica</dc:title>
</cp:coreProperties>
</file>