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5.gif" ContentType="image/gif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6A8DA3-077F-413B-9A11-48C7C688D80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D8EB6D-133A-4D13-844B-8133AD8F6ED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E4BF12-E83A-4BD2-B69B-38D52AD3F21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0D91D3-F629-4AB4-9D7B-73667518D9A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29B79D-C4B1-4466-BA7C-539281E91E6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5929200" y="6572160"/>
            <a:ext cx="321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Sistemas diná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commons.wikimedia.org/wiki/File:Muybridge_race_horse_animated.gi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Dinámica: Sistemas dinámico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1"/>
          <p:cNvSpPr/>
          <p:nvPr/>
        </p:nvSpPr>
        <p:spPr>
          <a:xfrm>
            <a:off x="4429080" y="121428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tema se centra en el estudio de los sistemas dinámicos, que se definen como aquellos sistemas físicos que evolucionan en el tiemp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lantean distintos sistemas sencillos de los que se deducen sus ecuaciones de movimiento, que se han introducido en temas anteriores. Entre ellos destacan dos grupo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un único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cuerpos enla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movimiento_circular_Newton"/>
          <p:cNvPicPr/>
          <p:nvPr/>
        </p:nvPicPr>
        <p:blipFill>
          <a:blip r:embed="rId1"/>
          <a:stretch/>
        </p:blipFill>
        <p:spPr>
          <a:xfrm>
            <a:off x="428760" y="1214280"/>
            <a:ext cx="3301920" cy="2202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9"/>
          <p:cNvSpPr/>
          <p:nvPr/>
        </p:nvSpPr>
        <p:spPr>
          <a:xfrm>
            <a:off x="357120" y="442908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primer lugar, se introducen las pautas generales a la hora de tratar un problema de este t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las fuer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bujar un diagrama de fuer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oger un sistema de referencia adecu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omponer todas las fuerzas en sus compo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r la segunda ley de Newton en cada uno de los e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214200" y="3571920"/>
            <a:ext cx="39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1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ballo de Muybridge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ominio Públi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380880" y="838080"/>
            <a:ext cx="814392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las fuerzas que aparecen continuamente en la vida real es la fuerza de rozamiento, que siempre se opone al movimiento y cuyo v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µ·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µ es el coeficiente de rozamiento y N es la normal ejercida por la superfi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 dos tipos de coeficiente de roz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eficiente de rozamiento estático (µ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eficiente de rozamiento dinámico (µ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umple siempre que µ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µ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57120" y="42861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so más simple es el del plano horizontal con rozamiento, cuyas ecuacion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5 Imagen" descr="Cuerpo_Horizontal_rozamiento_descompuesto.jpg"/>
          <p:cNvPicPr/>
          <p:nvPr/>
        </p:nvPicPr>
        <p:blipFill>
          <a:blip r:embed="rId1"/>
          <a:stretch/>
        </p:blipFill>
        <p:spPr>
          <a:xfrm>
            <a:off x="1143000" y="5072040"/>
            <a:ext cx="2682720" cy="1341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571680" y="642924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eXe_LaTeX_math_1"/>
          <p:cNvPicPr/>
          <p:nvPr/>
        </p:nvPicPr>
        <p:blipFill>
          <a:blip r:embed="rId2"/>
          <a:stretch/>
        </p:blipFill>
        <p:spPr>
          <a:xfrm>
            <a:off x="4572000" y="5334120"/>
            <a:ext cx="26668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1"/>
          <p:cNvSpPr/>
          <p:nvPr/>
        </p:nvSpPr>
        <p:spPr>
          <a:xfrm>
            <a:off x="285840" y="9288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tiene interés particular el tratamiento de problemas de planos inclinados, cuyas ecuaciones resultan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Plano_Inclinado_rozamiento_descompuesto2.jpg"/>
          <p:cNvPicPr/>
          <p:nvPr/>
        </p:nvPicPr>
        <p:blipFill>
          <a:blip r:embed="rId1"/>
          <a:stretch/>
        </p:blipFill>
        <p:spPr>
          <a:xfrm>
            <a:off x="500040" y="1714680"/>
            <a:ext cx="3143160" cy="1571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1"/>
          <p:cNvSpPr/>
          <p:nvPr/>
        </p:nvSpPr>
        <p:spPr>
          <a:xfrm>
            <a:off x="357120" y="3357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n el caso particular que no actúe ninguna fuerza exterior podemos encontrar expresiones sencillas para algunas características del movi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Rectángulo"/>
          <p:cNvSpPr/>
          <p:nvPr/>
        </p:nvSpPr>
        <p:spPr>
          <a:xfrm>
            <a:off x="500040" y="4000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leración de un cuerpo en ausencia de rozamie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9 Rectángulo"/>
          <p:cNvSpPr/>
          <p:nvPr/>
        </p:nvSpPr>
        <p:spPr>
          <a:xfrm>
            <a:off x="533520" y="48769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leración de un cuerpo con rozamie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 Rectángulo"/>
          <p:cNvSpPr/>
          <p:nvPr/>
        </p:nvSpPr>
        <p:spPr>
          <a:xfrm>
            <a:off x="500040" y="557208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lor mínimo del coeficiente de rozamiento para que un cuerpo no deslice por el pla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127.0.0.1:51235/previews/eXe_LaTeX_math_4.gif"/>
          <p:cNvPicPr/>
          <p:nvPr/>
        </p:nvPicPr>
        <p:blipFill>
          <a:blip r:embed="rId2"/>
          <a:stretch/>
        </p:blipFill>
        <p:spPr>
          <a:xfrm>
            <a:off x="5562720" y="5791320"/>
            <a:ext cx="128592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0"/>
          <p:cNvSpPr/>
          <p:nvPr/>
        </p:nvSpPr>
        <p:spPr>
          <a:xfrm>
            <a:off x="0" y="300024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eXe_LaTeX_math_3"/>
          <p:cNvPicPr/>
          <p:nvPr/>
        </p:nvPicPr>
        <p:blipFill>
          <a:blip r:embed="rId3"/>
          <a:stretch/>
        </p:blipFill>
        <p:spPr>
          <a:xfrm>
            <a:off x="4343400" y="2133720"/>
            <a:ext cx="312408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eXe_LaTeX_math_2"/>
          <p:cNvPicPr/>
          <p:nvPr/>
        </p:nvPicPr>
        <p:blipFill>
          <a:blip r:embed="rId4"/>
          <a:stretch/>
        </p:blipFill>
        <p:spPr>
          <a:xfrm>
            <a:off x="5486400" y="4267080"/>
            <a:ext cx="1523880" cy="18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eXe_LaTeX_math_5"/>
          <p:cNvPicPr/>
          <p:nvPr/>
        </p:nvPicPr>
        <p:blipFill>
          <a:blip r:embed="rId5"/>
          <a:stretch/>
        </p:blipFill>
        <p:spPr>
          <a:xfrm>
            <a:off x="5486400" y="4876920"/>
            <a:ext cx="2743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1"/>
          <p:cNvSpPr/>
          <p:nvPr/>
        </p:nvSpPr>
        <p:spPr>
          <a:xfrm>
            <a:off x="285840" y="928800"/>
            <a:ext cx="8358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tratamiento de cuerpos enlazados se introduce el concepto de tensión (T) de una cuerda o cable, que en el caso de no tener masa, ser inextensible e irrompible se deduce que aquellos cuerpos que están enlaz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mueven con la misma velocidad y aceler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ensiones en los extremos de la cuerda son iguales y de sentido contr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3857760" y="2786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dos cuerpos enlazados en movimiento horizontal, las ecuacion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 Imagen" descr="Dos_Cuerpos_Horizontal_ok2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127.0.0.1:51235/fq1_u2_t7_contenidos/resources/eXe_LaTeX_math_3.gif"/>
          <p:cNvPicPr/>
          <p:nvPr/>
        </p:nvPicPr>
        <p:blipFill>
          <a:blip r:embed="rId2"/>
          <a:stretch/>
        </p:blipFill>
        <p:spPr>
          <a:xfrm>
            <a:off x="3929040" y="3500280"/>
            <a:ext cx="1895400" cy="57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127.0.0.1:51235/fq1_u2_t7_contenidos/resources/eXe_LaTeX_math_6.gif"/>
          <p:cNvPicPr/>
          <p:nvPr/>
        </p:nvPicPr>
        <p:blipFill>
          <a:blip r:embed="rId3"/>
          <a:stretch/>
        </p:blipFill>
        <p:spPr>
          <a:xfrm>
            <a:off x="6357960" y="3500280"/>
            <a:ext cx="2054160" cy="500400"/>
          </a:xfrm>
          <a:prstGeom prst="rect">
            <a:avLst/>
          </a:prstGeom>
          <a:ln w="0">
            <a:noFill/>
          </a:ln>
        </p:spPr>
      </p:pic>
      <p:sp>
        <p:nvSpPr>
          <p:cNvPr id="78" name="8 Rectángulo"/>
          <p:cNvSpPr/>
          <p:nvPr/>
        </p:nvSpPr>
        <p:spPr>
          <a:xfrm>
            <a:off x="3929040" y="41432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uerpo 1 y 2 respec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285840" y="47149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so de dos cuerpos enlazados en movimiento vertical, se estudia la máquina de Atwood, para la que se obtienen los resultad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0 Imagen" descr="Maquina_Atwood.jpg"/>
          <p:cNvPicPr/>
          <p:nvPr/>
        </p:nvPicPr>
        <p:blipFill>
          <a:blip r:embed="rId4"/>
          <a:stretch/>
        </p:blipFill>
        <p:spPr>
          <a:xfrm>
            <a:off x="6215040" y="4643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127.0.0.1:51235/fq1_u2_t7_contenidos/resources/eXe_LaTeX_math_2.7.gif"/>
          <p:cNvPicPr/>
          <p:nvPr/>
        </p:nvPicPr>
        <p:blipFill>
          <a:blip r:embed="rId5"/>
          <a:stretch/>
        </p:blipFill>
        <p:spPr>
          <a:xfrm>
            <a:off x="928800" y="5857920"/>
            <a:ext cx="1625400" cy="50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http://127.0.0.1:51235/fq1_u2_t7_contenidos/resources/eXe_LaTeX_math_5.2.gif"/>
          <p:cNvPicPr/>
          <p:nvPr/>
        </p:nvPicPr>
        <p:blipFill>
          <a:blip r:embed="rId6"/>
          <a:stretch/>
        </p:blipFill>
        <p:spPr>
          <a:xfrm>
            <a:off x="3571920" y="5786280"/>
            <a:ext cx="1428840" cy="590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0"/>
          <p:cNvSpPr/>
          <p:nvPr/>
        </p:nvSpPr>
        <p:spPr>
          <a:xfrm>
            <a:off x="0" y="428616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0"/>
          <p:cNvSpPr/>
          <p:nvPr/>
        </p:nvSpPr>
        <p:spPr>
          <a:xfrm>
            <a:off x="5183280" y="642924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1"/>
          <p:cNvSpPr/>
          <p:nvPr/>
        </p:nvSpPr>
        <p:spPr>
          <a:xfrm>
            <a:off x="285840" y="928800"/>
            <a:ext cx="820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nalmente, en el caso del movimiento de dos cuerpos enlazados en un plano inclinado, las ecuaciones correspondientes a este sistema son, para el cuerpo en el pl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 Imagen" descr="Plano_Inclinado_dos_cuerpos.jpg"/>
          <p:cNvPicPr/>
          <p:nvPr/>
        </p:nvPicPr>
        <p:blipFill>
          <a:blip r:embed="rId1"/>
          <a:stretch/>
        </p:blipFill>
        <p:spPr>
          <a:xfrm>
            <a:off x="609480" y="1905120"/>
            <a:ext cx="351468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714240" y="3429000"/>
            <a:ext cx="39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Rectángulo"/>
          <p:cNvSpPr/>
          <p:nvPr/>
        </p:nvSpPr>
        <p:spPr>
          <a:xfrm>
            <a:off x="43434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entras que para el cuerpo colga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127.0.0.1:51235/fq1_u2_t7_contenidos/resources/eXe_LaTeX_math_2.6.gif"/>
          <p:cNvPicPr/>
          <p:nvPr/>
        </p:nvPicPr>
        <p:blipFill>
          <a:blip r:embed="rId2"/>
          <a:stretch/>
        </p:blipFill>
        <p:spPr>
          <a:xfrm>
            <a:off x="5181480" y="2895480"/>
            <a:ext cx="160812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eXe_LaTeX_math_1"/>
          <p:cNvPicPr/>
          <p:nvPr/>
        </p:nvPicPr>
        <p:blipFill>
          <a:blip r:embed="rId3"/>
          <a:stretch/>
        </p:blipFill>
        <p:spPr>
          <a:xfrm>
            <a:off x="5105520" y="1752480"/>
            <a:ext cx="25905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 </cp:lastModifiedBy>
  <dcterms:modified xsi:type="dcterms:W3CDTF">2011-02-16T10:47:46Z</dcterms:modified>
  <cp:revision>62</cp:revision>
  <dc:subject/>
  <dc:title>Tema 1. La actividad económica</dc:title>
</cp:coreProperties>
</file>