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61281F9-07AC-4EAB-AE2A-D005CD3A906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F0D6A3A-4A46-4FE0-BD63-F0B7CBC682DF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26E46C6-68C6-4A67-978C-842B703AD8F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7BA7D2A-2143-4CD4-8173-C4D5144A6D1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BF5445F-F105-499B-A095-F00DFBE811C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BED851E-1BA8-4121-AFC2-07DDA45F30E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80361A8-ACE4-42F6-9F8B-D80423E0757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69E8E6F-8E61-4960-88A0-7EB62AD29C10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FB6EF38-1011-4C30-882E-DD6643F4830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D013F39-32A1-4E5E-9A47-4FDAEEE059E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B4D274E-075F-4BD9-965A-ACDC147A97F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3DF0-3B6E-4F0B-8459-54AC9EFFE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01FB-B119-46D6-A8E8-D6906A96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AFCC-6818-4396-B690-7370F5A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0056-5A26-4789-9400-F3820FEF7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EC7F-1CB7-40C4-BA57-1A71C5D9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D53F-3CB7-47D9-A683-3699A20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9BC0-9D92-4C36-ABF0-4A0272FB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DB10-28E3-4684-A883-6C429CEB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1157-2E05-4F2F-830C-47838A54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B042-CF6A-4DB2-B20B-053CA23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F769-6465-4E8D-862F-D710859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2FC7-C3FA-4592-9233-FD50D0F8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50EBCF-1290-4447-87A7-68486FB0AE69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Aparición y evolución de la v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s.wikipedia.org/wiki/Deinotheriu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lickr.com/photos/ogil/2540634421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es.wikipedia.org/wiki/Archivo:Animal_diversity.png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es.wikipedia.org/wiki/Charles_Darwin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es.wikipedia.org/wiki/Selecci&#243;n_natural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Horseevolution.pn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Nuestro lugar en el Universo: Aparición y evolución de la vida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571760" y="2428920"/>
            <a:ext cx="6248160" cy="3895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500200" y="6286680"/>
            <a:ext cx="40006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ibujo de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inrich Harder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jo licencia de Dominio Públ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7120" y="3786120"/>
            <a:ext cx="828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origen de la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evolución biológ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ebas de la e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arrollo de las formas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inciones y adaptaciones de la v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104" name="5 CuadroTexto"/>
          <p:cNvSpPr/>
          <p:nvPr/>
        </p:nvSpPr>
        <p:spPr>
          <a:xfrm>
            <a:off x="5643720" y="4929120"/>
            <a:ext cx="32144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agen de Dom Dada en </a:t>
            </a:r>
            <a:r>
              <a:rPr b="0" lang="es-E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lickr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ajo C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Origen de la v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324000" y="2276640"/>
            <a:ext cx="51051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Los seres vivos son sistemas organizados, con capacidad para adaptarse al entorno que los rodea, y para reproducirse, dando origen a seres semej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85840" y="3929040"/>
            <a:ext cx="52149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La vida comenzó hace unos 3.800 millones de años. Su origen puede estar en las moléculas formadas a partir de las descargas eléctricas sobre los gases que componían la primiti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atmósfera terrest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643720" y="1322280"/>
            <a:ext cx="3238200" cy="4845240"/>
          </a:xfrm>
          <a:prstGeom prst="rect">
            <a:avLst/>
          </a:prstGeom>
          <a:ln w="0">
            <a:noFill/>
          </a:ln>
        </p:spPr>
      </p:pic>
      <p:sp>
        <p:nvSpPr>
          <p:cNvPr id="109" name="7 Rectángulo"/>
          <p:cNvSpPr/>
          <p:nvPr/>
        </p:nvSpPr>
        <p:spPr>
          <a:xfrm>
            <a:off x="6215040" y="6215040"/>
            <a:ext cx="22147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media Commons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jo C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68360" y="1628640"/>
            <a:ext cx="8461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evolución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 es una de las características de los seres vivos. Consiste en los cambios que sufren a lo largo de generaciones y que son el fundamento de la aparición de nuevas especies. La evolución se opone al creacionism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Las teorías evolutivas actuales toman de base al </a:t>
            </a: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darwinismo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, que mantiene que los cambios en las especies se originan al azar y, si son útiles a las especies para sobrevivir, se mantedrán en las generaciones siguientes a las que se les transmita de debido a la selección natural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La evoluci</a:t>
            </a:r>
            <a:r>
              <a:rPr b="1" lang="en-GB" sz="4000" spc="-1" strike="noStrike">
                <a:solidFill>
                  <a:srgbClr val="336699"/>
                </a:solidFill>
                <a:latin typeface="Calibri"/>
              </a:rPr>
              <a:t>ó</a:t>
            </a: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n biol</a:t>
            </a:r>
            <a:r>
              <a:rPr b="1" lang="en-GB" sz="4000" spc="-1" strike="noStrike">
                <a:solidFill>
                  <a:srgbClr val="336699"/>
                </a:solidFill>
                <a:latin typeface="Calibri"/>
              </a:rPr>
              <a:t>ó</a:t>
            </a: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g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286680" y="4071960"/>
            <a:ext cx="209520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357720" y="6215040"/>
          <a:ext cx="2571480" cy="41112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es Darwi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to de </a:t>
                      </a:r>
                      <a:r>
                        <a:rPr b="0" lang="es-E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J. Cameron.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minio Públ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6" descr="http://127.0.0.1:51235/CM1_U2_T3_Contenidos_v04/resources/Darwin.jpg"/>
          <p:cNvPicPr/>
          <p:nvPr/>
        </p:nvPicPr>
        <p:blipFill>
          <a:blip r:embed="rId3"/>
          <a:stretch/>
        </p:blipFill>
        <p:spPr>
          <a:xfrm>
            <a:off x="3714840" y="4000680"/>
            <a:ext cx="178092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7 Rectángulo"/>
          <p:cNvSpPr/>
          <p:nvPr/>
        </p:nvSpPr>
        <p:spPr>
          <a:xfrm>
            <a:off x="6072120" y="6286680"/>
            <a:ext cx="23576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bujo de </a:t>
            </a:r>
            <a:r>
              <a:rPr b="0" lang="es-E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arwi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 Dominio Público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3500280" y="2000160"/>
            <a:ext cx="55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Podemos afirmar que la evolución se ha producido basándonos en diferentes prueb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a5b59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Pruebas biogeográficas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; muestran especies parecidas en lugares relacion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a5b59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Pruebas paleontológicas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; los fósiles nos van marcando las modificaciones de las espec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a5b59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Pruebas anatómicas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; nos muestran cómo especies diferentes en situaciones similares han evolucionado hacia respuestas adaptativas semej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a5b59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Pruebas embri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buClr>
                <a:srgbClr val="a5b592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Pruebas bioquímicas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704880"/>
            <a:ext cx="8229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Pruebas de la evoluci</a:t>
            </a:r>
            <a:r>
              <a:rPr b="1" lang="en-GB" sz="4000" spc="-1" strike="noStrike">
                <a:solidFill>
                  <a:srgbClr val="336699"/>
                </a:solidFill>
                <a:latin typeface="Calibri"/>
              </a:rPr>
              <a:t>ó</a:t>
            </a: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6357960"/>
          <a:ext cx="2809800" cy="250920"/>
        </p:xfrm>
        <a:graphic>
          <a:graphicData uri="http://schemas.openxmlformats.org/drawingml/2006/table">
            <a:tbl>
              <a:tblPr/>
              <a:tblGrid>
                <a:gridCol w="2809800"/>
              </a:tblGrid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bujo de </a:t>
                      </a:r>
                      <a:r>
                        <a:rPr b="0" lang="es-ES" sz="1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Mcy jerry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jo licencia GFD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4" descr="http://127.0.0.1:51235/CM1_U2_T3_Contenidos_v04/resources/65766f6c756369c3b36e636162616c6c6f.jpg"/>
          <p:cNvPicPr/>
          <p:nvPr/>
        </p:nvPicPr>
        <p:blipFill>
          <a:blip r:embed="rId2"/>
          <a:stretch/>
        </p:blipFill>
        <p:spPr>
          <a:xfrm>
            <a:off x="500040" y="1428840"/>
            <a:ext cx="3000240" cy="49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6760" y="713880"/>
            <a:ext cx="864396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99"/>
                </a:solidFill>
                <a:latin typeface="Arial"/>
              </a:rPr>
              <a:t>Desarrollo de las formas de vida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3 Rectángulo"/>
          <p:cNvSpPr/>
          <p:nvPr/>
        </p:nvSpPr>
        <p:spPr>
          <a:xfrm>
            <a:off x="500040" y="18572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Taxonomía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: ciencia que se encarga de clasificar y nombrar a las diferentes especies de seres vivos. Fue Linneo el que impuso el actual sistema de nomenclatura binomial: </a:t>
            </a:r>
            <a:r>
              <a:rPr b="0" i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Homo sapiens (del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género </a:t>
            </a:r>
            <a:r>
              <a:rPr b="0" i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Homo 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y de la especie </a:t>
            </a:r>
            <a:r>
              <a:rPr b="0" i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Homo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sapiens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  <a:ea typeface="MS Gothic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Muestra Imagen 1. Protistas"/>
          <p:cNvPicPr/>
          <p:nvPr/>
        </p:nvPicPr>
        <p:blipFill>
          <a:blip r:embed="rId1"/>
          <a:stretch/>
        </p:blipFill>
        <p:spPr>
          <a:xfrm>
            <a:off x="2714760" y="3571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Muestra Imagen 2. Metafitas"/>
          <p:cNvPicPr/>
          <p:nvPr/>
        </p:nvPicPr>
        <p:blipFill>
          <a:blip r:embed="rId2"/>
          <a:stretch/>
        </p:blipFill>
        <p:spPr>
          <a:xfrm>
            <a:off x="4286160" y="3714840"/>
            <a:ext cx="1005120" cy="100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uestra Imagen 3. Hongos"/>
          <p:cNvPicPr/>
          <p:nvPr/>
        </p:nvPicPr>
        <p:blipFill>
          <a:blip r:embed="rId3"/>
          <a:stretch/>
        </p:blipFill>
        <p:spPr>
          <a:xfrm>
            <a:off x="5715000" y="36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uestra Imagen 4. Metazoos"/>
          <p:cNvPicPr/>
          <p:nvPr/>
        </p:nvPicPr>
        <p:blipFill>
          <a:blip r:embed="rId4"/>
          <a:stretch/>
        </p:blipFill>
        <p:spPr>
          <a:xfrm>
            <a:off x="7286760" y="36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5"/>
          <a:stretch/>
        </p:blipFill>
        <p:spPr>
          <a:xfrm>
            <a:off x="642960" y="3357720"/>
            <a:ext cx="1616040" cy="1357200"/>
          </a:xfrm>
          <a:prstGeom prst="rect">
            <a:avLst/>
          </a:prstGeom>
          <a:ln w="0">
            <a:noFill/>
          </a:ln>
        </p:spPr>
      </p:pic>
      <p:sp>
        <p:nvSpPr>
          <p:cNvPr id="127" name="9 Rectángulo"/>
          <p:cNvSpPr/>
          <p:nvPr/>
        </p:nvSpPr>
        <p:spPr>
          <a:xfrm>
            <a:off x="642960" y="4929120"/>
            <a:ext cx="79297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os cinco reino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neras, protistas, metafitas, hongos y metazo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rédito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nera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to del National Institutes of Health, el resto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son propiedad del proyecto Biosfera, del ITE, todas bajo C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864396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99"/>
                </a:solidFill>
                <a:latin typeface="Arial"/>
              </a:rPr>
              <a:t>Extinciones y adaptacion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3 Rectángulo"/>
          <p:cNvSpPr/>
          <p:nvPr/>
        </p:nvSpPr>
        <p:spPr>
          <a:xfrm>
            <a:off x="500040" y="1428840"/>
            <a:ext cx="86439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a </a:t>
            </a: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extinción masiv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es un período de tiempo en el cual desaparece un número muy grande de especies. Se cuentan hasta siete extinciones masivas (algunos cuentan seis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ntre las más significativas, por su popularidad, está la que ocurrió hace 251 millones de años, que fue la más grande jamás conocida; y la que ocurrió hace 65 millones de años, donde se extinguieron el 75% de todas las especies, incluidos los dinosaurios. 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as causas de las extinciones han sido muy diversas (cambios climáticos o del nivel del mar, meteoritos, …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14280" y="3500280"/>
            <a:ext cx="1706760" cy="1376640"/>
          </a:xfrm>
          <a:prstGeom prst="rect">
            <a:avLst/>
          </a:prstGeom>
          <a:ln w="0">
            <a:noFill/>
          </a:ln>
        </p:spPr>
      </p:pic>
      <p:sp>
        <p:nvSpPr>
          <p:cNvPr id="131" name="10 Rectángulo"/>
          <p:cNvSpPr/>
          <p:nvPr/>
        </p:nvSpPr>
        <p:spPr>
          <a:xfrm>
            <a:off x="357120" y="5643720"/>
            <a:ext cx="87868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adaptación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, que es una estructura, un proceso fisiológico o una forma de comportarse de un organismo que resulta beneficiosa para el organismos que la tiene y cuya acumulación lleva a la generación de nuevas espe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929280" y="3571920"/>
            <a:ext cx="1289160" cy="1328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3357720" y="3500280"/>
            <a:ext cx="2898720" cy="1362240"/>
          </a:xfrm>
          <a:prstGeom prst="rect">
            <a:avLst/>
          </a:prstGeom>
          <a:ln w="0">
            <a:noFill/>
          </a:ln>
        </p:spPr>
      </p:pic>
      <p:sp>
        <p:nvSpPr>
          <p:cNvPr id="134" name="13 Rectángulo"/>
          <p:cNvSpPr/>
          <p:nvPr/>
        </p:nvSpPr>
        <p:spPr>
          <a:xfrm>
            <a:off x="214200" y="4929120"/>
            <a:ext cx="8929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Tres animales extintos en distintas épocas: trilobites (251 m.a.) triceratops (65 m.a.) y dodo (en 1669, por el hombr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onstantia"/>
              </a:rPr>
              <a:t>Imágenes de luna04, Nobu Tamura y Ballista respectivamente, todos en Wikipedia bajo C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Alberto</cp:lastModifiedBy>
  <dcterms:modified xsi:type="dcterms:W3CDTF">2011-10-05T21:11:07Z</dcterms:modified>
  <cp:revision>55</cp:revision>
  <dc:subject/>
  <dc:title>Tema 1. La actividad económica</dc:title>
</cp:coreProperties>
</file>