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204A-E6AE-4D73-989D-12F85BD0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8A2B-D0B2-44EA-A179-7A1F17B1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C0FD-7589-4E84-8B7A-4762A9D5E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7474-A717-4AA3-8445-BAFBD8B4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E7EB-449B-4F9A-8C5C-4E7AE671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54FC-212A-456A-A7AF-AD619FCD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010F-E6BF-4B94-B6F0-925548E8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FEF6-0175-4E41-83C4-1810B88B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BD72-A8A5-4B60-90B0-6A8648D6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359B-3720-4B76-AB0B-EEDA9B2F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540B-05E8-46BF-953E-42EBCE11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AFE9-436D-4C3C-B452-CCB3854C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8ACE-F66F-4546-AAF0-973661664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9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790560" cy="719280"/>
          </a:xfrm>
          <a:prstGeom prst="rect">
            <a:avLst/>
          </a:prstGeom>
          <a:ln w="0">
            <a:noFill/>
          </a:ln>
        </p:spPr>
      </p:pic>
      <p:pic>
        <p:nvPicPr>
          <p:cNvPr id="43" name="I 1" descr="juntaandalucia_gr.png"/>
          <p:cNvPicPr/>
          <p:nvPr/>
        </p:nvPicPr>
        <p:blipFill>
          <a:blip r:embed="rId3"/>
          <a:stretch/>
        </p:blipFill>
        <p:spPr>
          <a:xfrm>
            <a:off x="8101080" y="93600"/>
            <a:ext cx="900000" cy="598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3120" y="765000"/>
            <a:ext cx="831996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11268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5d7b"/>
                </a:solidFill>
                <a:latin typeface="Bradley Hand ITC TT"/>
              </a:rPr>
              <a:t>Tema 1. Bloque 8</a:t>
            </a:r>
            <a:r>
              <a:rPr b="0" lang="en-US" sz="3200" spc="-1" strike="noStrike">
                <a:solidFill>
                  <a:srgbClr val="2d5d7b"/>
                </a:solidFill>
                <a:latin typeface="Bradley Hand ITC T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372360" y="6237360"/>
            <a:ext cx="2743200" cy="19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300720" y="645336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5d7b"/>
                </a:solidFill>
                <a:latin typeface="Bradley Hand ITC TT"/>
              </a:rPr>
              <a:t>Tema 1. Bloque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1763640" y="1341360"/>
            <a:ext cx="63723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Descrip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68360" y="2924280"/>
            <a:ext cx="5399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ción fí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person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vestu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11280" y="4799160"/>
            <a:ext cx="2448000" cy="20142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CE (voz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: su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RILL: agu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CKED: queb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P: profu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D: f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OMY: lúgu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96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790560" cy="719280"/>
          </a:xfrm>
          <a:prstGeom prst="rect">
            <a:avLst/>
          </a:prstGeom>
          <a:ln w="0">
            <a:noFill/>
          </a:ln>
        </p:spPr>
      </p:pic>
      <p:pic>
        <p:nvPicPr>
          <p:cNvPr id="53" name="I 1" descr="juntaandalucia_gr.png"/>
          <p:cNvPicPr/>
          <p:nvPr/>
        </p:nvPicPr>
        <p:blipFill>
          <a:blip r:embed="rId3"/>
          <a:stretch/>
        </p:blipFill>
        <p:spPr>
          <a:xfrm>
            <a:off x="8101080" y="93600"/>
            <a:ext cx="900000" cy="598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73120" y="765000"/>
            <a:ext cx="831996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16000" y="11268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5d7b"/>
                </a:solidFill>
                <a:latin typeface="Bradley Hand ITC TT"/>
              </a:rPr>
              <a:t>Tema 1. Bloque 8</a:t>
            </a:r>
            <a:r>
              <a:rPr b="0" lang="en-US" sz="3200" spc="-1" strike="noStrike">
                <a:solidFill>
                  <a:srgbClr val="2d5d7b"/>
                </a:solidFill>
                <a:latin typeface="Bradley Hand ITC T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400800" y="6237360"/>
            <a:ext cx="2743200" cy="199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300720" y="645336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5d7b"/>
                </a:solidFill>
                <a:latin typeface="Bradley Hand ITC TT"/>
              </a:rPr>
              <a:t>Tema 1. Bloque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258920" y="981000"/>
            <a:ext cx="63723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La descripción fís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1773360"/>
            <a:ext cx="4321080" cy="311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DY (cuerp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T: gor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IN: del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LIM: delgado y bien proporcio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: fu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K: déb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LL: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: 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UM HEIGHT: estatura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SSIVE: en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NY: dimin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84720" y="2997360"/>
            <a:ext cx="2663640" cy="1465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(ed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: vie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NG: jo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-AGED: de edad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4437000"/>
            <a:ext cx="3600360" cy="2014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E (ca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: redo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: cuad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AL: ova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FRECKLES: con pe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WRINKLES: con arru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-TANNED: mor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72360" y="1700280"/>
            <a:ext cx="2700360" cy="4208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IR (pel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IGHT: li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LY: riz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Y: ondu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: lar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: co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K: osc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R: cla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WN: cast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: neg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NDE: ru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-HAIRED: pelirro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ED: teñ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D: cal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KY: de pu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96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790560" cy="719280"/>
          </a:xfrm>
          <a:prstGeom prst="rect">
            <a:avLst/>
          </a:prstGeom>
          <a:ln w="0">
            <a:noFill/>
          </a:ln>
        </p:spPr>
      </p:pic>
      <p:pic>
        <p:nvPicPr>
          <p:cNvPr id="65" name="I 1" descr="juntaandalucia_gr.png"/>
          <p:cNvPicPr/>
          <p:nvPr/>
        </p:nvPicPr>
        <p:blipFill>
          <a:blip r:embed="rId3"/>
          <a:stretch/>
        </p:blipFill>
        <p:spPr>
          <a:xfrm>
            <a:off x="8101080" y="93600"/>
            <a:ext cx="900000" cy="598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73120" y="765000"/>
            <a:ext cx="831996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16000" y="11268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5d7b"/>
                </a:solidFill>
                <a:latin typeface="Bradley Hand ITC TT"/>
              </a:rPr>
              <a:t>Tema 1. Bloque 8</a:t>
            </a:r>
            <a:r>
              <a:rPr b="0" lang="en-US" sz="3200" spc="-1" strike="noStrike">
                <a:solidFill>
                  <a:srgbClr val="2d5d7b"/>
                </a:solidFill>
                <a:latin typeface="Bradley Hand ITC T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372360" y="6237360"/>
            <a:ext cx="2743200" cy="199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300720" y="645336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5d7b"/>
                </a:solidFill>
                <a:latin typeface="Bradley Hand ITC TT"/>
              </a:rPr>
              <a:t>Tema 1. Bloque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547640" y="1052640"/>
            <a:ext cx="63723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La personal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79640" y="1989000"/>
            <a:ext cx="5398920" cy="311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OD (Carác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E: agradable, simpá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STY: desagrad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NEST: hon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INARY: corr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E: edu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DE: maledu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NY: divert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ING: aburr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: extrovert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Y: tím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4857840" cy="5024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996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68360" y="0"/>
            <a:ext cx="790560" cy="719280"/>
          </a:xfrm>
          <a:prstGeom prst="rect">
            <a:avLst/>
          </a:prstGeom>
          <a:ln w="0">
            <a:noFill/>
          </a:ln>
        </p:spPr>
      </p:pic>
      <p:pic>
        <p:nvPicPr>
          <p:cNvPr id="75" name="I 1" descr="juntaandalucia_gr.png"/>
          <p:cNvPicPr/>
          <p:nvPr/>
        </p:nvPicPr>
        <p:blipFill>
          <a:blip r:embed="rId4"/>
          <a:stretch/>
        </p:blipFill>
        <p:spPr>
          <a:xfrm>
            <a:off x="8101080" y="93600"/>
            <a:ext cx="900000" cy="598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73120" y="765000"/>
            <a:ext cx="831996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16000" y="11268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5d7b"/>
                </a:solidFill>
                <a:latin typeface="Bradley Hand ITC TT"/>
              </a:rPr>
              <a:t>Tema 1. Bloque 8</a:t>
            </a:r>
            <a:r>
              <a:rPr b="0" lang="en-US" sz="3200" spc="-1" strike="noStrike">
                <a:solidFill>
                  <a:srgbClr val="2d5d7b"/>
                </a:solidFill>
                <a:latin typeface="Bradley Hand ITC T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6372360" y="6237360"/>
            <a:ext cx="2743200" cy="199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300720" y="645336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5d7b"/>
                </a:solidFill>
                <a:latin typeface="Bradley Hand ITC TT"/>
              </a:rPr>
              <a:t>Tema 1. Bloque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1619280" y="981000"/>
            <a:ext cx="63723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El cuer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96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790560" cy="719280"/>
          </a:xfrm>
          <a:prstGeom prst="rect">
            <a:avLst/>
          </a:prstGeom>
          <a:ln w="0">
            <a:noFill/>
          </a:ln>
        </p:spPr>
      </p:pic>
      <p:pic>
        <p:nvPicPr>
          <p:cNvPr id="83" name="I 1" descr="juntaandalucia_gr.png"/>
          <p:cNvPicPr/>
          <p:nvPr/>
        </p:nvPicPr>
        <p:blipFill>
          <a:blip r:embed="rId3"/>
          <a:stretch/>
        </p:blipFill>
        <p:spPr>
          <a:xfrm>
            <a:off x="8101080" y="93600"/>
            <a:ext cx="900000" cy="598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3120" y="765000"/>
            <a:ext cx="831996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16000" y="11268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5d7b"/>
                </a:solidFill>
                <a:latin typeface="Bradley Hand ITC TT"/>
              </a:rPr>
              <a:t>Tema 1. Bloque 8</a:t>
            </a:r>
            <a:r>
              <a:rPr b="0" lang="en-US" sz="3200" spc="-1" strike="noStrike">
                <a:solidFill>
                  <a:srgbClr val="2d5d7b"/>
                </a:solidFill>
                <a:latin typeface="Bradley Hand ITC T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372360" y="6237360"/>
            <a:ext cx="2743200" cy="199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300720" y="645336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5d7b"/>
                </a:solidFill>
                <a:latin typeface="Bradley Hand ITC TT"/>
              </a:rPr>
              <a:t>Tema 1. Bloque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763640" y="1341360"/>
            <a:ext cx="63723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La ro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71640" y="2133720"/>
            <a:ext cx="2736720" cy="3550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T: sombr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ASSES: gaf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NGLASSES: gafas de s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ARF: bufa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UMPER: jers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RDIGAN: rebe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AT: abri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IRT: cami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-SHIRT: camis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OUSE: bl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CKET: chaqu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43280" y="2133720"/>
            <a:ext cx="2808360" cy="3875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BELT: cintur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ROUSERS: pantal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JEANS: vaque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HORTS: pantalones cor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KIRT: fal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RESS: vest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UIT: traje (dos piez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RACKSUIT: chand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OCKS: calcet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HOES: zapa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BOOTS: bo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96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790560" cy="719280"/>
          </a:xfrm>
          <a:prstGeom prst="rect">
            <a:avLst/>
          </a:prstGeom>
          <a:ln w="0">
            <a:noFill/>
          </a:ln>
        </p:spPr>
      </p:pic>
      <p:pic>
        <p:nvPicPr>
          <p:cNvPr id="93" name="I 1" descr="juntaandalucia_gr.png"/>
          <p:cNvPicPr/>
          <p:nvPr/>
        </p:nvPicPr>
        <p:blipFill>
          <a:blip r:embed="rId3"/>
          <a:stretch/>
        </p:blipFill>
        <p:spPr>
          <a:xfrm>
            <a:off x="8101080" y="93600"/>
            <a:ext cx="900000" cy="598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73120" y="765000"/>
            <a:ext cx="831996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16000" y="11268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5d7b"/>
                </a:solidFill>
                <a:latin typeface="Bradley Hand ITC TT"/>
              </a:rPr>
              <a:t>Tema 1. Bloque 8</a:t>
            </a:r>
            <a:r>
              <a:rPr b="0" lang="en-US" sz="3200" spc="-1" strike="noStrike">
                <a:solidFill>
                  <a:srgbClr val="2d5d7b"/>
                </a:solidFill>
                <a:latin typeface="Bradley Hand ITC T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372360" y="6237360"/>
            <a:ext cx="2743200" cy="199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300720" y="645336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5d7b"/>
                </a:solidFill>
                <a:latin typeface="Bradley Hand ITC TT"/>
              </a:rPr>
              <a:t>Tema 1. Bloque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619280" y="1125360"/>
            <a:ext cx="63723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El esti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50920" y="1989000"/>
            <a:ext cx="5399280" cy="2037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RT: eleg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UAL: inf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UFFY: desarreg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SY: descui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BBY: harap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28T15:34:21Z</dcterms:created>
  <dc:creator>Migue</dc:creator>
  <dc:description/>
  <dc:language>en-US</dc:language>
  <cp:lastModifiedBy>Migue</cp:lastModifiedBy>
  <dcterms:modified xsi:type="dcterms:W3CDTF">2016-07-30T18:11:12Z</dcterms:modified>
  <cp:revision>7</cp:revision>
  <dc:subject/>
  <dc:title>Diapositiva 1</dc:title>
</cp:coreProperties>
</file>