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E23A-5972-4496-AA0A-CAB649DDB4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0E3A-74E1-4EA7-BC6E-8D293E26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A238-716D-4668-90B4-65CCE1F6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AC13-A27B-43C2-88B3-51BA6689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44D5-3DDA-4FEA-A82B-44A93BD6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0C2E-EBE2-470B-BE94-A4BDF55C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9EB0-DE8E-4223-A224-2C8E89F4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BFAC-6E95-46C1-8F99-BA5E6FB7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455A-2BA0-4E09-9A18-FA1BCE8A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C58E-77A7-4985-AEDC-03DDB1B5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2354-843D-48B5-BE85-E848863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A9E4-E48D-4720-802A-BDFBA9925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125D1-F70F-44A3-9716-D3A3875EF1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9C197-1910-4DFE-A2CC-0BFCF9E6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06D89-BEF4-4786-811B-8E22D4AB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BA309-2C29-4653-90C1-862BF15B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BB07C-473C-48B8-BADB-138044A1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5C986-9BC5-45CD-90C7-68C6A7E5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8E7AF-47D6-4CAD-8707-3A90CAA1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FC05F-B18E-4312-BF83-EA2D5E28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750E9-4C88-4D44-BA4A-A051537B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5EE8-A1CC-42B1-813B-2A6C3058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CB736-769C-41CA-B5B3-598034DF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6C0CE-F97D-477B-B907-B1C43342E7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5148360" y="6524640"/>
            <a:ext cx="39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El orde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2040-3029-4E21-B0B1-C9EBC9506F0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B460-CEE0-4496-8F07-49C7ABF23FDD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9"/>
          <p:cNvSpPr/>
          <p:nvPr/>
        </p:nvSpPr>
        <p:spPr>
          <a:xfrm>
            <a:off x="279360" y="87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álisis de máquinas reales: El orde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95280" y="1406520"/>
            <a:ext cx="3456000" cy="264924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spositivos digi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nalógico vs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l tran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quema básico de un orden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nidad central de mem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nidad de control y unidad aritmético 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Hardware: Unidad principal de sist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erifér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iste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pl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2"/>
          <p:cNvSpPr/>
          <p:nvPr/>
        </p:nvSpPr>
        <p:spPr>
          <a:xfrm>
            <a:off x="4148280" y="1700280"/>
            <a:ext cx="45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bre este 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3"/>
          <p:cNvSpPr/>
          <p:nvPr/>
        </p:nvSpPr>
        <p:spPr>
          <a:xfrm>
            <a:off x="3995640" y="2276640"/>
            <a:ext cx="5007240" cy="15858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tema se divide en tres par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rimera desarrollada en el primer punto hace referencia a los conceptos de codificación y digitalizació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mbién se estudia el uso del transistor como sistema de almacenamiento y transmisión de la inform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3"/>
          <p:cNvSpPr/>
          <p:nvPr/>
        </p:nvSpPr>
        <p:spPr>
          <a:xfrm>
            <a:off x="1042920" y="4437000"/>
            <a:ext cx="7489800" cy="15858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partes siguientes se dedican al estudio de los componentes de un ordenador, distinguiendo a continuación ent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ardware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te física del ordenador. Está formado por todos los componentes que integran la máqu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ftware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á formada por todos los programas que hacen posible su funcion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2"/>
          <p:cNvSpPr/>
          <p:nvPr/>
        </p:nvSpPr>
        <p:spPr>
          <a:xfrm>
            <a:off x="250920" y="4365720"/>
            <a:ext cx="2500200" cy="33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tos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2663640" y="879480"/>
            <a:ext cx="3905280" cy="4597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quema básico 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5"/>
          <p:cNvSpPr/>
          <p:nvPr/>
        </p:nvSpPr>
        <p:spPr>
          <a:xfrm>
            <a:off x="3033000" y="2755800"/>
            <a:ext cx="3155400" cy="1128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 central de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Unidad central de mem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Unidad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Unidad aritmético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7"/>
          <p:cNvSpPr/>
          <p:nvPr/>
        </p:nvSpPr>
        <p:spPr>
          <a:xfrm rot="14530800">
            <a:off x="1820520" y="2766600"/>
            <a:ext cx="360360" cy="1729080"/>
          </a:xfrm>
          <a:prstGeom prst="downArrow">
            <a:avLst>
              <a:gd name="adj1" fmla="val 50000"/>
              <a:gd name="adj2" fmla="val 119955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1"/>
          <p:cNvSpPr/>
          <p:nvPr/>
        </p:nvSpPr>
        <p:spPr>
          <a:xfrm>
            <a:off x="4394160" y="14508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2"/>
          <p:cNvSpPr/>
          <p:nvPr/>
        </p:nvSpPr>
        <p:spPr>
          <a:xfrm>
            <a:off x="611280" y="2662200"/>
            <a:ext cx="1566720" cy="580680"/>
          </a:xfrm>
          <a:prstGeom prst="rect">
            <a:avLst/>
          </a:prstGeom>
          <a:solidFill>
            <a:srgbClr val="8585e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7"/>
          <p:cNvSpPr/>
          <p:nvPr/>
        </p:nvSpPr>
        <p:spPr>
          <a:xfrm rot="18168600">
            <a:off x="7016760" y="2709360"/>
            <a:ext cx="360360" cy="1729080"/>
          </a:xfrm>
          <a:prstGeom prst="downArrow">
            <a:avLst>
              <a:gd name="adj1" fmla="val 50000"/>
              <a:gd name="adj2" fmla="val 119955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6068880" y="4335480"/>
            <a:ext cx="2500560" cy="33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tos de sa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2"/>
          <p:cNvSpPr/>
          <p:nvPr/>
        </p:nvSpPr>
        <p:spPr>
          <a:xfrm>
            <a:off x="6966000" y="2644920"/>
            <a:ext cx="1566720" cy="580680"/>
          </a:xfrm>
          <a:prstGeom prst="rect">
            <a:avLst/>
          </a:prstGeom>
          <a:solidFill>
            <a:srgbClr val="8585e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dad de sa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2"/>
          <p:cNvSpPr/>
          <p:nvPr/>
        </p:nvSpPr>
        <p:spPr>
          <a:xfrm>
            <a:off x="919080" y="2781360"/>
            <a:ext cx="2500560" cy="2527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de ali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entil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ca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croproces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moria base o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nuras de expa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4"/>
          <p:cNvSpPr/>
          <p:nvPr/>
        </p:nvSpPr>
        <p:spPr>
          <a:xfrm>
            <a:off x="3997080" y="1011240"/>
            <a:ext cx="1500480" cy="4597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5"/>
          <p:cNvSpPr/>
          <p:nvPr/>
        </p:nvSpPr>
        <p:spPr>
          <a:xfrm>
            <a:off x="603720" y="2021040"/>
            <a:ext cx="336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 principal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1"/>
          <p:cNvSpPr/>
          <p:nvPr/>
        </p:nvSpPr>
        <p:spPr>
          <a:xfrm rot="3729000">
            <a:off x="3773880" y="15739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5"/>
          <p:cNvSpPr/>
          <p:nvPr/>
        </p:nvSpPr>
        <p:spPr>
          <a:xfrm>
            <a:off x="5518440" y="1990800"/>
            <a:ext cx="31374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iféricos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1"/>
          <p:cNvSpPr/>
          <p:nvPr/>
        </p:nvSpPr>
        <p:spPr>
          <a:xfrm rot="18045000">
            <a:off x="5266440" y="157824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5867280" y="2819520"/>
            <a:ext cx="2500560" cy="228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t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cá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positivos almacenamiento ex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rjeras externas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2"/>
          <p:cNvSpPr/>
          <p:nvPr/>
        </p:nvSpPr>
        <p:spPr>
          <a:xfrm>
            <a:off x="1697040" y="3170160"/>
            <a:ext cx="2500200" cy="1067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NU/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4"/>
          <p:cNvSpPr/>
          <p:nvPr/>
        </p:nvSpPr>
        <p:spPr>
          <a:xfrm>
            <a:off x="4055760" y="1011240"/>
            <a:ext cx="1383120" cy="4597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5"/>
          <p:cNvSpPr/>
          <p:nvPr/>
        </p:nvSpPr>
        <p:spPr>
          <a:xfrm>
            <a:off x="1687680" y="2581200"/>
            <a:ext cx="24742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ope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1"/>
          <p:cNvSpPr/>
          <p:nvPr/>
        </p:nvSpPr>
        <p:spPr>
          <a:xfrm rot="4653600">
            <a:off x="2743920" y="1035000"/>
            <a:ext cx="360360" cy="1166760"/>
          </a:xfrm>
          <a:prstGeom prst="downArrow">
            <a:avLst>
              <a:gd name="adj1" fmla="val 50000"/>
              <a:gd name="adj2" fmla="val 29964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5439240" y="2581200"/>
            <a:ext cx="161172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2"/>
          <p:cNvSpPr/>
          <p:nvPr/>
        </p:nvSpPr>
        <p:spPr>
          <a:xfrm>
            <a:off x="4746600" y="3141720"/>
            <a:ext cx="2500200" cy="2770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cesador de tex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ja de cál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en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ve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rreo electró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ición imág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rodu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ición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tivir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re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1"/>
          <p:cNvSpPr/>
          <p:nvPr/>
        </p:nvSpPr>
        <p:spPr>
          <a:xfrm rot="1485600">
            <a:off x="3684240" y="1673280"/>
            <a:ext cx="360360" cy="803160"/>
          </a:xfrm>
          <a:prstGeom prst="downArrow">
            <a:avLst>
              <a:gd name="adj1" fmla="val 50000"/>
              <a:gd name="adj2" fmla="val 29975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5"/>
          <p:cNvSpPr/>
          <p:nvPr/>
        </p:nvSpPr>
        <p:spPr>
          <a:xfrm>
            <a:off x="7420320" y="1733400"/>
            <a:ext cx="990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5"/>
          <p:cNvSpPr/>
          <p:nvPr/>
        </p:nvSpPr>
        <p:spPr>
          <a:xfrm>
            <a:off x="1098360" y="1603440"/>
            <a:ext cx="78732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1"/>
          <p:cNvSpPr/>
          <p:nvPr/>
        </p:nvSpPr>
        <p:spPr>
          <a:xfrm rot="20151000">
            <a:off x="5155920" y="1731600"/>
            <a:ext cx="360360" cy="801720"/>
          </a:xfrm>
          <a:prstGeom prst="downArrow">
            <a:avLst>
              <a:gd name="adj1" fmla="val 50000"/>
              <a:gd name="adj2" fmla="val 29921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1"/>
          <p:cNvSpPr/>
          <p:nvPr/>
        </p:nvSpPr>
        <p:spPr>
          <a:xfrm rot="17681400">
            <a:off x="6176520" y="1083960"/>
            <a:ext cx="360360" cy="1166760"/>
          </a:xfrm>
          <a:prstGeom prst="downArrow">
            <a:avLst>
              <a:gd name="adj1" fmla="val 50000"/>
              <a:gd name="adj2" fmla="val 29964"/>
            </a:avLst>
          </a:prstGeom>
          <a:solidFill>
            <a:srgbClr val="3333cc"/>
          </a:solidFill>
          <a:ln w="25560">
            <a:solidFill>
              <a:srgbClr val="cdca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 </cp:lastModifiedBy>
  <dcterms:modified xsi:type="dcterms:W3CDTF">2011-04-29T10:11:04Z</dcterms:modified>
  <cp:revision>166</cp:revision>
  <dc:subject/>
  <dc:title>Diapositiva 1</dc:title>
</cp:coreProperties>
</file>