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A40-482D-4A04-A1DB-4B60D60E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03D1-7886-4BB7-9FC2-DB0D7F20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D28-925F-4236-BF1C-1C0701D1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4F1-4771-4412-B402-A1D4213A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0AD-0F52-47FB-871B-00749402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C4D-4657-4F55-8A63-FA252E82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1D9A-2DD4-431D-9B8E-8C9531F8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500-1F8F-4CCB-A6EE-F4E17A87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58B-24C1-414E-9E3E-79986BAE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78F-7B45-41F2-BD15-CD9786F7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C37-AD85-4A7A-A2AB-B5E29783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F40-2286-4BED-8487-4EDB7AB3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f4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7390-1F87-4FC7-8786-235E2A99C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f4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Diagonal  de  un  cuad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1268280"/>
            <a:ext cx="849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Monotype Corsiva"/>
              </a:rPr>
              <a:t>El teorema de Pitágoras, afirma que: “en todo triángu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Monotype Corsiva"/>
              </a:rPr>
              <a:t>rectángulo, el cuadrado de la hipotenusa es igual a la suma de los catetos al cuadrado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2924280"/>
            <a:ext cx="0" cy="20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49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1979640" y="2924280"/>
            <a:ext cx="1728720" cy="20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7640" y="35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65640" y="488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1640" y="373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64000" y="4005360"/>
            <a:ext cx="1942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6800" y="37162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= 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+  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88000" y="4292640"/>
            <a:ext cx="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364000" y="5013360"/>
                <a:ext cx="23767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2577240" y="29973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33"/>
                </a:solidFill>
                <a:latin typeface="Arial"/>
              </a:rPr>
              <a:t>hipoten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7680" y="56088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33"/>
                </a:solidFill>
                <a:latin typeface="Arial"/>
              </a:rPr>
              <a:t>cat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700000" y="3357720"/>
            <a:ext cx="358920" cy="2872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042920" y="4436640"/>
            <a:ext cx="865080" cy="1297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619280" y="5084640"/>
            <a:ext cx="1368360" cy="7207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695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95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95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95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45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45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95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95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95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95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95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f4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Diagonal  de  un  cuad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806480"/>
            <a:ext cx="2635200" cy="2382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36760" y="2440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1778040"/>
            <a:ext cx="2665440" cy="2409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987640" y="285264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44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3080" y="386064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93800" y="285264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1268280"/>
            <a:ext cx="241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Century Gothic"/>
              </a:rPr>
              <a:t>aplicamos el teore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Century Gothic"/>
              </a:rPr>
              <a:t>de Pitág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52920" y="220500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56720" y="2565360"/>
            <a:ext cx="0" cy="5763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25640" y="31417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56720" y="3429000"/>
            <a:ext cx="0" cy="3603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378936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80000" y="2708280"/>
            <a:ext cx="720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300720" y="1916280"/>
            <a:ext cx="0" cy="7920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56720" y="4149720"/>
            <a:ext cx="0" cy="3589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03200" y="45086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380000" y="4869000"/>
            <a:ext cx="360360" cy="504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9280" y="539280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6588000" y="5445000"/>
                <a:ext cx="45576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7093080" y="537372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.414213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08720" y="1628640"/>
            <a:ext cx="64800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56720" y="1628640"/>
            <a:ext cx="0" cy="5763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99840" y="2637000"/>
            <a:ext cx="184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Century Gothic"/>
              </a:rPr>
              <a:t>Sustituimos los val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530064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r tanto, si el cuadrado tiene de lado un centímetro, su diagonal mid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419640" y="5589720"/>
                <a:ext cx="4554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910320" y="558972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63080" y="1844640"/>
            <a:ext cx="201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Century Gothic"/>
              </a:rPr>
              <a:t>Sacamos un triáng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Century Gothic"/>
              </a:rPr>
              <a:t>rectáng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59 0.00208 L 0.28559 0.00208 E">
                                      <p:cBhvr>
                                        <p:cTn id="12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500"/>
                            </p:stCondLst>
                            <p:childTnLst>
                              <p:par>
                                <p:cTn id="1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4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74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400"/>
                            </p:stCondLst>
                            <p:childTnLst>
                              <p:par>
                                <p:cTn id="1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34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44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49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9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64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7400"/>
                            </p:stCondLst>
                            <p:childTnLst>
                              <p:par>
                                <p:cTn id="2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9400"/>
                            </p:stCondLst>
                            <p:childTnLst>
                              <p:par>
                                <p:cTn id="2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44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4900"/>
                            </p:stCondLst>
                            <p:childTnLst>
                              <p:par>
                                <p:cTn id="2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17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2700"/>
                            </p:stCondLst>
                            <p:childTnLst>
                              <p:par>
                                <p:cTn id="2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08:05:53Z</dcterms:created>
  <dc:creator>Usuario</dc:creator>
  <dc:description/>
  <dc:language>en-US</dc:language>
  <cp:lastModifiedBy>Usuario</cp:lastModifiedBy>
  <dcterms:modified xsi:type="dcterms:W3CDTF">2009-01-24T09:44:45Z</dcterms:modified>
  <cp:revision>8</cp:revision>
  <dc:subject/>
  <dc:title>Diagonal  de  un  cuadrado</dc:title>
</cp:coreProperties>
</file>