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360" y="-8652240"/>
            <a:ext cx="360" cy="1869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15CF-C8CC-4810-A8F2-A3E416EF5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A7A6-0AC5-426C-9966-5AE7C547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5805-A0C2-4670-928A-7C7C43633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62DE-28EB-418F-8013-80C69B6D5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8A54-B059-460F-8E7E-AD05389DF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9E9C-ACC7-41B2-B9B4-9BCE3685D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342D-7998-457C-9019-2190E861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26DC-B486-45C8-8E1F-603AC13E2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7466-9BF7-488E-88A3-A1F74C001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7AA3-789C-4A8E-9086-EBBDCEF2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E21C-839B-4916-B480-494A1992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5805-36FA-4B9D-BEA4-A23B861D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E130DF-2CF3-4953-853C-47D33F15B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800" spc="-1" strike="noStrike">
                <a:solidFill>
                  <a:srgbClr val="0099cc"/>
                </a:solidFill>
                <a:latin typeface="Monotype Corsiva"/>
              </a:rPr>
              <a:t>Cota del error absolu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1341360"/>
            <a:ext cx="45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Ya sabemos que el error absoluto e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5067360" y="1179360"/>
                <a:ext cx="231300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al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rox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1697040" y="2205000"/>
            <a:ext cx="531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ero, ¿y si el valor real no lo conocem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3680" y="2708280"/>
            <a:ext cx="897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¿Qué error se comete al aproximar la diagonal del cuadrado anteri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que tenía de lado 1 cm por 1.4 cm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179280" y="3284640"/>
            <a:ext cx="63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cc9900"/>
                </a:solidFill>
                <a:latin typeface="Arial"/>
              </a:rPr>
              <a:t>V </a:t>
            </a:r>
            <a:r>
              <a:rPr b="1" lang="en-US" sz="1800" spc="-1" strike="noStrike" baseline="-25000">
                <a:solidFill>
                  <a:srgbClr val="cc99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27280" y="3284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127160" y="3336840"/>
                <a:ext cx="218880" cy="2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1403640" y="3284640"/>
            <a:ext cx="168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1.4142135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640" y="3645000"/>
            <a:ext cx="756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cc9900"/>
                </a:solidFill>
                <a:latin typeface="Arial"/>
              </a:rPr>
              <a:t>V </a:t>
            </a:r>
            <a:r>
              <a:rPr b="1" lang="en-US" sz="1800" spc="-1" strike="noStrike" baseline="-25000">
                <a:solidFill>
                  <a:srgbClr val="cc9900"/>
                </a:solidFill>
                <a:latin typeface="Arial"/>
              </a:rPr>
              <a:t>apr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360" y="364500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1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51280" y="3789360"/>
            <a:ext cx="786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 </a:t>
            </a:r>
            <a:r>
              <a:rPr b="1" lang="en-US" sz="2000" spc="-1" strike="noStrike" baseline="-25000">
                <a:solidFill>
                  <a:srgbClr val="333399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360" y="3789360"/>
            <a:ext cx="270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| 1.4112135…  -  1.4 |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236360" y="37893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506000" y="3789360"/>
            <a:ext cx="16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0.0142135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1393920" y="4221000"/>
            <a:ext cx="108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No podemos calcular el error absoluto exacto, pero sí acotarlo y decir 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92720" y="4724280"/>
            <a:ext cx="572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mo mucho el error absoluto es 0.02” 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ues el resultado es seguro más pequeño que 0.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4280" y="5570640"/>
            <a:ext cx="272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Así, 0.02 es una co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263280" y="5570640"/>
            <a:ext cx="1269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E 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&lt; 0.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71280" y="6237360"/>
            <a:ext cx="27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ambién sería una cot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64000" y="623736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0.0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284720" y="623736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0.1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708360" y="5805360"/>
            <a:ext cx="2158920" cy="180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2000" y="3429000"/>
            <a:ext cx="648000" cy="431640"/>
          </a:xfrm>
          <a:prstGeom prst="line">
            <a:avLst/>
          </a:prstGeom>
          <a:ln w="5724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92360" y="3860640"/>
            <a:ext cx="2016000" cy="73080"/>
          </a:xfrm>
          <a:prstGeom prst="line">
            <a:avLst/>
          </a:prstGeom>
          <a:ln w="5724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500"/>
                            </p:stCondLst>
                            <p:childTnLst>
                              <p:par>
                                <p:cTn id="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7000"/>
                            </p:stCondLst>
                            <p:childTnLst>
                              <p:par>
                                <p:cTn id="7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7600"/>
                            </p:stCondLst>
                            <p:childTnLst>
                              <p:par>
                                <p:cTn id="8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885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7200"/>
                            </p:stCondLst>
                            <p:childTnLst>
                              <p:par>
                                <p:cTn id="1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160"/>
                            </p:stCondLst>
                            <p:childTnLst>
                              <p:par>
                                <p:cTn id="10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2160"/>
                            </p:stCondLst>
                            <p:childTnLst>
                              <p:par>
                                <p:cTn id="11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3160"/>
                            </p:stCondLst>
                            <p:childTnLst>
                              <p:par>
                                <p:cTn id="11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800" spc="-1" strike="noStrike">
                <a:solidFill>
                  <a:srgbClr val="0099cc"/>
                </a:solidFill>
                <a:latin typeface="Monotype Corsiva"/>
              </a:rPr>
              <a:t>Cota del error absolu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720" y="1457280"/>
            <a:ext cx="78264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d7d58f"/>
              </a:buClr>
              <a:buFont typeface="Century Gothic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d7d58f"/>
                </a:solidFill>
                <a:latin typeface="Century Gothic"/>
              </a:rPr>
              <a:t>Si aproximas por truncamiento, una cota del error absolu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d7d58f"/>
                </a:solidFill>
                <a:latin typeface="Century Gothic"/>
              </a:rPr>
              <a:t> </a:t>
            </a:r>
            <a:r>
              <a:rPr b="1" lang="en-US" sz="2000" spc="-1" strike="noStrike">
                <a:solidFill>
                  <a:srgbClr val="d7d58f"/>
                </a:solidFill>
                <a:latin typeface="Century Gothic"/>
              </a:rPr>
              <a:t>es una unidad del orden donde estás cortan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3068640"/>
            <a:ext cx="8064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d7d58f"/>
              </a:buClr>
              <a:buFont typeface="Century Gothic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d7d58f"/>
                </a:solidFill>
                <a:latin typeface="Century Gothic"/>
              </a:rPr>
              <a:t>Si aproximas por redondeo, una cota del error absoluto es media unidad del orden donde estás cortan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80200" y="2205000"/>
            <a:ext cx="623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Aproxima  8 / 3 por truncamiento a las centési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87280" y="2492280"/>
            <a:ext cx="1800" cy="28908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2781360"/>
            <a:ext cx="289080" cy="144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48000" y="2565360"/>
            <a:ext cx="2828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e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8 / 3 = 2.666666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87280" y="2781360"/>
            <a:ext cx="1800" cy="360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87280" y="3141720"/>
            <a:ext cx="289080" cy="144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6920" y="2924280"/>
            <a:ext cx="14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pro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2.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187280" y="3141720"/>
            <a:ext cx="1800" cy="43164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87280" y="3573360"/>
            <a:ext cx="289080" cy="180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73840" y="3357720"/>
            <a:ext cx="450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| 2.666666… -  2.66 |  =  0.006666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867280" y="335772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 0.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87280" y="3573360"/>
            <a:ext cx="1800" cy="360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87280" y="3933720"/>
            <a:ext cx="289080" cy="180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48000" y="3645000"/>
            <a:ext cx="68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l error absoluto es menor que 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una centés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86400" y="3860640"/>
            <a:ext cx="572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Aproxima  8 / 3 por redondeo a las centési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58920" y="4221000"/>
            <a:ext cx="1440" cy="28908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258920" y="4508640"/>
            <a:ext cx="287280" cy="144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46920" y="4365720"/>
            <a:ext cx="14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pro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2.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58920" y="4437000"/>
            <a:ext cx="1440" cy="5047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58920" y="4941720"/>
            <a:ext cx="287280" cy="180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44400" y="4724280"/>
            <a:ext cx="455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a = | 2.666666… -  2.67 |  =  0.003333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84720" y="472428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 0.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58920" y="4941720"/>
            <a:ext cx="1440" cy="358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58920" y="5300640"/>
            <a:ext cx="287280" cy="144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19640" y="5084640"/>
            <a:ext cx="660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l error absoluto es menor que 5 milésim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 sea, que 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media centés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120" y="5516640"/>
            <a:ext cx="8922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ffffcc"/>
                </a:solidFill>
                <a:latin typeface="Century Gothic"/>
              </a:rPr>
              <a:t>Por tanto, sin saber el verdadero valor, podemos conocer una co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ffffcc"/>
                </a:solidFill>
                <a:latin typeface="Century Gothic"/>
              </a:rPr>
              <a:t>del error absoluto si sabemos el orden de unidad en el que aproxima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ffffcc"/>
                </a:solidFill>
                <a:latin typeface="Century Gothic"/>
              </a:rPr>
              <a:t>y el tipo de aproximación que estamos hacien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9200"/>
                            </p:stCondLst>
                            <p:childTnLst>
                              <p:par>
                                <p:cTn id="16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9700"/>
                            </p:stCondLst>
                            <p:childTnLst>
                              <p:par>
                                <p:cTn id="17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200"/>
                            </p:stCondLst>
                            <p:childTnLst>
                              <p:par>
                                <p:cTn id="17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6200"/>
                            </p:stCondLst>
                            <p:childTnLst>
                              <p:par>
                                <p:cTn id="18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6700"/>
                            </p:stCondLst>
                            <p:childTnLst>
                              <p:par>
                                <p:cTn id="19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8600"/>
                            </p:stCondLst>
                            <p:childTnLst>
                              <p:par>
                                <p:cTn id="19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0"/>
                            </p:stCondLst>
                            <p:childTnLst>
                              <p:par>
                                <p:cTn id="20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500"/>
                            </p:stCondLst>
                            <p:childTnLst>
                              <p:par>
                                <p:cTn id="21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path" presetID="5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3.05556E-006 -3.06358E-006 L -0.17986 -0.1489 E">
                                      <p:cBhvr>
                                        <p:cTn id="247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4500"/>
                            </p:stCondLst>
                            <p:childTnLst>
                              <p:par>
                                <p:cTn id="28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0"/>
                            </p:stCondLst>
                            <p:childTnLst>
                              <p:par>
                                <p:cTn id="28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8800"/>
                            </p:stCondLst>
                            <p:childTnLst>
                              <p:par>
                                <p:cTn id="29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300"/>
                            </p:stCondLst>
                            <p:childTnLst>
                              <p:par>
                                <p:cTn id="30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800"/>
                            </p:stCondLst>
                            <p:childTnLst>
                              <p:par>
                                <p:cTn id="31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path" presetID="5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4.44444E-006 -3.64162E-006 L -0.17204 -0.123 E">
                                      <p:cBhvr>
                                        <p:cTn id="339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800" spc="-1" strike="noStrike">
                <a:solidFill>
                  <a:srgbClr val="0099cc"/>
                </a:solidFill>
                <a:latin typeface="Monotype Corsiva"/>
              </a:rPr>
              <a:t>Cota del error relativ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49400" y="2289240"/>
            <a:ext cx="64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Veamos ahora cómo acotar el error  rel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4280" y="3645000"/>
            <a:ext cx="797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바탕"/>
              </a:rPr>
              <a:t>Antes vamos a ver cómo podemos encontrar una fracción may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바탕"/>
              </a:rPr>
              <a:t>que una que nos 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9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3456000" cy="21225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800" spc="-1" strike="noStrike">
                <a:solidFill>
                  <a:srgbClr val="0099cc"/>
                </a:solidFill>
                <a:latin typeface="Monotype Corsiva"/>
              </a:rPr>
              <a:t>Cota del error relativ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5505480" y="3573360"/>
                <a:ext cx="165744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&lt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3125880" y="1611360"/>
            <a:ext cx="569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b80047"/>
                </a:solidFill>
                <a:latin typeface="Arial"/>
              </a:rPr>
              <a:t>Una peña quinielística está formada por 10 ami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38680" y="2332080"/>
            <a:ext cx="67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b80047"/>
                </a:solidFill>
                <a:latin typeface="Arial"/>
              </a:rPr>
              <a:t>Una semana les toca 300 € y por tanto cada uno se lleva 30€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79640" y="2879640"/>
            <a:ext cx="700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280099"/>
                </a:solidFill>
                <a:latin typeface="Arial"/>
              </a:rPr>
              <a:t>Pero Si en lugar de 300, les hubieran tocado 350 €, la cantid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280099"/>
                </a:solidFill>
                <a:latin typeface="Arial"/>
              </a:rPr>
              <a:t>que se lleva cada uno es mayor; 35 €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1480" y="3741840"/>
            <a:ext cx="47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 decir, escrito en forma de fra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5160" y="4319640"/>
            <a:ext cx="896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Por tanto, si en una fracción aumentamos el numerador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mantenemos el denominador,el resultado obteni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es más gran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453680" y="5157720"/>
            <a:ext cx="11629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ff00"/>
                </a:solidFill>
                <a:latin typeface="Monotype Corsiva"/>
              </a:rPr>
              <a:t>Así que para dar una cota del valor de la fracción basta con aument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en-GB" sz="2600" spc="-1" strike="noStrike">
                <a:solidFill>
                  <a:srgbClr val="ffff00"/>
                </a:solidFill>
                <a:latin typeface="Monotype Corsiva"/>
              </a:rPr>
              <a:t>un poquito el numerador  y mantener fijo  el denominado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3" dur="8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4" dur="8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8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220"/>
                            </p:stCondLst>
                            <p:childTnLst>
                              <p:par>
                                <p:cTn id="3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9" dur="8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0" dur="8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8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4140"/>
                            </p:stCondLst>
                            <p:childTnLst>
                              <p:par>
                                <p:cTn id="38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3040"/>
                            </p:stCondLst>
                            <p:childTnLst>
                              <p:par>
                                <p:cTn id="38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8040"/>
                            </p:stCondLst>
                            <p:childTnLst>
                              <p:par>
                                <p:cTn id="39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9040"/>
                            </p:stCondLst>
                            <p:childTnLst>
                              <p:par>
                                <p:cTn id="40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4.16667E-006 1.84971E-006 L 0.0026 -0.17457 E">
                                      <p:cBhvr>
                                        <p:cTn id="421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800" spc="-1" strike="noStrike">
                <a:solidFill>
                  <a:srgbClr val="0099cc"/>
                </a:solidFill>
                <a:latin typeface="Monotype Corsiva"/>
              </a:rPr>
              <a:t>Cota del error relativ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38760" y="1360440"/>
            <a:ext cx="472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rdamos  la fórmula del error relativ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276720" y="1773360"/>
                <a:ext cx="188100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a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892440" y="2637000"/>
            <a:ext cx="76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Aplicando lo anterior vemos cómo dar una </a:t>
            </a:r>
            <a:r>
              <a:rPr b="1" lang="en-US" sz="2000" spc="-1" strike="noStrike">
                <a:solidFill>
                  <a:srgbClr val="ffccff"/>
                </a:solidFill>
                <a:latin typeface="Arial"/>
              </a:rPr>
              <a:t>cota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 de ese error rel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20720" y="3411360"/>
            <a:ext cx="29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 &lt; Cota de error absolu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16360" y="3600360"/>
            <a:ext cx="122400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418000" y="3235320"/>
                <a:ext cx="227016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al</m:t>
                            </m:r>
                          </m:sub>
                        </m:sSub>
                      </m:den>
                    </m:f>
                    <m:r>
                      <m:t xml:space="preserve">&lt;</m:t>
                    </m:r>
                    <m:f>
                      <m:num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ta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a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357120" y="4460760"/>
            <a:ext cx="87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r tanto, si el valor real no es conocido, una cota del error relativo 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771640" y="5445000"/>
                <a:ext cx="278136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&lt;</m:t>
                    </m:r>
                    <m:f>
                      <m:num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ta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num>
                      <m:den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alor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proximado</m:t>
                              </m:r>
                            </m:e>
                          </m:mr>
                        </m:m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3100"/>
                            </p:stCondLst>
                            <p:childTnLst>
                              <p:par>
                                <p:cTn id="45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3600"/>
                            </p:stCondLst>
                            <p:childTnLst>
                              <p:par>
                                <p:cTn id="4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2000"/>
                            </p:stCondLst>
                            <p:childTnLst>
                              <p:par>
                                <p:cTn id="47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7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478" dur="2000" fill="hold"/>
                                        <p:tgtEl>
                                          <p:spTgt spid="1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800" spc="-1" strike="noStrike">
                <a:solidFill>
                  <a:srgbClr val="0099cc"/>
                </a:solidFill>
                <a:latin typeface="Monotype Corsiva"/>
              </a:rPr>
              <a:t>Ejemplo  Resuel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132480" y="1268280"/>
            <a:ext cx="93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Book Antiqua"/>
              </a:rPr>
              <a:t>“</a:t>
            </a:r>
            <a:r>
              <a:rPr b="1" i="1" lang="en-US" sz="2400" spc="-1" strike="noStrike">
                <a:solidFill>
                  <a:srgbClr val="cc3300"/>
                </a:solidFill>
                <a:latin typeface="Book Antiqua"/>
              </a:rPr>
              <a:t>Halla una cota del error relativo que se produce al aproxim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Book Antiqua"/>
              </a:rPr>
              <a:t>el reparto de los 23654 € de beneficios que obtuvo un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Book Antiqua"/>
              </a:rPr>
              <a:t> </a:t>
            </a:r>
            <a:r>
              <a:rPr b="1" i="1" lang="en-US" sz="2400" spc="-1" strike="noStrike">
                <a:solidFill>
                  <a:srgbClr val="cc3300"/>
                </a:solidFill>
                <a:latin typeface="Book Antiqua"/>
              </a:rPr>
              <a:t>entre sus 7 socios por 3379 €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980000" y="2492280"/>
            <a:ext cx="2515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V 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real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=3379.142857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36000" y="2492280"/>
            <a:ext cx="1524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V 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aprox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= 33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79480" y="3232080"/>
            <a:ext cx="451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| 3379.142857 – 3379 | = 0.142857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293080" y="321300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 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-271440" y="2841480"/>
            <a:ext cx="572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0099cc"/>
                </a:solidFill>
                <a:latin typeface="Garamond"/>
              </a:rPr>
              <a:t>1.- Calculamos una cota del error absolu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02480" y="3141720"/>
            <a:ext cx="10494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u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&lt; 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-249480" y="3933720"/>
            <a:ext cx="572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0099ff"/>
                </a:solidFill>
                <a:latin typeface="Garamond"/>
              </a:rPr>
              <a:t>2.- Consideramos la aproximación tom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76720" y="4149720"/>
            <a:ext cx="1800360" cy="14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093440" y="4005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33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491400" y="4508640"/>
            <a:ext cx="70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0099ff"/>
                </a:solidFill>
                <a:latin typeface="Garamond"/>
              </a:rPr>
              <a:t>3.- Ponemos la fórmula del error relativo y acota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370160" y="4851360"/>
                <a:ext cx="114588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a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627280" y="4941720"/>
                <a:ext cx="10796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37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3708720" y="5084640"/>
            <a:ext cx="28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0.000059…&lt; 0.00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5734080"/>
            <a:ext cx="88930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Monotype Corsiva"/>
              </a:rPr>
              <a:t>Luego con esa aproximación en la que perdemos los céntimos, cometemos un error menor que el 0.006%, y es que,  ¿qué te suponen 14 céntimos cuando tienes 3379 €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84720" y="3429000"/>
            <a:ext cx="1440000" cy="14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67640" y="3068640"/>
            <a:ext cx="1008000" cy="865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3560760" y="3716280"/>
            <a:ext cx="4183200" cy="1368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020000" y="3860640"/>
            <a:ext cx="863640" cy="64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3564000" y="4437000"/>
            <a:ext cx="3643200" cy="1015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93280" y="5133960"/>
            <a:ext cx="379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3700"/>
                            </p:stCondLst>
                            <p:childTnLst>
                              <p:par>
                                <p:cTn id="49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4200"/>
                            </p:stCondLst>
                            <p:childTnLst>
                              <p:par>
                                <p:cTn id="4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2250"/>
                            </p:stCondLst>
                            <p:childTnLst>
                              <p:par>
                                <p:cTn id="5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3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5250"/>
                            </p:stCondLst>
                            <p:childTnLst>
                              <p:par>
                                <p:cTn id="5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7250"/>
                            </p:stCondLst>
                            <p:childTnLst>
                              <p:par>
                                <p:cTn id="5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7750"/>
                            </p:stCondLst>
                            <p:childTnLst>
                              <p:par>
                                <p:cTn id="5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2200"/>
                            </p:stCondLst>
                            <p:childTnLst>
                              <p:par>
                                <p:cTn id="53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700"/>
                            </p:stCondLst>
                            <p:childTnLst>
                              <p:par>
                                <p:cTn id="5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000"/>
                            </p:stCondLst>
                            <p:childTnLst>
                              <p:par>
                                <p:cTn id="5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4000"/>
                            </p:stCondLst>
                            <p:childTnLst>
                              <p:par>
                                <p:cTn id="5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4500"/>
                            </p:stCondLst>
                            <p:childTnLst>
                              <p:par>
                                <p:cTn id="57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5000"/>
                            </p:stCondLst>
                            <p:childTnLst>
                              <p:par>
                                <p:cTn id="5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500"/>
                            </p:stCondLst>
                            <p:childTnLst>
                              <p:par>
                                <p:cTn id="5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6000"/>
                            </p:stCondLst>
                            <p:childTnLst>
                              <p:par>
                                <p:cTn id="5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5" dur="8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6" dur="8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7" dur="8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uario</cp:lastModifiedBy>
  <dcterms:modified xsi:type="dcterms:W3CDTF">2009-02-20T16:08:18Z</dcterms:modified>
  <cp:revision>2</cp:revision>
  <dc:subject/>
  <dc:title>Cota del error absoluto</dc:title>
</cp:coreProperties>
</file>