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Aproximaciones y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610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Números reales. Aplicaciones: Aproximaciones y error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1800360"/>
            <a:ext cx="4680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933480"/>
            <a:ext cx="8318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6699"/>
                </a:solidFill>
                <a:latin typeface="Arial"/>
              </a:rPr>
              <a:t>¿Por qué hay errores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53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64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rror no significa equivocación, sino falta de 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36600" y="2597040"/>
            <a:ext cx="610236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8680" y="911160"/>
            <a:ext cx="8318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Tipos de aproximacion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uncamient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onde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ar y mirar la primera cifra que se eli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yor o igual que 5, se aumenta una unidad la última que se p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nor que 5, se deja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ct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 aproximado menor que el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s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 aproximado mayor que el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8160" y="5078520"/>
            <a:ext cx="583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2280" y="5319720"/>
            <a:ext cx="86983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s aproximaciones que hacía Marina eran por truncamiento y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ltaban por tanto por defecto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8680" y="911160"/>
            <a:ext cx="8318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Medidas del erro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391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164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rror absolut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 que se co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a = |V</a:t>
            </a:r>
            <a:r>
              <a:rPr b="0" lang="es-ES_tradnl" sz="2000" spc="-1" strike="noStrike">
                <a:solidFill>
                  <a:srgbClr val="00fee7"/>
                </a:solidFill>
                <a:latin typeface="Arial"/>
              </a:rPr>
              <a:t>re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ES_tradnl" sz="2000" spc="-1" strike="noStrike">
                <a:solidFill>
                  <a:srgbClr val="00fee7"/>
                </a:solidFill>
                <a:latin typeface="Arial"/>
              </a:rPr>
              <a:t>apro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rror relativo 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rtancia o significación de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60680" y="3220920"/>
                <a:ext cx="189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720720" y="4308480"/>
            <a:ext cx="78850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resultado del error relativo se suele multiplicar por 100 y expresar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í en porcen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5018040"/>
            <a:ext cx="84596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l error absoluto en nuestra historia inicial era el dinero que le faltaba al anciano, 6 céntimos y el error relativo era 0.00119. O sea que la importancia de ese error era del 0.119%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911160"/>
            <a:ext cx="8318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Verdadero valo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264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tenemos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im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conocemos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ror absolu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e ha cometido el verdadero valor estará comprendido entre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Vaprox - Ea y Vaprox + 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tenemos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im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ror relati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l verdadero valor se encuentra entre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386080" y="4319640"/>
                <a:ext cx="3733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Vaprox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y</m:t>
                          </m:r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Vaprox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911160"/>
            <a:ext cx="8318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Acumulación de error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ma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rror absoluto que se comete al sumar varios números aproximados es la suma de los errores absolutos de cada uno de ellos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dia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odos los términos tienen un mismo error absoluto o una misma cota de error absoluto, la media de todos ellos también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7:25:37Z</dcterms:created>
  <dc:creator>pc</dc:creator>
  <dc:description/>
  <dc:language>en-US</dc:language>
  <cp:lastModifiedBy>Rafa</cp:lastModifiedBy>
  <dcterms:modified xsi:type="dcterms:W3CDTF">2010-05-25T06:51:48Z</dcterms:modified>
  <cp:revision>29</cp:revision>
  <dc:subject/>
  <dc:title>Diapositiva 1</dc:title>
</cp:coreProperties>
</file>