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8CA-D2FF-40E0-9A8C-1FF1C124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096-9469-4E82-9282-B5FDEA4F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390-46C5-4469-92F0-D6F80D1C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0B1-E235-494B-8490-E0CD43C1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80A7-900E-4ADA-92DA-78FB90FE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439B-2332-4231-B49D-8D6FBC42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6A4D-1A1A-4924-948A-77064FB9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C015-2ADD-4086-9FAF-968A90C8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CE11-E786-497B-BF5A-5D3FC293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043E-3F3D-4322-A31E-7C5E0232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D937-E74F-412D-B126-298A8A27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26C-3EC9-4B48-A6CB-009D3300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C10F-4555-442E-B3F2-03845202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9AA6-0061-44B4-94C5-7851A344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A07B-288B-4288-93E9-62D8B3E7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6D89-083F-4419-8025-64885E1D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6232-A58C-4D01-8255-35785BDC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01F-EEC0-4DEE-B440-8541AC04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88E-E5D8-44A7-968B-4B09FC1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7F3-B731-4006-ABF2-B3BD525E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613-4046-488F-83BD-474F98CF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C80-E942-4DC8-8BF3-9FC72DF6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CC4-214F-46CB-BC08-84E493C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251-E284-43AD-9C4C-F2B7AD2E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10A5-F00C-4270-9441-4FCFBF67D829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"/>
          <p:cNvSpPr/>
          <p:nvPr/>
        </p:nvSpPr>
        <p:spPr>
          <a:xfrm>
            <a:off x="279360" y="64929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4d26"/>
                </a:solidFill>
                <a:latin typeface="Arial"/>
              </a:rPr>
              <a:t>TEMA 4. CONSUMO ENERG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9BB0-F0AC-4F6B-BFA4-B62EFDDC86B6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6583320"/>
            <a:ext cx="586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Consumo energ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3280" y="2889360"/>
            <a:ext cx="4068720" cy="2278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08360" y="1808280"/>
            <a:ext cx="453564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umo energ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umo de energía en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écnicas y criterios de ahorro energé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te energético en la vivie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acto amb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uvia á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fecto invernad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mo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mbio clim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arrollo soste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a Energía: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onsumo energético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628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ociedad actual tiene una gran dependencia de la energía, pero debemos ser conscientes de que la energía es un bien escaso, que debe ser producido y consumido con responsabilidad  porque de lo contrario, podemos hipotecar el futuro del pla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076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ña según la Agencia General de la Energía, tiene una enorme diferencia entre el consumo (148 Mtep) y la producción interna (34 Mtep), España importa el 77% de la energía consum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7280" y="30686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. Consumo energético en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9360" y="876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. Técnicas y criterios de ahorro energé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34136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36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ahorrar energía hay que hacer un uso racional de ella. Hay medidas tomadas por los gobiernos y ayuntamientos que nos afectan a todo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6684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iones para investigar nuevas fuentes de energías alternativ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6684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ción de plantas de reciclaje y recuperación de recur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6684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r a la población en la necesidad del ahorro energé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6684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ácticas en busca de obtener la mayor eficiencia energética conllevan un aumento de calidad ambiental, y del confort humano, por lo que todos los estamentos de la sociedad estamos implicados en poner en práctica técnicas de ahorro energét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501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un hogar medio en España los electrodomésticos que más consumen son por este orden: 25% el frigorífico, 15% calefacción/aire acondicionado y 10% el televisor. Para controlar el consumo y evitar despilfarros eléctricos es necesario un cambio de háb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9360" y="4513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3. Coste energético en la viv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873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.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341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efectos más importantes derivados de la acción del hombre, y que producen impacto ambiental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3636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luvia Á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3636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fecto invernad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3636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mo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3636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 Climá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4360" y="3429000"/>
            <a:ext cx="3952800" cy="2695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4643280" y="3429000"/>
            <a:ext cx="1981440" cy="132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6588000" y="3429000"/>
            <a:ext cx="1836720" cy="135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4643280" y="4664160"/>
            <a:ext cx="37814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79360" y="876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5. Desarrollo Soste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03640" y="3800520"/>
            <a:ext cx="3960720" cy="24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1665360"/>
            <a:ext cx="820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alcanzar el desarrollo sosteni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5856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ueden consumirse los recursos naturales más rápido de lo que se tarda en encontrar recursos sustitutiv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5856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recursos renovables no pueden ser explotados a más velocidad que a la que se produc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5856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 pueden generar más residuos de los que somos capaces de neutrali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2:11:28Z</dcterms:created>
  <dc:creator>Isabel</dc:creator>
  <dc:description/>
  <dc:language>en-US</dc:language>
  <cp:lastModifiedBy>Rafa</cp:lastModifiedBy>
  <dcterms:modified xsi:type="dcterms:W3CDTF">2010-05-25T11:48:29Z</dcterms:modified>
  <cp:revision>16</cp:revision>
  <dc:subject/>
  <dc:title>Diapositiva 1</dc:title>
</cp:coreProperties>
</file>