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839A15D0-F96F-42A4-A1B9-D801EAD78CAD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DE9780C-2E06-4181-A73B-E73A3A301827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A2563CB8-B4EA-4031-9B22-1B4EBB53F01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D01935B8-6088-440A-85E1-72D66DFBB30C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72EEB56-5C2D-4461-9E5B-6AF40781F81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EBD05B4C-6FCE-424C-8DC7-8BCE3C01373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B14FA5F-0398-4C9D-88F8-01CBBE6BC6B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04346E18-96D1-4043-B064-BB9003DE8010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BD1D9BF-316B-4B40-9155-FF142FF2120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A78F25A6-89DC-4D82-92C3-598AB6B9F619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A107940D-E332-4563-A394-2DCB0ADE8C7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F638-B153-483C-98A5-65DA3B8984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999E-A9F2-4F2B-86E3-68EFE51D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1A94-422A-4264-BA98-926E338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4379-F23F-4B2A-AAC7-2D95806BA4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8E97-BBC8-4DF2-85B0-7CA3CF9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03E44-E7B1-4922-A36E-899398D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883E-0349-4F66-AD6D-60C26F5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0A66-DC66-43F3-BB54-57299573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A323-2286-4A19-AA0A-606729CA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19EC-B200-425A-850A-959A10DB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5085-821C-44DD-9F39-582F5C09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81B0-2BC0-456A-9B60-D5E6D5DB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D39684-B679-40BA-A222-D7191661B519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Nacimiento del ser hum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lickr.com/photos/baggis/274402787/in/photostream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92880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Nuestro lugar en el Universo: Nacimiento del ser humano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Picture 7" descr="http://127.0.0.1:51235/CM1_U2_T4_Contenidos_v03/resources/274402787_61aa222f06.jpg"/>
          <p:cNvPicPr/>
          <p:nvPr/>
        </p:nvPicPr>
        <p:blipFill>
          <a:blip r:embed="rId1"/>
          <a:stretch/>
        </p:blipFill>
        <p:spPr>
          <a:xfrm>
            <a:off x="2357280" y="2214720"/>
            <a:ext cx="4762800" cy="3114360"/>
          </a:xfrm>
          <a:prstGeom prst="rect">
            <a:avLst/>
          </a:prstGeom>
          <a:ln w="0">
            <a:noFill/>
          </a:ln>
        </p:spPr>
      </p:pic>
      <p:sp>
        <p:nvSpPr>
          <p:cNvPr id="100" name="3 Rectángulo"/>
          <p:cNvSpPr/>
          <p:nvPr/>
        </p:nvSpPr>
        <p:spPr>
          <a:xfrm>
            <a:off x="2428920" y="5357880"/>
            <a:ext cx="4572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tografía en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lick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de Travis S. bajo licencia Creative Comm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Índ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714240" y="4143240"/>
            <a:ext cx="792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tiguas creencias sobre el origen del ser hum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as bases de la evolución hum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Claves del proce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  <a:ea typeface="MS Gothic"/>
              </a:rPr>
              <a:t>Nuestros anteces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Yacimientos españoles: Atapuerca, Gibraltar, Altami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786280" y="3286080"/>
            <a:ext cx="26434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4 Imagen" descr="800px-Spreading_homo_sapiens.jpg"/>
          <p:cNvPicPr/>
          <p:nvPr/>
        </p:nvPicPr>
        <p:blipFill>
          <a:blip r:embed="rId1"/>
          <a:stretch/>
        </p:blipFill>
        <p:spPr>
          <a:xfrm>
            <a:off x="2286000" y="1285920"/>
            <a:ext cx="4782960" cy="2809800"/>
          </a:xfrm>
          <a:prstGeom prst="rect">
            <a:avLst/>
          </a:prstGeom>
          <a:ln w="0">
            <a:noFill/>
          </a:ln>
        </p:spPr>
      </p:pic>
      <p:sp>
        <p:nvSpPr>
          <p:cNvPr id="105" name="5 Rectángulo"/>
          <p:cNvSpPr/>
          <p:nvPr/>
        </p:nvSpPr>
        <p:spPr>
          <a:xfrm>
            <a:off x="7072200" y="2000160"/>
            <a:ext cx="20718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pans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omo sapien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sde Áfric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aptación de la imagen de Magasjukur 2 en Wikimedia Commons bajo C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09480" y="857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1. Antiguas creencias sobre el origen del ser huma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3 CuadroTexto"/>
          <p:cNvSpPr/>
          <p:nvPr/>
        </p:nvSpPr>
        <p:spPr>
          <a:xfrm>
            <a:off x="428760" y="2214720"/>
            <a:ext cx="83581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nionism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cto de creación por un ser divi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eño intelige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ría la causa de la evolución en lugar del azar y la selección nat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cionismo evolutiv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 evolución tal y como la plantea la ciencia  es posible porque Dios la perm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4143240" y="4071960"/>
            <a:ext cx="4810320" cy="2278080"/>
          </a:xfrm>
          <a:prstGeom prst="rect">
            <a:avLst/>
          </a:prstGeom>
          <a:ln w="0">
            <a:noFill/>
          </a:ln>
        </p:spPr>
      </p:pic>
      <p:sp>
        <p:nvSpPr>
          <p:cNvPr id="109" name="5 Rectángulo"/>
          <p:cNvSpPr/>
          <p:nvPr/>
        </p:nvSpPr>
        <p:spPr>
          <a:xfrm>
            <a:off x="1214280" y="5143680"/>
            <a:ext cx="27147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La Creación de Adán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, fresco de 1511 de Miguel Ángel en la Capilla Sixtin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ikimedia Commons bajo Dominio Público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57120" y="666720"/>
            <a:ext cx="8748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2. Las bases de la evolución hum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3 CuadroTexto"/>
          <p:cNvSpPr/>
          <p:nvPr/>
        </p:nvSpPr>
        <p:spPr>
          <a:xfrm>
            <a:off x="1143000" y="3929040"/>
            <a:ext cx="7286760" cy="23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leoantropolog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iencia que estudia la evolución humana y que se basa fundamentalmente en el estudio de fósiles. Con técn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atómicas (radiografías, resonancia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ocronológicas (dataciones cada vez más precis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éticas (parentesco genético entre especies, periodos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las mismas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http://127.0.0.1:51235/CM1_U2_T4_Contenidos_v03/resources/800px-Huxley_-_Mans_Place_in_Nature.jpg"/>
          <p:cNvPicPr/>
          <p:nvPr/>
        </p:nvPicPr>
        <p:blipFill>
          <a:blip r:embed="rId1"/>
          <a:stretch/>
        </p:blipFill>
        <p:spPr>
          <a:xfrm>
            <a:off x="2500200" y="1357200"/>
            <a:ext cx="42865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5 Imagen" descr="Árbol evolución humana.jpg"/>
          <p:cNvPicPr/>
          <p:nvPr/>
        </p:nvPicPr>
        <p:blipFill>
          <a:blip r:embed="rId1"/>
          <a:stretch/>
        </p:blipFill>
        <p:spPr>
          <a:xfrm>
            <a:off x="3925800" y="1500120"/>
            <a:ext cx="5218200" cy="49291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357120" y="666720"/>
            <a:ext cx="8748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2. Las bases de la evolución humana (I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3 CuadroTexto"/>
          <p:cNvSpPr/>
          <p:nvPr/>
        </p:nvSpPr>
        <p:spPr>
          <a:xfrm>
            <a:off x="214200" y="1214280"/>
            <a:ext cx="41436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ves del proceso de homi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 tectónico, climático y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ológi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pedest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 de die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herramientas 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o cereb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ntrol del fue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munic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r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3 CuadroTexto"/>
          <p:cNvSpPr/>
          <p:nvPr/>
        </p:nvSpPr>
        <p:spPr>
          <a:xfrm>
            <a:off x="357120" y="4214880"/>
            <a:ext cx="557208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uestros anteces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s bípedos.  6-7 m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4.3 – 2 m.a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énero Homo. 2.7 m.a. - ho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Homo habil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H. ergaster – H. erec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Homo neanderthalen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Homo sapi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713880"/>
            <a:ext cx="83152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3. Yacimientos españoles: </a:t>
            </a:r>
            <a:br>
              <a:rPr sz="3600"/>
            </a:b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Atapuerca, Gibraltar, Altamira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14240" y="3643200"/>
            <a:ext cx="2667240" cy="200052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3357720" y="3929040"/>
            <a:ext cx="34290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tamir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ra maestra arte rupest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flickr, turistasXnaturaleza bajo C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6215040" y="185724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121" name="6 CuadroTexto"/>
          <p:cNvSpPr/>
          <p:nvPr/>
        </p:nvSpPr>
        <p:spPr>
          <a:xfrm>
            <a:off x="571680" y="2000160"/>
            <a:ext cx="557208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apuerc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yacimiento de Europ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ubrimiento de Homo antecess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tos humanos más antiguos de Europ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 santuario descubier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flickr por Ametxa bajo C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6572160" y="43578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123" name="8 CuadroTexto"/>
          <p:cNvSpPr/>
          <p:nvPr/>
        </p:nvSpPr>
        <p:spPr>
          <a:xfrm>
            <a:off x="3143160" y="5572080"/>
            <a:ext cx="3357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ibralta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andertales más recien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flickr por Leo Reynolds bajo C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sis XXI</dc:creator>
  <dc:description/>
  <dc:language>en-US</dc:language>
  <cp:lastModifiedBy>Alberto</cp:lastModifiedBy>
  <dcterms:modified xsi:type="dcterms:W3CDTF">2011-10-05T08:47:49Z</dcterms:modified>
  <cp:revision>40</cp:revision>
  <dc:subject/>
  <dc:title>Tema 1. La actividad económica</dc:title>
</cp:coreProperties>
</file>